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FD89D-DE9D-4853-A64D-521B71DD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4E34-BB9A-44A6-9185-DA64D939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04CD3-8459-4152-9681-6463C325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D89A3-3F22-4E93-BBBC-7C5F406A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3FC9-D3BF-4864-9FA6-851DF0CF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4420-335F-432C-844B-223B2ADA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7A62-30A8-43A8-B247-95BD59E3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5673-0715-4F08-8EC6-3E2D6803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4626-31FF-4C0C-9802-B5E1E560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459E-23E5-4789-9101-92E351E9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8D96-239D-45C4-A69F-74F6A6CB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FFB48-D2A8-4DA3-B500-75C06984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47B9-C8F1-4321-91D6-4313A819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776A-AF57-4BBA-B100-75474E14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48EA-51F0-4626-96F0-A3770205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0A4D-990A-4432-BDF2-57BAB555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4033-99E0-4A20-BB75-20777B2B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28B6A-C8BC-4574-98EF-8059EA74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67E3F-6363-45A2-BF6C-D107953E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930F-FBCB-46CE-B723-F8A04237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9B7B4-0254-4226-B99E-12384D24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B3F69-903C-4482-823D-202F0304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0C830-752F-4F11-AD73-4701FC6E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DAEE9-3DA4-47C6-B952-1D44EE19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8580-04B9-4A60-94E6-FEF3E7CDED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6A95-005B-40A1-A7F1-545BBFF1A7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7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628640"/>
            <a:ext cx="813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parámetros básicos 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. nombre del subpatch que contiene los objetos fftin~ fftout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. Número de muestras debe serpotencia d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. Superposición, potencia d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95928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28720" y="1938240"/>
            <a:ext cx="5688000" cy="2981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5300640"/>
            <a:ext cx="828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atch fftbasico~ se debe hacer 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anning, Hamming, Blackman son los tipos de funciones de ponder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3854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83528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227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del micróf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248360" cy="4129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5877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atch convolucionfft~ se debe hacer pri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75680" cy="5600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40684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2560" y="1290600"/>
            <a:ext cx="7780320" cy="4276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116920" cy="5143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3640" y="4581360"/>
            <a:ext cx="50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tpol~ coordenadas cartesiana a po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lcart~ coordenadas polares a cartesi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forma como MAX-MSP implementa los filtros es atravez d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biquad~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que corresponde a un filtro digital de segundo orden al que sus coeficientes son ingre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87280" y="3429000"/>
            <a:ext cx="66978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49780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 embargo estamos más acostumbrados a diseñar filtros a partir de un conjunto de parámetros como frecuencia de corte, Q, etc., por esa razón se utiliza el objeto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iltergraph~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que permite especificar dichos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03280" y="4005360"/>
            <a:ext cx="64087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66840" y="1100160"/>
            <a:ext cx="84121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il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1200" y="1238400"/>
            <a:ext cx="8123040" cy="4381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8360" y="602136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demos variar parámetros usando otros ob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557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trasformada discreta de Fourier, es un método numérico que permite representar las señales digitalizadas en el dominio de la fr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771640" y="2637000"/>
                <a:ext cx="314352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778040" y="5129280"/>
                <a:ext cx="8078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e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700360" y="5229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en el dominio de la frecuencia compl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57261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ñal en el dominio del tiemp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561440" cy="4725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ocesamiento F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628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poder lograr esto se utilizará el objet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fft~,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l cual se usa en conjunto con los objetos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ftin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ftout~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los cuales deben ir en un sub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79214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11-11T19:22:28Z</dcterms:modified>
  <cp:revision>171</cp:revision>
  <dc:subject/>
  <dc:title>MAX- MSP</dc:title>
</cp:coreProperties>
</file>