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2DFA-7CFA-4F48-8FB7-40F0C972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F54A-F97D-4B36-8C72-D7695AD9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C4C3-DAF0-4804-AF8B-95362DC3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26C8-404C-4FE3-9F42-ADD61973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F902-B90E-4B55-9C81-1568C5F4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CB84-92E6-4777-8D30-D7CF3DF3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729B-DFD0-49BC-AAB9-25B6EE65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6455-6340-4680-A7B1-6EEE7DCE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6583-478D-414A-96DF-040C7EE0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9E5F-4602-4FA0-A379-E541D0FC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583A-00E5-485E-B7BD-8835F08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06E6-0A7C-4528-AC4E-5A7547E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8FC5-F8A3-4DA7-8483-EFE35AE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1368-68A3-4A37-8C4C-3FB813DF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A57B-3036-4002-AC03-74068766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0AA6-1CC1-4F1C-ADBF-2A4539F8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CA1B-95C2-49BC-9B6C-1809FA93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D2D9-1273-470E-BF5F-A9F6B889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F465-9BF6-4C27-8C7A-C3873C82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5298-9C4C-4393-98D5-B499810F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26DA-5D42-4F3A-A09B-E07BE999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00C1-AD9B-4A7D-8E0B-9BE95465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DF7E-F77B-4B15-BD75-ED1BD4AA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F4CC-FB52-49CF-AE28-7AF07334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ED23-0919-426B-BCC2-2DB5C834B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49C6-29ED-4DB9-90FD-37AE93C45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40000" y="4365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24720" cy="487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220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672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9080" y="14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9080" y="4508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300640"/>
            <a:ext cx="17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6160" y="5300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2492280"/>
            <a:ext cx="2376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1080" y="3645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494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4941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caja con una X y funciona como indicador o switch entre dos estados zero y non-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mente envía los valores 1 y 0 cada vez que se clica con el ratón o los recibe u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su entrada. Cuando recibe u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un tecleo de ratón, invierte su estado y envía el nuevo valor. Esta distinción entre cero y diferente a cero es manera máxima de dar vuelta cosas por intervalos, o de distinción entre verdadero y f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í, usted puede utilizar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interruptor on./off. En nuestro ejemplo, el objet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e ser activado por intervalos clickand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sto trabaja porque el metro comienza cuando recibe un número diferente a cero (como 1) y paradas cuando recibe un 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7610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8028000" cy="355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213000"/>
            <a:ext cx="3382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56000" y="2133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1628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witch entre distinto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068640"/>
            <a:ext cx="223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372360" y="220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162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y desactiv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est 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riba un patch que escriba en la ventana Max “Hola:1” cada 2 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j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7272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g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4680000" cy="371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24000" y="4653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4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ssag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530064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507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c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378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29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HOLA!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59562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pri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56000" y="3505320"/>
            <a:ext cx="380052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r al menú View desmarca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etar message box y en la ventana Max aparece el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3533760"/>
            <a:ext cx="2676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el boton (Button) y comentario (Co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ensaj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a en el botón y significa que realizará cualquier tip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056360" cy="63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24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3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resto del patch y active como en el punto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769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o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mostrar un numer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in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.Este tipo de box escribe el nú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61927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Observe los mens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7850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Tenemos el objet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de metró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757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3-12T18:51:31Z</dcterms:modified>
  <cp:revision>39</cp:revision>
  <dc:subject/>
  <dc:title>MAX- MSP</dc:title>
</cp:coreProperties>
</file>