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A205-C314-4D74-9727-9FBDA4FE7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4B69-B7CF-4878-8439-7E92FC49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30E0-C55C-4265-9DEC-6BD1F59A8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3655-34CC-4240-A58E-E7B557395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24CC-E303-43C3-9B0E-E6077197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4C19-1D6B-4E54-874C-73F9F7E6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39CF-844D-41C1-B230-4A624FDE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8280-6320-4813-8A40-14B1DC7A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5866-116E-45BE-AF9C-32875DCA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DB6B-91E8-4AB5-BFAD-4D9D8ABC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D196-3733-4250-AAC1-7501B299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B705-57E7-4734-BBDF-81F76A26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1EAC-856E-4802-98A5-6CC7F879F73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Manet: modernismo y surgimiento del impresionismo.  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ansición del siglo XIX hacia el siglo XX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Manet6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7848720" cy="5637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91600" y="6095880"/>
            <a:ext cx="86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Musique aux Tuileri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6,2 x 118,1 cm; National Gallery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ortrait%20d'Emile%20Zola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952880" cy="6324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16320" y="5105520"/>
            <a:ext cx="25567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ortrait d'Emile Zola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8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46 x 114 cm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800px-The_Great_Wave_off_Kanagawa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257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1080" y="5943600"/>
            <a:ext cx="85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Katsushika Hokusai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Kanagawa oki nami ur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La gran ola de Kanagawa]. 1832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4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84560" y="5943600"/>
            <a:ext cx="45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El sueño de la mujer del pescado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Monet_DesayunoEstudio65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21560" cy="5373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35600" y="6095880"/>
            <a:ext cx="84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sayuno sobre la hierb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5-66. [Estudio de tamaño menor]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dejeuner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467840" cy="5600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3680" y="6172200"/>
            <a:ext cx="89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Édouard 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éjeuner sur l'herb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08 por 264 cm; Museo de Orsay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lympia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153280" cy="5477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92640" y="6095880"/>
            <a:ext cx="64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lympi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90 por 130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800px-Tizian_102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21560" cy="5459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02880" y="5943600"/>
            <a:ext cx="76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izian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enus de Urbi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53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65 por 119 cm; Galería Uffizi, Florenci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l%20pifano%20de%20manet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722400" cy="6400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71880" y="5105520"/>
            <a:ext cx="42620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Píf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ocador de píf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61 x 97 cm.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BLO%20DE%20VALLADOLID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3670200" cy="6477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333680" y="5791320"/>
            <a:ext cx="4584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Velázquez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ablo de Valladolid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636-37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212 por 125 cm; Museo del Prado, Madrid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fusilamientos_manet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6400800" cy="537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36040" y="5791320"/>
            <a:ext cx="615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ejecución del Emperador Maximili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2 x 305 cm; Städtische Kunsthalle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manet_balcone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454640" cy="6324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027400" y="5486400"/>
            <a:ext cx="389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lc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8-186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70 por 124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380px-Goya_maya_balcon" descr=""/>
          <p:cNvPicPr/>
          <p:nvPr/>
        </p:nvPicPr>
        <p:blipFill>
          <a:blip r:embed="rId1"/>
          <a:stretch/>
        </p:blipFill>
        <p:spPr>
          <a:xfrm>
            <a:off x="4637160" y="304920"/>
            <a:ext cx="4011480" cy="6324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96280" y="5715000"/>
            <a:ext cx="398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Majas en el balcón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08-12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62 x 107 cm; colección particula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22:56:51Z</dcterms:created>
  <dc:creator>Victor Diaz</dc:creator>
  <dc:description/>
  <dc:language>en-US</dc:language>
  <cp:lastModifiedBy>Victor Diaz</cp:lastModifiedBy>
  <dcterms:modified xsi:type="dcterms:W3CDTF">2008-12-23T23:27:21Z</dcterms:modified>
  <cp:revision>16</cp:revision>
  <dc:subject/>
  <dc:title>Manet: modernismo y surgimiento del impresionismo.   </dc:title>
</cp:coreProperties>
</file>