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CE9EC-C9AD-467F-A662-9D032F2F5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6DB21-6C38-4DE1-B51B-E9DF08E82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BD891-8B24-4C2B-8728-BADA4A503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66358-DD56-4995-B417-35FAB0E4E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DD69B-7178-4376-87B7-D6E7A5AE4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1CCC3-A09B-4330-9439-2858602D0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16CA0-1E56-498D-9580-6F017D1B4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38AE9-3A05-4188-93B2-6BD580EA4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273BA-55DE-4023-8912-7D40C0BBB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AE667-C98F-4AFD-B1AB-87F37BEF9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2BF17-4FBD-4F3A-8228-0B4319C01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887AF-D6C3-406D-80C4-AC8BBB853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D49F5-DE44-4B8B-A36C-CCA5D97FF2AD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aeaea"/>
                </a:solidFill>
                <a:latin typeface="Times New Roman"/>
              </a:rPr>
              <a:t>Neoimpresionismo y Postimpresionismo.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47920" y="4800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Times New Roman"/>
              </a:rPr>
              <a:t>La progresiva transformación de la visualidad en la representación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Hiroshige_Van_Gogh_2" descr=""/>
          <p:cNvPicPr/>
          <p:nvPr/>
        </p:nvPicPr>
        <p:blipFill>
          <a:blip r:embed="rId1"/>
          <a:stretch/>
        </p:blipFill>
        <p:spPr>
          <a:xfrm>
            <a:off x="1371600" y="380880"/>
            <a:ext cx="6477120" cy="4734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676880" y="5334120"/>
            <a:ext cx="225324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Hiroshige.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eaeaea"/>
                </a:solidFill>
                <a:latin typeface="Times New Roman"/>
              </a:rPr>
              <a:t>El puente O-hashi en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eaeaea"/>
                </a:solidFill>
                <a:latin typeface="Times New Roman"/>
              </a:rPr>
              <a:t>Atake bajo una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eaeaea"/>
                </a:solidFill>
                <a:latin typeface="Times New Roman"/>
              </a:rPr>
              <a:t>lluvia repentina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027400" y="5486400"/>
            <a:ext cx="225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Van Gogh.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eaeaea"/>
                </a:solidFill>
                <a:latin typeface="Times New Roman"/>
              </a:rPr>
              <a:t>Puente bajo la lluvia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1887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VanGogh-starry_night_ballance1" descr=""/>
          <p:cNvPicPr/>
          <p:nvPr/>
        </p:nvPicPr>
        <p:blipFill>
          <a:blip r:embed="rId1"/>
          <a:stretch/>
        </p:blipFill>
        <p:spPr>
          <a:xfrm>
            <a:off x="1219320" y="304920"/>
            <a:ext cx="6705360" cy="53560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522000" y="5943600"/>
            <a:ext cx="84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De sterrennacht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 [La noche estrellada]. 1889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73 por 92 cm; MOMA, Nueva York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-Lautrec_at_the_moulin_rouge_1892" descr=""/>
          <p:cNvPicPr/>
          <p:nvPr/>
        </p:nvPicPr>
        <p:blipFill>
          <a:blip r:embed="rId1"/>
          <a:stretch/>
        </p:blipFill>
        <p:spPr>
          <a:xfrm>
            <a:off x="1676520" y="304920"/>
            <a:ext cx="5715000" cy="496728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212120" y="5486400"/>
            <a:ext cx="6758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Henri Marie Raymond de Toulouse-Lautrec-Monfa Tapié de Celeyran,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conde de Toulouse-Lautrec-Monfa.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eaeaea"/>
                </a:solidFill>
                <a:latin typeface="Times New Roman"/>
              </a:rPr>
              <a:t>Au Moulin Rouge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1892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dx6nkohj" descr=""/>
          <p:cNvPicPr/>
          <p:nvPr/>
        </p:nvPicPr>
        <p:blipFill>
          <a:blip r:embed="rId1"/>
          <a:stretch/>
        </p:blipFill>
        <p:spPr>
          <a:xfrm>
            <a:off x="533520" y="533520"/>
            <a:ext cx="3630600" cy="5029200"/>
          </a:xfrm>
          <a:prstGeom prst="rect">
            <a:avLst/>
          </a:prstGeom>
          <a:ln w="0">
            <a:noFill/>
          </a:ln>
        </p:spPr>
      </p:pic>
      <p:pic>
        <p:nvPicPr>
          <p:cNvPr id="67" name="Lautrec_ambassadeurs,_aristide_bruant_(poster)_1892" descr=""/>
          <p:cNvPicPr/>
          <p:nvPr/>
        </p:nvPicPr>
        <p:blipFill>
          <a:blip r:embed="rId2"/>
          <a:stretch/>
        </p:blipFill>
        <p:spPr>
          <a:xfrm>
            <a:off x="4952880" y="457200"/>
            <a:ext cx="3443400" cy="51814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1360080" y="6172200"/>
            <a:ext cx="620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Henri Touluse-Lautrec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Aristide Bruant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 (Carteles). 1892¿?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Georges_Seurat_031" descr=""/>
          <p:cNvPicPr/>
          <p:nvPr/>
        </p:nvPicPr>
        <p:blipFill>
          <a:blip r:embed="rId1"/>
          <a:stretch/>
        </p:blipFill>
        <p:spPr>
          <a:xfrm>
            <a:off x="762120" y="380880"/>
            <a:ext cx="7619760" cy="50482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667080" y="5715000"/>
            <a:ext cx="79484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Georges Seurat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Un dimanche après-midi à l'Ile de la Grande Jatte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86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Art Institute, Chicago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14-10CYRETEQ00" descr=""/>
          <p:cNvPicPr/>
          <p:nvPr/>
        </p:nvPicPr>
        <p:blipFill>
          <a:blip r:embed="rId1"/>
          <a:stretch/>
        </p:blipFill>
        <p:spPr>
          <a:xfrm>
            <a:off x="1219320" y="533520"/>
            <a:ext cx="6858000" cy="45050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123280" y="5638680"/>
            <a:ext cx="477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Georges Seurat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a parade de cirque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99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Seurat-La_Parade_detail" descr=""/>
          <p:cNvPicPr/>
          <p:nvPr/>
        </p:nvPicPr>
        <p:blipFill>
          <a:blip r:embed="rId1"/>
          <a:stretch/>
        </p:blipFill>
        <p:spPr>
          <a:xfrm>
            <a:off x="609480" y="609480"/>
            <a:ext cx="3467160" cy="5629320"/>
          </a:xfrm>
          <a:prstGeom prst="rect">
            <a:avLst/>
          </a:prstGeom>
          <a:ln w="0">
            <a:noFill/>
          </a:ln>
        </p:spPr>
      </p:pic>
      <p:pic>
        <p:nvPicPr>
          <p:cNvPr id="48" name="detailpoint" descr=""/>
          <p:cNvPicPr/>
          <p:nvPr/>
        </p:nvPicPr>
        <p:blipFill>
          <a:blip r:embed="rId2"/>
          <a:stretch/>
        </p:blipFill>
        <p:spPr>
          <a:xfrm>
            <a:off x="4191120" y="1219320"/>
            <a:ext cx="4724280" cy="45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aul_Signac_Dimanche" descr=""/>
          <p:cNvPicPr/>
          <p:nvPr/>
        </p:nvPicPr>
        <p:blipFill>
          <a:blip r:embed="rId1"/>
          <a:stretch/>
        </p:blipFill>
        <p:spPr>
          <a:xfrm>
            <a:off x="3276720" y="685800"/>
            <a:ext cx="5451480" cy="54784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61760" y="4648320"/>
            <a:ext cx="200772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Paul Signac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Domingo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88-1890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Colección privada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aul_Signac_Port_de_Marseilles" descr=""/>
          <p:cNvPicPr/>
          <p:nvPr/>
        </p:nvPicPr>
        <p:blipFill>
          <a:blip r:embed="rId1"/>
          <a:stretch/>
        </p:blipFill>
        <p:spPr>
          <a:xfrm>
            <a:off x="1295280" y="228600"/>
            <a:ext cx="6581880" cy="54770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055880" y="6019920"/>
            <a:ext cx="72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Signac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Puerto de Marsella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906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Museo del Ermitage, San Petesburgo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aul_Gauguin_104" descr=""/>
          <p:cNvPicPr/>
          <p:nvPr/>
        </p:nvPicPr>
        <p:blipFill>
          <a:blip r:embed="rId1"/>
          <a:stretch/>
        </p:blipFill>
        <p:spPr>
          <a:xfrm>
            <a:off x="1295280" y="228600"/>
            <a:ext cx="6553440" cy="527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281240" y="5715000"/>
            <a:ext cx="669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Paul Gaugin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Vincent Van Gogh pintando los girasoles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88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Amsterdam, Museo Van Gogh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aul_Gauguin_144" descr=""/>
          <p:cNvPicPr/>
          <p:nvPr/>
        </p:nvPicPr>
        <p:blipFill>
          <a:blip r:embed="rId1"/>
          <a:stretch/>
        </p:blipFill>
        <p:spPr>
          <a:xfrm>
            <a:off x="762120" y="228600"/>
            <a:ext cx="7621560" cy="53452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2204640" y="6019920"/>
            <a:ext cx="498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Mujeres de Tahiti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91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Museo de Orsay, París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Vincent_Van_Gogh_-_The_Potato_Eaters" descr=""/>
          <p:cNvPicPr/>
          <p:nvPr/>
        </p:nvPicPr>
        <p:blipFill>
          <a:blip r:embed="rId1"/>
          <a:stretch/>
        </p:blipFill>
        <p:spPr>
          <a:xfrm>
            <a:off x="1371600" y="457200"/>
            <a:ext cx="6477120" cy="45752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892880" y="5791320"/>
            <a:ext cx="549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Vincent van Gogh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os Comedores de Patata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85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20T01:39:29Z</dcterms:created>
  <dc:creator>Victor Diaz</dc:creator>
  <dc:description/>
  <dc:language>en-US</dc:language>
  <cp:lastModifiedBy>Victor Diaz</cp:lastModifiedBy>
  <dcterms:modified xsi:type="dcterms:W3CDTF">2008-12-26T21:59:00Z</dcterms:modified>
  <cp:revision>18</cp:revision>
  <dc:subject/>
  <dc:title>Paul Cézanne</dc:title>
</cp:coreProperties>
</file>