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8669-AA30-49E0-80E8-988EC9CD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ABE-E30D-4A8E-BA0C-833ADFA4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DDAF-B956-4A86-A885-E7BCA8FC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65F-42B8-4506-B7B8-6671FDA5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E08-58B5-463E-B6AF-50E48480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B8B-00FB-48C2-8AAA-527C6154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B108-1D62-4F4F-8A39-AA0E4928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C36-06A9-4465-8A03-9EB0B54E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4F2-E92E-431E-B35F-8015AF53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52F5-B00C-447F-B9AD-1BBE45B4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B656-0AF3-4318-B1F8-5BEA5ED3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B8C-BD45-44F9-8A34-E516A468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4B3D-F245-4B79-A609-959BD86711C8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The american scene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Surgimiento del Pop y su filiación con los Realismos en el art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green-car-crash-warhol" descr=""/>
          <p:cNvPicPr/>
          <p:nvPr/>
        </p:nvPicPr>
        <p:blipFill>
          <a:blip r:embed="rId1"/>
          <a:stretch/>
        </p:blipFill>
        <p:spPr>
          <a:xfrm>
            <a:off x="3124080" y="533520"/>
            <a:ext cx="5486400" cy="583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59960" y="5181480"/>
            <a:ext cx="2008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Green car crash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3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Warhol-campbellsoup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4449600" cy="556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320880" y="5257800"/>
            <a:ext cx="205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ampbell’s soup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2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94_11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5019840" cy="5486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938200" y="5105520"/>
            <a:ext cx="273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Brillo Box (Soap Pads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hamilton" descr=""/>
          <p:cNvPicPr/>
          <p:nvPr/>
        </p:nvPicPr>
        <p:blipFill>
          <a:blip r:embed="rId1"/>
          <a:stretch/>
        </p:blipFill>
        <p:spPr>
          <a:xfrm>
            <a:off x="3276720" y="533520"/>
            <a:ext cx="5692680" cy="5924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200" y="4952880"/>
            <a:ext cx="276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Richard Hamilton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Just what is it that makes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today’s homes so different,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so appealing?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1956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auschenberg_Monogram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97440" y="5791320"/>
            <a:ext cx="50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obert Rauschenberg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Monograma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55 - 59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banana-1967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70" name="7" descr=""/>
          <p:cNvPicPr/>
          <p:nvPr/>
        </p:nvPicPr>
        <p:blipFill>
          <a:blip r:embed="rId2"/>
          <a:stretch/>
        </p:blipFill>
        <p:spPr>
          <a:xfrm>
            <a:off x="3962520" y="533520"/>
            <a:ext cx="4749840" cy="2412720"/>
          </a:xfrm>
          <a:prstGeom prst="rect">
            <a:avLst/>
          </a:prstGeom>
          <a:ln w="0">
            <a:noFill/>
          </a:ln>
        </p:spPr>
      </p:pic>
      <p:pic>
        <p:nvPicPr>
          <p:cNvPr id="71" name="bose" descr=""/>
          <p:cNvPicPr/>
          <p:nvPr/>
        </p:nvPicPr>
        <p:blipFill>
          <a:blip r:embed="rId3"/>
          <a:stretch/>
        </p:blipFill>
        <p:spPr>
          <a:xfrm>
            <a:off x="1523880" y="3733920"/>
            <a:ext cx="264024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lennon" descr=""/>
          <p:cNvPicPr/>
          <p:nvPr/>
        </p:nvPicPr>
        <p:blipFill>
          <a:blip r:embed="rId4"/>
          <a:stretch/>
        </p:blipFill>
        <p:spPr>
          <a:xfrm>
            <a:off x="5105520" y="3733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rolling-stones-sticky-fingers-zipper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962520" cy="3765600"/>
          </a:xfrm>
          <a:prstGeom prst="rect">
            <a:avLst/>
          </a:prstGeom>
          <a:ln w="0">
            <a:noFill/>
          </a:ln>
        </p:spPr>
      </p:pic>
      <p:pic>
        <p:nvPicPr>
          <p:cNvPr id="74" name="lp_warhol.stickyfingers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38098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heet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4205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urbet_LAtelier_du_peintre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5166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2120" y="5867280"/>
            <a:ext cx="65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Gustave Courbet. </a:t>
            </a: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L’Atelier du peintre. Allégorie Réelle déterminant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une phase de sept années de ma vie artistique (et morale).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 1855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1032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5410080" cy="445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78440" y="5943600"/>
            <a:ext cx="43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ean-Francois Millet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The Angelus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85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rigin-of-the-World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172200" cy="5099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23640" y="586728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Gustave Courbet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L'origine du mond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86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Wladimir_Gawriilowitsch_Krikhatzkij_-_The_First_Tractor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5121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5600" y="57913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Vladimir Krikhatsky 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l primer tractor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wan2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6096240" cy="4734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86520" y="5867280"/>
            <a:ext cx="622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Vasili Filippovich Ivanov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Vladimir Ilich Lenin hablando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merican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5353200" cy="6458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99000" y="5486400"/>
            <a:ext cx="211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Grant Wood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merican Gothic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3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05" descr=""/>
          <p:cNvPicPr/>
          <p:nvPr/>
        </p:nvPicPr>
        <p:blipFill>
          <a:blip r:embed="rId1"/>
          <a:stretch/>
        </p:blipFill>
        <p:spPr>
          <a:xfrm>
            <a:off x="4267080" y="457200"/>
            <a:ext cx="4411800" cy="5943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0440" y="5334120"/>
            <a:ext cx="246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Norman Rockwel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Freedom from Want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4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N5230hopper%20NHks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04520" cy="4798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30360" y="5867280"/>
            <a:ext cx="39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Edward Hopper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Nighthawks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42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5:16:51Z</dcterms:created>
  <dc:creator>Victor Diaz</dc:creator>
  <dc:description/>
  <dc:language>en-US</dc:language>
  <cp:lastModifiedBy>Victor Diaz</cp:lastModifiedBy>
  <dcterms:modified xsi:type="dcterms:W3CDTF">2009-01-15T01:13:35Z</dcterms:modified>
  <cp:revision>21</cp:revision>
  <dc:subject/>
  <dc:title>Sin título de diapositiva</dc:title>
</cp:coreProperties>
</file>