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9BC-11D9-4B43-B9D0-A284A85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DA6-3897-404A-A34D-9A36E8C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0B1-0DD0-40E0-A244-E5C8AC6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A42-9FBE-49C1-9D4F-1104B6B6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520-02BA-46FD-8B67-5E16D3D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033-81E0-4EB7-9986-E639AAD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5A5-31F1-495B-9D80-5CA0DBF8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D4D-8AED-441D-8752-5460703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898-28AD-4989-91DC-1894982A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872-0907-48EA-9A49-4F5A93F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74B-8311-4E54-B90D-4423894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56B-2B94-4171-B2E6-76CC9BC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BBF-038C-4167-89F8-D9A8A2570EA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853920"/>
            <a:ext cx="6334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ÁTED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BERNARDO 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Ejemplo 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Carta Gan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00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drawingml/2006/table">
            <a:tbl>
              <a:tblPr/>
              <a:tblGrid>
                <a:gridCol w="1874880"/>
                <a:gridCol w="1278000"/>
                <a:gridCol w="1595160"/>
                <a:gridCol w="1981440"/>
                <a:gridCol w="550800"/>
                <a:gridCol w="426960"/>
                <a:gridCol w="290520"/>
                <a:gridCol w="284400"/>
                <a:gridCol w="285480"/>
                <a:gridCol w="287280"/>
                <a:gridCol w="289080"/>
              </a:tblGrid>
              <a:tr h="26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25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2920"/>
                <a:gridCol w="1206360"/>
                <a:gridCol w="1505880"/>
                <a:gridCol w="1875960"/>
                <a:gridCol w="704880"/>
                <a:gridCol w="218880"/>
                <a:gridCol w="242640"/>
                <a:gridCol w="240840"/>
                <a:gridCol w="218880"/>
                <a:gridCol w="364320"/>
                <a:gridCol w="318240"/>
              </a:tblGrid>
              <a:tr h="41436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20T00:43:47Z</dcterms:modified>
  <cp:revision>13</cp:revision>
  <dc:subject/>
  <dc:title>Diapositiva 1</dc:title>
</cp:coreProperties>
</file>