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1032-CEDE-4004-BE27-E6972EF1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0205-F295-447B-B1E6-B1533831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B66-D3F8-4203-A158-D190B2CE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E7F0-68BA-4A8E-A94B-2755B086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75F4-53FD-422E-952A-7B60213D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951-2E22-4D86-A5B5-37D3DECB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DF27-532F-47D4-AD99-01102750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706-201C-489D-AD33-879F5C30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482B-0D44-4215-922F-B623C3ED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45B-A5B1-45B9-9823-ADBF571B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6CE8-C856-49BF-AE23-EF7B1E7B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08D-8DA8-4FD5-BD43-8770323B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D2E4-7A97-49E6-925E-831928D4BF3A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653760"/>
            <a:ext cx="567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UNIVERSIDAD DE CHILE</a:t>
            </a: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PROGRAMA ACADÉMICO DE BACHILLERATO</a:t>
            </a:r>
            <a:br>
              <a:rPr sz="1400"/>
            </a:b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CURSO                           : HISTORIA</a:t>
            </a: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PROFESOR CÁTEDRA : BERNARDO GONZÁLEZ</a:t>
            </a: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PROFESORA TALLER  : XIMENA CORTE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071880"/>
            <a:ext cx="691524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9ff33"/>
                </a:solidFill>
                <a:latin typeface="Arial"/>
                <a:ea typeface="Arial"/>
              </a:rPr>
              <a:t>L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9ff33"/>
                </a:solidFill>
                <a:latin typeface="Arial"/>
                <a:ea typeface="Arial"/>
              </a:rPr>
              <a:t>Métodos Cualitativ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9ff33"/>
                </a:solidFill>
                <a:latin typeface="Arial"/>
                <a:ea typeface="Arial"/>
              </a:rPr>
              <a:t>de Investig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UChile1"/>
          <p:cNvPicPr/>
          <p:nvPr/>
        </p:nvPicPr>
        <p:blipFill>
          <a:blip r:embed="rId1"/>
          <a:stretch/>
        </p:blipFill>
        <p:spPr>
          <a:xfrm>
            <a:off x="755640" y="620640"/>
            <a:ext cx="863640" cy="1747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3920" y="2214360"/>
            <a:ext cx="7201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1.      El procesamiento de los datos se realiza, predominantemente, atendiendo más a las cualidades que a las cantidades, por medio del estudio del lenguaje, de las descripciones detalladas, de los procesos de codificación y categorización; Lógica inclusiva, formal o dialéctica; análisis de lenguaje (discurso, contenido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3920" y="2643120"/>
            <a:ext cx="72010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2.      Buscan la comprensión totalizante (holística) de un evento dado, intentando una visión global que esté por encima de los detalles y los fragment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3920" y="2642760"/>
            <a:ext cx="7201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3.      Tendencia a la totalidad (círculo hermenéutico). Relación partes-todo. El proceso sigue principalmente una vía inductiva, de los datos a la teoría (aún cuando pueden aceptar un camino deductivo en algún momento del proces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3920" y="2642760"/>
            <a:ext cx="7201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alibri"/>
              </a:rPr>
              <a:t>4.      Es necesario considerar la intersubjetividad, la posibilidad de objetivar el mundo subjetivo de las personas, de interpretar los significados que ellos dan a los acontecimientos, Los significados no son absolutos, sino negociados, puestos en común y discutidos con los actores de los eventos </a:t>
            </a:r>
            <a:r>
              <a:rPr b="0" lang="es-CL" sz="32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00080" y="2000160"/>
            <a:ext cx="7215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1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Preparación: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 Incluye la reflexión inicial, la definición del área problemática y el diseño inicial del estudio (susceptible de ser modificado posteriormente). Incluye la revisión previa de la literatura, la reflexión inicial (maduración de la idea) y el diseñ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00080" y="2000160"/>
            <a:ext cx="7215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2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Trabajo de campo o ejecución: 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es el proceso complejo de entrar en el campo, siendo transparente en su presentación, y entrando en rapport con el grupo en investigación. Incluye también la recogida de datos, empleando una diversidad de técnicas y criterio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00080" y="2000160"/>
            <a:ext cx="7215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3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Fase Analítica: 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Procesamiento y análisis de datos, mediante una diversidad de técnicas y mediante una discusión permanente entre los científicos y los actores sociales; los eventos y la teoría, la fiabilidad y validación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0080" y="2571840"/>
            <a:ext cx="72151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4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Fase informativa: 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Es la presentación de resultados, de modo transparente, coherente, y la elaboración del informe fin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3:49:08Z</dcterms:created>
  <dc:creator>Ximena Cortez</dc:creator>
  <dc:description/>
  <dc:language>en-US</dc:language>
  <cp:lastModifiedBy>Bernardo González</cp:lastModifiedBy>
  <dcterms:modified xsi:type="dcterms:W3CDTF">2012-01-20T00:45:11Z</dcterms:modified>
  <cp:revision>16</cp:revision>
  <dc:subject/>
  <dc:title>UNIVERSIDAD DE CHILE PROGRAMA ACADÉMICO DE BACHILLERATO  CURSO: HISTORIA PROFESOR CÁTEDRA: BERNARDO GONZÁLEZ PROFESORA TALLER. XIMENA CORTEZ</dc:title>
</cp:coreProperties>
</file>