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6658-EEA4-42DB-9668-31F2EBEF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096-21B1-4CF5-AC3E-423E3199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307-3519-4652-B87D-0969BE61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F6D-D895-4CB4-9752-337CAF5A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E7DA-5E44-4122-9072-3BB0C1AC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E979-FF05-4DE7-85CC-B6C248A4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9364-BCD7-4AEE-B4EF-8948E25E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0767-BAC8-4D6C-A28F-3850A3AE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61FD-F216-40B8-9DEC-45C87782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7F52-4095-444D-855D-6D6EC4F7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4614-3E29-4C88-AF5A-115656EC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CBE-1917-4BDB-B2E7-7074E4B5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0BFA-EFD4-4588-9448-233ABA0E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1660-1455-45B2-90FC-A47FC8D3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BD53-FE9E-4BD1-8A29-798ED10B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0114-0B61-4071-B91A-BCF9E77A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654D-AFFE-4915-B9D3-22A3FA06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CE9-E7B8-4DC9-9C05-EDBF9E5D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674-909C-454A-99A3-C22D700D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BBF-E1CF-49DC-9A4B-9A3C3361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41E-0B06-4DCB-B4E6-A7A61CCB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7AF-CA95-42E3-A135-C8AAAA59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923-34C7-45B5-8324-D5A4F05D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688-5BD2-4BED-8E80-D7D25C18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692D-16AA-4D34-85A1-5A1F22008B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CF91-5D40-41E5-A000-6EDFB0829EB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GRAMAS DE REHABILITACION PARA PERSONAS CON DISCAPA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CURSO IN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PROF. CLAUDIA MUÑOZ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2565360"/>
            <a:ext cx="36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SIB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CES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AF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PONSAB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2421000"/>
            <a:ext cx="360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¿PROGRAMAS DE REHABILITACION?.......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INTEGRACIÒN ……….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INCLUSIÒN ……………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ARTICIPACION ………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EQUIPARACION ……….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. ESPECIALES …………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DIFERENCIADOS………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9640" y="333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SONAS CON DISCAPAC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1341360"/>
            <a:ext cx="2374920" cy="2454480"/>
          </a:xfrm>
          <a:prstGeom prst="rect">
            <a:avLst/>
          </a:prstGeom>
          <a:solidFill>
            <a:srgbClr val="b9e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ADUL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D. FI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D. 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D. PSIQU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D. SENSO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1341360"/>
            <a:ext cx="2376360" cy="3146040"/>
          </a:xfrm>
          <a:prstGeom prst="rect">
            <a:avLst/>
          </a:prstGeom>
          <a:solidFill>
            <a:srgbClr val="b9e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NIÑOS Y ADOLESC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D. FI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D. 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D. PSIQU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D. SENSO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MULTIHANDIC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5734080"/>
            <a:ext cx="6048360" cy="459720"/>
          </a:xfrm>
          <a:prstGeom prst="rect">
            <a:avLst/>
          </a:prstGeom>
          <a:solidFill>
            <a:srgbClr val="b9e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aramond"/>
              </a:rPr>
              <a:t>ADULTO MAYOR Y DISCAPAC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126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EMPO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4508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RO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627280" y="3573000"/>
            <a:ext cx="324000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79640" y="393372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48690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00720" y="1700280"/>
            <a:ext cx="0" cy="38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1700280"/>
            <a:ext cx="100800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03640" y="1700280"/>
            <a:ext cx="9367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1557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P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DIVIDUO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AMBIENT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M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2708280"/>
            <a:ext cx="17272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S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SIQU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NSO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2708280"/>
            <a:ext cx="2016360" cy="35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FUNCIONAL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ESARROLLO DE CAPAC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OMPENSACIÒ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ENTRENAMI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PRENDIZA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3357720"/>
            <a:ext cx="172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RRE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POY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2565360"/>
            <a:ext cx="20876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TEGR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SC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ABO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UNI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AMILI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ARTICIP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08720" y="292428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5084640"/>
            <a:ext cx="287280" cy="720720"/>
          </a:xfrm>
          <a:prstGeom prst="upArrow">
            <a:avLst>
              <a:gd name="adj1" fmla="val 50000"/>
              <a:gd name="adj2" fmla="val 6271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2421000"/>
            <a:ext cx="8642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177336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32720" y="177336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851640" y="-747000"/>
            <a:ext cx="792360" cy="4248360"/>
          </a:xfrm>
          <a:custGeom>
            <a:avLst/>
            <a:gdLst>
              <a:gd name="textAreaLeft" fmla="*/ 506160 w 792360"/>
              <a:gd name="textAreaRight" fmla="*/ 792720 w 79236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184464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40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COS DE INTERVEN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¿QUE NECESITAN LOS NIÑOS Y ADOLESCENTES CON DISCAPACIDA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¿QUE NECESITAN LOS ADULTOS CON DISCAPACIDA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¿QUE NECESITAN LOS ADULTOS MAYORES CON DISCAPACIDA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¿QUENECESITAN TODAS LAS PERSONAS EN EL TEMA DE LA DISCAPACIDA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4T17:07:36Z</dcterms:created>
  <dc:creator>Facultad de Medicina</dc:creator>
  <dc:description/>
  <dc:language>en-US</dc:language>
  <cp:lastModifiedBy>Facultad de Medicina</cp:lastModifiedBy>
  <dcterms:modified xsi:type="dcterms:W3CDTF">2006-07-14T20:42:14Z</dcterms:modified>
  <cp:revision>3</cp:revision>
  <dc:subject/>
  <dc:title>Diapositiva 1</dc:title>
</cp:coreProperties>
</file>