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A944-11E7-4851-AAA1-17AE2D7B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65D7-EA8D-4459-B882-259413A1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A56D-2094-41B4-BCDA-75856722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05E4-6F30-4401-9245-917AE0CE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47C9-E0D7-4587-8725-F939EF86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FCAB-6532-4845-A4C3-E95D4AA6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5457-138B-4614-807F-FDC263A6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EFF6-F4FF-41EC-B98E-4759BC36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42B5-A6AA-437E-83C7-EECB90C0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60F2-A3EC-45FB-9139-16167C30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7B6F-7264-4581-A2F8-19467A46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0327-85EA-4F55-86A6-B545F45E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449F-DC45-4583-BA2E-70F61BD85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7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8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8.png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362320" y="6400800"/>
          <a:ext cx="129528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6400800"/>
                    <a:ext cx="129528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362320" y="6324480"/>
            <a:ext cx="152388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j0223440" descr=""/>
          <p:cNvPicPr/>
          <p:nvPr/>
        </p:nvPicPr>
        <p:blipFill>
          <a:blip r:embed="rId3"/>
          <a:stretch/>
        </p:blipFill>
        <p:spPr>
          <a:xfrm>
            <a:off x="2895480" y="5257800"/>
            <a:ext cx="685800" cy="8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2209680" y="3886200"/>
          <a:ext cx="1019160" cy="923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3886200"/>
                    <a:ext cx="101916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28600" y="4411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066680" y="6781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2711880" y="2924280"/>
            <a:ext cx="762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Documentos de embar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066680" y="4952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040400">
            <a:off x="2039040" y="4266720"/>
            <a:ext cx="398520" cy="295560"/>
          </a:xfrm>
          <a:custGeom>
            <a:avLst/>
            <a:gdLst>
              <a:gd name="textAreaLeft" fmla="*/ 69480 w 398520"/>
              <a:gd name="textAreaRight" fmla="*/ 289080 w 398520"/>
              <a:gd name="textAreaTop" fmla="*/ 39600 h 295560"/>
              <a:gd name="textAreaBottom" fmla="*/ 25596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21321000">
            <a:off x="2514240" y="4038120"/>
            <a:ext cx="461880" cy="231840"/>
          </a:xfrm>
          <a:custGeom>
            <a:avLst/>
            <a:gdLst>
              <a:gd name="textAreaLeft" fmla="*/ 80640 w 461880"/>
              <a:gd name="textAreaRight" fmla="*/ 334800 w 461880"/>
              <a:gd name="textAreaTop" fmla="*/ 30960 h 231840"/>
              <a:gd name="textAreaBottom" fmla="*/ 2008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47242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Export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7432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1911600" y="254412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egistro de expor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j0223470" descr=""/>
          <p:cNvPicPr/>
          <p:nvPr/>
        </p:nvPicPr>
        <p:blipFill>
          <a:blip r:embed="rId6"/>
          <a:stretch/>
        </p:blipFill>
        <p:spPr>
          <a:xfrm>
            <a:off x="2133720" y="441360"/>
            <a:ext cx="1218960" cy="1235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363400" y="15228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DU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4952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200400" y="5867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77400">
            <a:off x="2358720" y="6400800"/>
            <a:ext cx="460440" cy="227160"/>
          </a:xfrm>
          <a:custGeom>
            <a:avLst/>
            <a:gdLst>
              <a:gd name="textAreaLeft" fmla="*/ 80640 w 460440"/>
              <a:gd name="textAreaRight" fmla="*/ 334080 w 460440"/>
              <a:gd name="textAreaTop" fmla="*/ 30240 h 227160"/>
              <a:gd name="textAreaBottom" fmla="*/ 196920 h 22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21541200">
            <a:off x="2360520" y="7086600"/>
            <a:ext cx="459000" cy="304920"/>
          </a:xfrm>
          <a:custGeom>
            <a:avLst/>
            <a:gdLst>
              <a:gd name="textAreaLeft" fmla="*/ 80280 w 459000"/>
              <a:gd name="textAreaRight" fmla="*/ 333000 w 4590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4160" y="73915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Import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45360" y="7848720"/>
            <a:ext cx="122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escarga y reti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e pu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56689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tr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640" y="883908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uerto emba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73080" y="891540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uerto dest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7543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7543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8153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6400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01120" y="6278400"/>
            <a:ext cx="8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olicita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6400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181120" y="6553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8240" y="643104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ntrega docu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505320" y="6553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6781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6781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4520" y="665964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ga docu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677376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Banco comercial extranj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486400" y="4724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4732560" y="391896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firma y avisa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4800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4779720" y="3659040"/>
            <a:ext cx="214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emite doumentos de emba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40080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5343840" y="3689280"/>
            <a:ext cx="20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ga documentos de embae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40080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486400" y="2133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867280" y="2133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12360" y="792000"/>
            <a:ext cx="16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Banco comercial chil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743200" y="1676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20004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9080" y="190512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Notifica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733920" y="2057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598120" y="2666880"/>
            <a:ext cx="193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olicita credito preemba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0481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1828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1828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971800" y="175212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50532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1447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69480" y="990720"/>
            <a:ext cx="150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resenta documen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mbarque. Cobra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y paga credit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reemba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1447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6320" y="3200400"/>
          <a:ext cx="99036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320" y="3200400"/>
                    <a:ext cx="9903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 flipH="1">
            <a:off x="2133720" y="3962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9240" y="373392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go fae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Frio embal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14264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-440640" y="5733720"/>
            <a:ext cx="137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Transporte a pu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6477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h02827j" descr=""/>
          <p:cNvPicPr/>
          <p:nvPr/>
        </p:nvPicPr>
        <p:blipFill>
          <a:blip r:embed="rId9">
            <a:lum contrast="18000"/>
          </a:blip>
          <a:stretch/>
        </p:blipFill>
        <p:spPr>
          <a:xfrm>
            <a:off x="0" y="1066680"/>
            <a:ext cx="1143000" cy="1447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86000" y="3733920"/>
            <a:ext cx="152388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286000" y="19807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133360" y="1981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57280" y="1828800"/>
            <a:ext cx="905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go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rodu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21896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3840" y="7238880"/>
          <a:ext cx="1324080" cy="1648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3840" y="7238880"/>
                    <a:ext cx="132408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5486400" y="7238880"/>
          <a:ext cx="1324080" cy="1648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486400" y="7238880"/>
                    <a:ext cx="132408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419800" y="5638680"/>
          <a:ext cx="1438200" cy="1133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19800" y="5638680"/>
                    <a:ext cx="143820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343480" y="990720"/>
          <a:ext cx="1438200" cy="1133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343480" y="990720"/>
                    <a:ext cx="143820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 rot="10472400">
            <a:off x="2971440" y="6248160"/>
            <a:ext cx="458640" cy="304560"/>
          </a:xfrm>
          <a:custGeom>
            <a:avLst/>
            <a:gdLst>
              <a:gd name="textAreaLeft" fmla="*/ 80280 w 458640"/>
              <a:gd name="textAreaRight" fmla="*/ 332640 w 45864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7591400">
            <a:off x="3376800" y="7110000"/>
            <a:ext cx="610920" cy="258840"/>
          </a:xfrm>
          <a:custGeom>
            <a:avLst/>
            <a:gdLst>
              <a:gd name="textAreaLeft" fmla="*/ 106920 w 610920"/>
              <a:gd name="textAreaRight" fmla="*/ 443160 w 610920"/>
              <a:gd name="textAreaTop" fmla="*/ 34560 h 258840"/>
              <a:gd name="textAreaBottom" fmla="*/ 22428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tr00074_" descr=""/>
          <p:cNvPicPr/>
          <p:nvPr/>
        </p:nvPicPr>
        <p:blipFill>
          <a:blip r:embed="rId18"/>
          <a:stretch/>
        </p:blipFill>
        <p:spPr>
          <a:xfrm>
            <a:off x="2286000" y="8229600"/>
            <a:ext cx="1143000" cy="536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47920" y="8686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8686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8400" y="872316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Transporte maríti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2T16:17:55Z</dcterms:created>
  <dc:creator>López Reitze</dc:creator>
  <dc:description/>
  <dc:language>en-US</dc:language>
  <cp:lastModifiedBy>JLLB</cp:lastModifiedBy>
  <cp:lastPrinted>2000-11-15T14:09:20Z</cp:lastPrinted>
  <dcterms:modified xsi:type="dcterms:W3CDTF">2002-06-10T15:36:59Z</dcterms:modified>
  <cp:revision>5</cp:revision>
  <dc:subject/>
  <dc:title>Presentación de PowerPoint</dc:title>
</cp:coreProperties>
</file>