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F58-E2CC-4D16-90FB-296A9578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75B-D5CE-49F1-A2E5-0C09E7A4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597-B906-45F3-9579-FC41DDC1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3DC-1EEE-42F0-93CF-A4580232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7E0-F905-43CD-A01B-C1894446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E392-F398-4E04-8BAE-8CA81752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24BA-E25C-4AED-9D9B-051E3F29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0C81-1721-4020-8587-843369EA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9644-4F9D-4843-B9FB-6239D706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DC4A-B4DE-4317-9C29-8C76B80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C276-A421-41AF-9C4B-83959156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A2F-142D-4424-9E3C-BE11F08A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071A-71EB-438C-93FB-73E103CC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CD82-2657-44FA-B45D-14E66528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02BE-3063-4AF5-8958-822BDB64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C974-D43F-4F04-8004-BA95E089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C40-3B2C-469A-BE50-66794E95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DDAF-A48B-4FCF-A99C-D68C4895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AFB5-194C-4C82-B7A2-5D224FB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72BF-4F19-4722-9039-EF705079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F9AA-2901-44E9-891E-2D3B7339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7E7B-A823-4FC3-95B6-E37A3390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796-0AC5-4988-8174-61C6892F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E6B8-D1CE-4ADE-A4FC-71ADF31F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1A19-608F-48D1-A7DD-22F1693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DFE5-89D1-48FA-B11E-76C22181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7F65-DC13-4F06-8F83-1CF9FF1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014A0-4966-4E4A-BD02-B101879A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17427-C8CA-482F-81D0-567093BA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E12B-C7CC-4076-BEC4-6B603FEA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6307-4EDF-4F69-93F1-89336CDA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AE120-8B7B-48C6-8547-6C1E8C07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048C-5D31-439A-8BF6-34DE53A4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3CD-C78F-433C-8E11-588CE61C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5007-D35B-4540-B03B-13AFC4A5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0658F-2963-4103-8DB6-AB44DA4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BCEB-4661-43E5-99F9-D1D2D668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7ED1-25A3-4D5C-8FF0-64BC6056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76241-CA13-4E20-BC7F-62E447BE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45A72-1029-4B9F-B7EA-2FCAC1A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5D22-D657-4E79-996A-053C559A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144F-43B2-440D-91F9-E043B421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F587-3592-4B2E-886D-53E3AC90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842-AC52-4E91-909A-058C89D2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4F1-282D-4955-8EC4-B23F9184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0A4-C3FB-4AD3-8E6C-E3F29F4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633-94EA-457C-825D-E3CD632A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C25-5AEE-4473-815A-D2A188C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847E-2A17-4F47-A819-F6D3D42725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E8E1-65DB-49B3-81BF-205A692635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52A-D360-411F-9F22-F1A592871C59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D251-E802-490D-947E-5DFB46B1708F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2297160" y="1724040"/>
          <a:ext cx="4549680" cy="34084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172404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449440" y="1876320"/>
          <a:ext cx="4549680" cy="340848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49440" y="1876320"/>
                    <a:ext cx="454968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90720" y="685800"/>
          <a:ext cx="7010280" cy="548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0720" y="685800"/>
                    <a:ext cx="7010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43000" y="914400"/>
          <a:ext cx="6858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858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61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9144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ile: number of television sets per 1,000 inhabitants 1960-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523880"/>
          <a:ext cx="76960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-15120" y="6324480"/>
            <a:ext cx="91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Elaborated by economist Harald Beyer from a number of national statistics (</a:t>
            </a:r>
            <a:r>
              <a:rPr b="0" i="1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o de Estudios Públicos</a:t>
            </a:r>
            <a:r>
              <a:rPr b="0" lang="es-C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antiago de Chile, March 2000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508800"/>
          <a:ext cx="5613480" cy="34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08800"/>
                    <a:ext cx="56134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5889600" cy="59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7920" y="6477120"/>
          <a:ext cx="561312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19560" cy="568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676520" y="6477120"/>
          <a:ext cx="5613120" cy="17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477120"/>
                    <a:ext cx="561312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430200" y="404640"/>
          <a:ext cx="8713800" cy="5915160"/>
        </p:xfrm>
        <a:graphic>
          <a:graphicData uri="http://schemas.openxmlformats.org/drawingml/2006/table">
            <a:tbl>
              <a:tblPr/>
              <a:tblGrid>
                <a:gridCol w="2017440"/>
                <a:gridCol w="1670400"/>
                <a:gridCol w="2220840"/>
                <a:gridCol w="2805120"/>
              </a:tblGrid>
              <a:tr h="170244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ACCION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 A CARA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(Telecom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UASI-MEDIAT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edi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xto espacio-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presencia. Contexto espacio-temporal compartid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paración de contextos. Extensión espacio-tempo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o de señales simból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icida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cc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entación de la ac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ulariz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ferenciad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/monológica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ológic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5:19:03Z</dcterms:created>
  <dc:creator>Centro Estudios Publicos</dc:creator>
  <dc:description/>
  <dc:language>en-US</dc:language>
  <cp:lastModifiedBy>Lucas Sierra</cp:lastModifiedBy>
  <dcterms:modified xsi:type="dcterms:W3CDTF">2004-08-12T04:02:51Z</dcterms:modified>
  <cp:revision>4</cp:revision>
  <dc:subject/>
  <dc:title>Sin título de diapositiva</dc:title>
</cp:coreProperties>
</file>