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5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12C9-A2EA-46A3-8751-28A1799D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250F-7437-4F70-8CAF-3E79ECF1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A527-7CB9-4424-86EA-E3665C23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D3E7-4C7E-464B-AE29-985F7858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5AD4-3D94-4E64-99F8-ABB01318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D75F-133A-4E69-9BC4-FA3C398D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8EB7-9E4D-4F4A-9160-8BAC4E80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B380-1A0C-4EB6-A133-8E873C78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27D0-6E89-430E-8F64-E5320E44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45BB-01C8-451B-9F07-11F5998B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2663-1513-4629-96D1-E3AFD210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8DA4-4923-4C31-9F06-9DFE88E6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4E19-A149-4408-B1B5-F10C2D8870E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97120" y="25920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munica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055880"/>
            <a:ext cx="777708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dios no eléct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nsajeros (Correos) Palomas: 621 CC “Las palomas que abandonan un palomar y se fijan en otro, se entenderán ocupadas legítimamente por el dueño del segundo, siempre que éste no se haya valido de alguna industria para atraerlas o aquerenciarlas//En tal caso, estará obligado a la indemnización de todo perjuicio, inclusa la restitución de las especies, si el dueño la exigiere, y si no la exigiere, a pagarle su precio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legrafía óp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3219120"/>
            <a:ext cx="7632720" cy="29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Medios eléct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Alámb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elégrafo eléctr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eléf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ibra óp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alámb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elégra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rvicios de ra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adiodifu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eléf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00360" y="1052640"/>
            <a:ext cx="3459240" cy="5467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00720" y="259200"/>
            <a:ext cx="33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es Télégraphes Chapp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5300640" cy="5300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7520" y="1438200"/>
            <a:ext cx="62820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74600" y="763920"/>
            <a:ext cx="53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he Edelcrantz Telegraph Systems (179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76720" y="2205000"/>
            <a:ext cx="2241360" cy="3237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867280" y="2421000"/>
            <a:ext cx="2590920" cy="283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5760" y="2243160"/>
            <a:ext cx="19000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3105360" cy="4573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47640" y="258480"/>
            <a:ext cx="55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te des lignes de télégraphe Chapp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établies entre 1793 et 18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398484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quema del telégrafo eléctrico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51040" y="1846440"/>
            <a:ext cx="568944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77480" y="332280"/>
            <a:ext cx="58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anza Jeneral de Correo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22/02/185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1126080"/>
            <a:ext cx="763272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Servici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de correos de la República (líneas telegráficas del Estado forman parte del “ramo” de correo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ependencia: Ministerio del I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rector Jeneral (Directamente P de la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dministradores de correos (P de la R a propuesta de Dir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misionados de estafeta (P de la R, a propuesta de los administradores e informe Dir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mpleados subalternos de las diversas oficinas (idem, a propuesta del jefe de la oficina e informe Dir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3861360"/>
            <a:ext cx="799308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petencia Director Jeneral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(art. 15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ar instrucciones para el mejor servicio de las oficinas i exacto cumplimiento de esta ordenanz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sar al Ministerio del Interior un estado semestral del movimiento de la correspondencia, con especificación de su procedencia i destino i sus clas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petencia administradores de correo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(art. 4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uidar especialmente de la seguridad de la correspondencia i del secreto de los mensajes telegráficos, i de que su transmisión i repartición se haga con toda fidelidad i prontitu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20:54:04Z</dcterms:created>
  <dc:creator>Centro Estudios Publicos</dc:creator>
  <dc:description/>
  <dc:language>en-US</dc:language>
  <cp:lastModifiedBy>Lucas Sierra</cp:lastModifiedBy>
  <dcterms:modified xsi:type="dcterms:W3CDTF">2004-08-17T17:11:50Z</dcterms:modified>
  <cp:revision>14</cp:revision>
  <dc:subject/>
  <dc:title>Micrófono tipo teléfono</dc:title>
</cp:coreProperties>
</file>