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029-6668-490A-AA74-507F4FEE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6A6-1317-447E-9072-68FE2763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0FF-0F44-4314-9831-C74A11C5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C28-DC46-4315-88A7-B42C14DB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B3F-C1E0-4AC2-9CF4-67F6F2F1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04E-8BAB-4584-80DE-E547F14E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F78-1345-4018-BAC8-19DAE00B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617-56CC-4816-9750-F87BD823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165-7013-482D-88FB-C1BF9079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64E-ABD5-4E2C-8B29-E80C3501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AFE-8D08-4EF3-A87A-5C7DB6B1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C13-8081-4883-AF97-FBAD7B16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67A4-9D36-43DD-8A97-E7B760821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228600"/>
          <a:ext cx="506412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506412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7920" y="1523880"/>
          <a:ext cx="560052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6005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33520" y="304920"/>
          <a:ext cx="7848360" cy="97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920"/>
                    <a:ext cx="78483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7920" y="0"/>
          <a:ext cx="5638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5638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523880" y="3124080"/>
          <a:ext cx="5600880" cy="344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5600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3880" y="228600"/>
          <a:ext cx="560088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560088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6269920" y="19080"/>
          <a:ext cx="1523988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69920" y="19080"/>
                    <a:ext cx="152398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905120" y="228600"/>
          <a:ext cx="5486400" cy="575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28600"/>
                    <a:ext cx="54864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20:25:28Z</dcterms:created>
  <dc:creator>Centro Estudios Publicos</dc:creator>
  <dc:description/>
  <dc:language>en-US</dc:language>
  <cp:lastModifiedBy>Centro Estudios Publicos</cp:lastModifiedBy>
  <dcterms:modified xsi:type="dcterms:W3CDTF">2004-08-18T22:26:41Z</dcterms:modified>
  <cp:revision>4</cp:revision>
  <dc:subject/>
  <dc:title>Sin título de diapositiva</dc:title>
</cp:coreProperties>
</file>