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2CE-F001-4A36-9CC1-5523A325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606-ED3D-49FB-927E-507C5F40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129-2904-4269-819B-D2F134D4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82B-62C1-4ECF-80A5-71BC7335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AA9-9473-45EB-A5E8-082709E1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8B5-FC6C-4E33-A42B-69E75803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1C0-C7BC-422A-9545-E6C3975A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349F-B716-42E6-8843-BB5696ED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6F9-F5E6-414C-A2D2-3014549B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A5B-43DB-4AF0-AE7D-829F38B1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46C-B273-479F-B010-C56D8A5C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F4B7-CABF-4CB4-85A5-15CDDF4A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CF90-92C3-4387-8CAE-351EA6917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Ley de Telégrafos de 18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764640"/>
            <a:ext cx="6400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rt. 5°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Toda oficina telegráfica deberá preferir para darles curso, los mensajes dirijidos al Gobierno, i los oficiales dirijidos de autoridad a autoridad, cuando esta preferencia se reclame.  Las autoridades que tienen este derecho fuera del Gobierno son: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intendentes i gobernadores, los tribunales i juzgados para actos propios de su cargo, los jefes de un Ejército o división militar, o comandantes de armas, i los comandantes i gobernadores maríti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rt. 6°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Si por los intendentes, gobernadores, o por los tribunales i juzgados se trasmitiesen mensajes para la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ersecución o aprehensión de delincuent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o para que se practiquen dilijencias dirijidas a investigación judicial, la oficina que los hubiese trasmitido no podrá trasmitir otro aviso o prevención que haga ilusoria la persecución o aprehensión o que frustre la investigación, a no ser por contra-órden de la misma auto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ta misma regla se observará si frustrare la aprehensión, la traducción infiel hecha intencionalmente.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(338 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Ley de Telégrafos de 18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. 7°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En caso de motín o asonada es prohibido a toda oficina telegráf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Transmitir o tolerar que se trasmitan mensaje dirijidos a fomentar o favorecer el desórde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Dar aviso de la marcha que sigan los sucesos o tumulto, si no es a la autoridad o con asentimiento de és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Instruir del movimiento de fuerzas, o de las medidas tomadas para combatir el desorden i todo aviso, cuyo objeto sea frustrar las providencias tomadas para restablecer la tranquilidad interior, salvo con permiso de la autoridad, i dirijido siempre el aviso a la autoridad respectiva.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(339 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. 8°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En casos de motín, rebelión, etc., el Gobierno podrá tomar el uso esclusivo del telégrafo abonando en este caso a la empresa una cantidad igual a la que correspondiese por día, atendida la entrada que hubiese tenido en los treinta días precedentes.  Durante este tiempo podrán trasmitirse avisos de particulares con consentimiento del Gobi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. 9°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Cuando en una oficina telegráfica se reincidiese en las infracciones de que hablan los artículos sétimo i octavo, podrá la autoridad superior prohibir el uso del telégrafo, o someterlo a su dirección o inspección inmediata hasta tanto duren las circunstancias estraordinarias de motín, etc.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340 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Ley de Telégrafos de 18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Art. 10°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El que por imprudencia o involuntariamente rompiere los postes o alambres, o ejecutase actos que interrumpieren el servicio de los telégrafos, será penado con una multa que no baje de dos pesos ni exceda de veinte. 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(333 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Art. 11°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El que  intencionalmente interrumpiere la comunicación telegráfica, rompiendo los alambres o postes o inutilizando los aparatos de trasmisión o por cualquiera otro medio, será penado con una prisión de quince días a seis meses, i una multa de veinte pesos a doscientos. 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334 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Art. 12°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Serán penados con una prisión que no podrá exceder de cinco años i con una multa de cien pesos a mil, los que en un motín o insurrección rompiesen los alambres de las líneas telegráficas, o que destruyesen las máquinas o aparatos telegráficos, o que por violencia o amenazas se apoderasen de las oficinas, o que usando de los mismos medios impidiesen de cualquier modo la correspondencia telegráfica entre los depositarios de la autoridad pública, o que con fuerza o violencia se opusiesen al restablecimiento de una línea telegráfica.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335 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Art. 13°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Todo ataque, toda resistencia con violencia o con vías de hecho a los ajentes que la autoridad destinare a la conservación i cuidado de las líneas telegráficas, serán castigados como actos de resistencia a la autorid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3721320" cy="6056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22:06:44Z</dcterms:created>
  <dc:creator>Lucas Sierra</dc:creator>
  <dc:description/>
  <dc:language>en-US</dc:language>
  <cp:lastModifiedBy>Lucas Sierra</cp:lastModifiedBy>
  <dcterms:modified xsi:type="dcterms:W3CDTF">2004-08-26T01:03:28Z</dcterms:modified>
  <cp:revision>6</cp:revision>
  <dc:subject/>
  <dc:title>Ley de Telégrafos de 1852</dc:title>
</cp:coreProperties>
</file>