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637A-15B9-415B-8E8E-A5413D16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3D7F-E986-49DB-8950-2B377B80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AE77-555F-4EB0-83FD-FA44A7E0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6DA5-82F4-4831-89E5-23ABC6C0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3138-FDC0-45DE-9A3C-80F61C1E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7D8-D81A-41D0-8004-0B8091F3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EEB-D649-46CB-9E0B-3B4D3127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0D5A-8BEA-4D0B-8EFE-37B5DA7A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E51-7986-4A73-8B8B-EA256EB6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8FD5-EEB8-487C-AA0D-102BCA5A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3ACC-CDDF-42B0-BAFA-5B0F7D8B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BE3-4948-4D70-B334-6F1F4122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697E-6461-4DB6-9560-69495DF2F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6640"/>
            <a:ext cx="914400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Decreto ley 229 CREA EL REGISTRO NACIONAL DE TELECOMUNICACIONES (24/12/1973)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Vistos: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</a:rPr>
              <a:t>La necesidad de tener un control a nivel nacional de los equipos de telecomunicaciones existentes en el país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; La conveniencia de proceder a la dictación de una nueva reglamentación para los Servicios de Telecomunicaciones; Lo informado por la Superintendencia de Servicios Eléctricos, de Gas y de Telecomunicaciones; La recomendación del Comité de Telecomunicaciones de la Defensa Nacio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rtículo 1°- Créase el Registro Nacional de Telecomunicaciones, como herramienta básica para la planificación del desarrollo de las telecomunicaciones y la administración de las mism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rtículo 2°- Toda instalación y/o tipo de emisión que no figure en este Registro, o que figure con características diferentes a las en él registradas, se considerará como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</a:rPr>
              <a:t>uso ilegal y se le aplicará al infractor las disposiciones penales correspondientes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836640"/>
            <a:ext cx="9144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tículo 5°.- Sin perjuicio de las reglas de interpretación contempladas en el Código Civil, el significado de los términos empleados en esta ley y no definidos en ella, será preferentemente el que le asignen los convenios internacionales sobre telecomunicaciones vigentes en el paí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tículo 7°.- El Ministerio de Transportes y Telecomunicaciones velará porque todos los servicios de telecomunicaciones y sistemas e instalaciones que generen ondas electromagnéticas, cualquiera sea su naturaleza,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ean instalados, operados y explotados de modo que no causen lesiones a personas o daños a cosas ni interferencias perjudiciales a los servicios de telecomunicaciones nacionales o extranjeros o interrupciones en su funcionami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60280"/>
            <a:ext cx="914400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rtículo 3°- Para la aplicación del Registro a que se refiere el artículo 1°, se dispone lo sigui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</a:rPr>
              <a:t>Suspéndese, a partir de esta fecha, toda recepción de solicitudes relativas a concesiones, autorizaciones, licencias y permisos de estaciones de radiocomunicaciones, de servicio público, de servicio privado, de radiodifusión, radioaficionados y banda local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</a:rPr>
              <a:t>Decláranse en carácter provisional, por un período de seis meses, todas las concesiones, autorizaciones, licencias y permisos de servicio público, servicio privado, radiodifusión, radioaficionados y banda local vigentes a la fecha del presente decreto ley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. Al término de este período se dictarán las nuevas concesiones, autorizaciones, licencias y permisos definitivos debidamente regist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Los concesionarios y permisionarios de los servicios mencionados en las letras a) y b) de este artículo deberán declarar a la Superintendencia de Servicios Eléctricos, de Gas y de Telecomunicaciones, todas las características de transmisión de sus equipos; tal como se indica en los formularios de investigación confeccionados para estos efectos. Para ello, contarán con un plazo de sesenta días a contar de la fecha de publicación del presente decreto ley en el Diario Ofi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La secuencia de reformas en regulación en Chile se inició con un conju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de medidas que situaron al Estado en un rol menos interventor en materia productiv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focalizándolo en los aspectos de regulación antimonopolios. </a:t>
            </a: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En esta fas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que ocurrió entre 1974 y 1980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, lo central fue entregar una clara señal en el sent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de que lo que se estaba realizando tenía una motivación económica, era consec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y sería irreversible; es decir, no dependería de las condiciones externas, de las presiones de grupos ni de la sensibilidad del ministro de turno. </a:t>
            </a: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Seguidamente, a comienzos de los años 80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se realizaron una serie de reformas legales e institucionales en sectores caracterizados históricamente como monopolios naturales. Se reformaron las leyes de </a:t>
            </a: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telecomunicaciones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, de electricidad, de bancos, de sociedades anónimas y se reestructuraron las empresas estatales para abordar ciertos problemas de la organización industrial. </a:t>
            </a:r>
            <a:r>
              <a:rPr b="0" lang="es-ES" sz="1600" spc="-1" strike="noStrike" u="sng">
                <a:solidFill>
                  <a:srgbClr val="ffff00"/>
                </a:solidFill>
                <a:uFillTx/>
                <a:latin typeface="Arial"/>
              </a:rPr>
              <a:t>La tercera etapa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fue la privatización de las empresas tradicionalmente consideradas monopolios naturales, lo que se inició en la segunda mitad de la década de los 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Esta segunda ola de privatizaciones es la más relevante no sólo por 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montos involucrados, sino por el interés tanto académico como de política púb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Después de concluir el primer período de privatizaciones en 1979, el 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controlaba 58 firmas (menos que las 68 que controlaba en 1970). Sin embarg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el Estado todavía mantenía bajo su tutela a ENTEL y a ENDESA, el monopoli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larga distancia en telecomunicaciones y el monopolio de generación eléctrica, respectivamente. El Estado tampoco controlaba CODELCO, la más grande firma cuprera chilena; CHILECTRA (distribuidora eléctrica), CTC (monopolio de la red básica telefónica) y la mayoría de las empresas de distribución de agua pot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Paredes, Ricardo </a:t>
            </a: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Regulación Económica en Chile: La Opción por un Enfoque No Estructural” en Larraín y Vergara (2001) </a:t>
            </a:r>
            <a:r>
              <a:rPr b="1" i="1" lang="es-ES" sz="1600" spc="-1" strike="noStrike">
                <a:solidFill>
                  <a:srgbClr val="ffff00"/>
                </a:solidFill>
                <a:latin typeface="Arial"/>
              </a:rPr>
              <a:t>La Transformación Económica de Chile</a:t>
            </a: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 (CEP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en www.cepchile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4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Decreto Ley 1.762. Crea la Subsecretaría de Telecomunicaciones dependiente del Ministerio de Transportes, pasando éste a denominarse “Ministerio de Transportes y Telecomunicaciones” (30/04/19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Considera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1° La necesidad de crear un organismo superior que dirija, oriente, controle, coordine, fomente y desarrolle las Telecomunicaciones en Chi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2° La necesidad de que este organismo superior sea de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alto nivel técnico profesional, específico para las Telecomunicaciones y suficientemente dinámico y ejecutivo para cumplir sus funcion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3° La importancia de las Telecomunicaciones como factor para el desarrollo socioeconómico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. 1 El Ministerio de Transportes se denominará en lo sucesivo “Ministerio de Transportes y Telecomunicaciones”, correspondiéndole la tuición y la dirección técnica superiores de las Telecomunicaciones del país, tanto nacionales como internacionales… Lo dispuesto en el incio anterior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no será aplicable al contenido de la información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, cualquiera sea el medio o sistema en que ella sea difundida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34136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rtículo 4°.- Corresponderá al Ministro de Transportes y Telecomunicaciones, proponer al Presidente de la República las políticas de Telecomunicaciones que deben aplicarse y adoptar todas las medidas técnicas normativas necesarias para orientar, controlar, dirigir, coordinar, fomentar, desarrollar, estructurar y organizar las Telecomunicaciones del país. En todo caso, cuando dichas medidas técnicas signifiquen un mayor gasto, requerirán la visación del Ministerio de Hacien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0280"/>
            <a:ext cx="9144000" cy="63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rtículo 6°.- El Ministerio de Transportes y Telecomunicaciones tendrá las siguientes funciones y atribuciones en materia de telecomunicaciones, las que ejercerá a través de la correspondiente Subsecretarí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00"/>
                </a:solidFill>
                <a:uFillTx/>
                <a:latin typeface="Arial"/>
              </a:rPr>
              <a:t>Proponer las políticas de telecomunicaciones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00"/>
                </a:solidFill>
                <a:uFillTx/>
                <a:latin typeface="Arial"/>
              </a:rPr>
              <a:t>Participar en la planificación nacional y regional de desarrollo de las telecomunicaciones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Velar por el cumplimiento de las leyes, reglamentos, normas técnicas y demás disposiciones internas, como, igualmente, de los tratados, convenios y acuerdos internacionales sobre telecomunicaciones vigentes en Chile y de las políticas nacionales de telecomunicaciones aprobadas por el Supremo Gobier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laborar y mantener actualizados los planes fundamentales de telecomunicacion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plicar el presente decreto ley, sus reglamentos y normas complementaria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00"/>
                </a:solidFill>
                <a:uFillTx/>
                <a:latin typeface="Arial"/>
              </a:rPr>
              <a:t>Administrar y controlar el espectro radioeléctrico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Dictar las normas técnicas sobre telecomunicaciones y controlar su cumplimient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Representar al país, como Administración Chilena de Telecomunicaciones, ante la Unión Internacional de Telecomunicaciones y en la suscripción de los acuerdos sobre telecomunicaciones con otros Estados, sin perjuicio de las facultades del Ministerio de Relaciones Exterior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Informar y pronunciarse, según corresponda, acerca de las solicitudes de concesión y permisos de telecomunicaciones, su otorgamiento, denegación, suspensión, caducidad y término con arreglo a la le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00"/>
                </a:solidFill>
                <a:uFillTx/>
                <a:latin typeface="Arial"/>
              </a:rPr>
              <a:t>Coordinar con el Ministerio de Defensa Nacional y demás organismos y entidades competentes la dictación de las normas destinadas a controlar el ingreso al país de material y equipo de telecomunicaciones, como asimismo las relativas a su fabricación y uso</a:t>
            </a: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Requerir de las entidades que operen en el ámbito de las telecomunicaciones y de cualquier organismo público los antecedentes e informaciones necesarios para el desempeño de su cometido, los que estarán obligados a proporcionarlos,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plicar las sanciones administrativas que establece la Ley General de Telecomunicaciones.</a:t>
            </a:r>
            <a:r>
              <a:rPr b="0" lang="es-ES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0280"/>
            <a:ext cx="9144000" cy="61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9°- El control de todo o parte de las Telecomunicaciones en situaciones de emergencia, corresponderá al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Ministerio de Defensa Nacional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en la forma que lo establezca la legislación respectiv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10°-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En el Nivel Regional existirán las Secretarías Regionales Ministeriales de Transportes y Telecomunicacion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que determine el Ministro, en las que se delegarán, las funciones que le corresponda a la Subsecretaría de Telecomunicaciones. Estas Secretarías Regionales funcionarán con el personal que destine el Ministerio de Transportes y Telecomunicac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12°- El Servicio de Correos y Telégrafos dependerá del Ministerio de Transportes y Telecomunicaci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1° Transitorio- Todas las referencias legales, reglamentarias o de cualquier naturaleza técnica referidas al Ministerio o al Ministro del Interior, relacionadas con Telecomunicaciones, deben entenderse hechas al Ministerio o al Ministro de Transportes y Telecomunicaciones, según el ca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Artículo 7°.- El Ministerio de Transportes y Telecomunicaciones, dentro del plazo de un año, contado desde la vigencia del presente decreto ley, 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Arial"/>
              </a:rPr>
              <a:t>deberá proponer al Supremo Gobierno el proyecto de Ley General de Telecomunicaciones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9000"/>
            <a:ext cx="9144000" cy="63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Ley 18.168 LEY GENERAL DE TELECOMUNICACIONES (02/10/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rtículo 1°.- Para los efectos de esta ley, se entenderá por telecomunicación toda transmisión, emisión o recepción de signos, señales, escritos, imágenes, sonidos e informaciones de cualquier naturaleza, por línea física, radioelectricidad, medios ópticos u otros sistemas electromagnétic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rtículo 2°.- 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Todos los habitantes de la República tendrán libre e igualitario acceso a las telecomunicaciones y cualquier persona podrá optar a las concesiones y permisos que establece la ley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, salvo en los casos de excepción que las leyes expresamente señalen.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5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Artículo 3°.- Para los efectos de esta ley los servicios de telecomunicaciones se clasificarán en la siguiente form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rvicios de telecomunicaciones de libre recepción o de radiodifusión, cuyas transmisiones están destinadas a la recepción libre y directa por el público en general. Estos servicios comprenden emisiones sonoras, de televisión o de otro gén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rvicios públicos de telecomunicaciones, destinados a satisfacer las necesidades de telecomunicaciones de la comunidad en general. Estos deberán estar diseñados para interconectarse con otros servicios públicos de telecomuni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rvicios limitados de telecomunicaciones, cuyo objeto es satisfacer necesidades específicas de telcomunicaciones de determinadas empresas, entidades o personas previamente convenidas con éstas. Estos servicios pueden comprender los mismos tipos de emisiones mencionadas en la letra a) de este artículo y su prestación no podrá dar acceso a tráfico desde o hacia los usuarios de las redes públicas de telecomunic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rvicios de aficionados a las radiocomunicaciones, cuya finalidad es la intercomunicación radial y la experimentación técnica y científica, llevadas a cabo a título personal y sin fines de luc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01:33:25Z</dcterms:created>
  <dc:creator>Lucas Sierra</dc:creator>
  <dc:description/>
  <dc:language>en-US</dc:language>
  <cp:lastModifiedBy>Centro Estudios Publicos</cp:lastModifiedBy>
  <dcterms:modified xsi:type="dcterms:W3CDTF">2004-10-20T22:04:20Z</dcterms:modified>
  <cp:revision>8</cp:revision>
  <dc:subject/>
  <dc:title>Diapositiva 1</dc:title>
</cp:coreProperties>
</file>