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7734-A9E5-4EA9-98C8-5FF66492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BDDC-B94D-4114-9A7B-A579500E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0E7F-FFA4-4A7A-AEB1-E93BDEF9D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3484-BC06-43A4-943C-4353535E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5D1E-8033-4D42-B880-7616FB7F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5980-46B0-4971-8B51-00132725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B398-7B8F-4CA3-895F-0E591CDC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F036-145C-4E01-A34B-9CFCD2C6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2C1C-881B-4789-BD5B-47838277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0DD7-BB70-4A97-AA45-3BEB556B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C789-B8BF-49C1-9690-CDBD898D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B08D-38D4-4EAF-85EA-87963F07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0F81-EB47-41AD-B80A-12CC0CFD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88DB-4C1D-40F4-A468-22BC211F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F6AD-1C16-4EE1-B016-4544C2B9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B754-393F-439B-8513-14D9C9F3F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1DC8-476F-49CE-B15A-3CBEAC72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D0D5-8546-4162-8819-953C10E5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BB91-A294-43F5-9386-31C92A9B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38F4-F971-4777-9B5E-C009BD03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B229-084B-4D56-8FC9-3DF10B4D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DECD-3CCD-4785-9C3D-9AD394FA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4966-83DF-4A44-A085-EA32B815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A86F-B341-4D4B-8F8B-A3953013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24F2-3DD2-42C7-B4A8-97B89F0B702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ECC7-BEB2-44EC-9615-4403643C3D5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Clase 25: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Crecimiento Económic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Clase 25: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Crecimiento Económic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6854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 crecimiento económico es el aumento sostenido del producto en una economí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e mide como el aumento del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PIB real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en un período d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 continuación veremos un modelo que permite conocer los principales determinantes del crecimiento económ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obert Solow, desarrolló un marco los principales factores que contribuyen al crecimiento económico, partiendo de una función de produ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El producto, es una función del stock de capital (K), del trabajo (L) y de la tecnología (T): Q = T*F(K,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De acuerdo a esta ecuación, el CE proviene de aumentos del capital, del trabajo o de progresos tecnológic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Solow estableció que el crecimiento del producto (g) es igual a: dt/t + sL(dl/l) + sk(dk/k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Debido a la dificultad de estimar el progreso tecnológico, éste se obtiene indirectamente a partir de la diferencia entre el crecimiento del producto y el crecimiento ponderado del trabajo y el capital. Esta diferencia se conoce como </a:t>
            </a:r>
            <a:r>
              <a:rPr b="0" lang="es-MX" sz="2200" spc="-1" strike="noStrike" u="sng">
                <a:solidFill>
                  <a:srgbClr val="ffffff"/>
                </a:solidFill>
                <a:uFillTx/>
                <a:latin typeface="Times New Roman"/>
              </a:rPr>
              <a:t>residuo de Solow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Times New Roman"/>
              </a:rPr>
              <a:t>El Modelo de Crecimiento de Solo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6854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 modelo de CE de Solow, toma como base la función de producción en términos per cápi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ara simplificar el modelo, supondremos que no hay cambios tecnológicos, de manera que el producto por trabajador (Q/L) es una función del capital por unidad de trabajo (K/L), es decir, la función de producción en términos per cápita se escribe com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q = f (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presentación gráf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6840" y="2282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una economía cerrada, el producto per cápita se puede dividir entre consumo e inversión per cápita: q = c + in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 aumento de k es igual al monto de la inversión después de considerar la inversión que reemplaza el capital gastado y la inversión que contrarresta el aumento de la pobla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k = inv –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k – nk   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otras palabras, el aumento del stock de capital per cápita es igual a la inversión per cápita, menos la inversión necesaria para reemplazar el capital obsoleto y para compensar el aumento demográf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6840" y="2282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mo sabemos, en una economía cerrada, el ahorro es igual a la inversión, además diremos que el ahorro es una fracción “s” del ingreso (por lo tanto, 1 – s es la fracción del igreso que se gas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emplazando esta identidad en la ecuación (1) tenem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k = sq – (n + δ)k     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osición de equilibrio de largo plazo de una economía se conoce como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ado estacionar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ste estado, el capital y el producto por trabajador alcanzan un valor de equilibrio y permanecen en ese niv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EE dk = 0, por lo tanto la ecuación (2) queda com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 = (n + δ)k    (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E, tanto el producto per cápita como el capital per cápita permanecen constantes (Recordar que q = f (k)),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ero tanto el producto total (Q), como el stock de capital total (K) crecen a la tasa 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, porque si la población crece a la tasa n, la única forma de que las variables per cápita no crezcan, es que su nivel crezca igual que la pobl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presentación gráfica y evolución hacia el 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2 Casos: cambios en la tasa de ahorro y crecimiento de la pobl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lementos relevante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: (i) aumento de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no tiene efectos sobre el crecimiento de EE, sí hay efectos sobre el crecimiento per cápita en el CP y en el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nivel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de las variables de 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(ii) Aumento de n produce caída de los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nivele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de ingreso per cápita en EE (por caída de k), en cambio la tasa de crecimiento de EE es mayo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1T04:36:08Z</dcterms:created>
  <dc:creator> </dc:creator>
  <dc:description/>
  <dc:language>en-US</dc:language>
  <cp:lastModifiedBy> </cp:lastModifiedBy>
  <dcterms:modified xsi:type="dcterms:W3CDTF">2004-11-08T16:26:23Z</dcterms:modified>
  <cp:revision>750</cp:revision>
  <dc:subject/>
  <dc:title>Clase 2: Cuentas Nacionales</dc:title>
</cp:coreProperties>
</file>