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4E6F8-29A8-484C-BA3C-A5B7375D7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4FD73-D4E1-4AEC-97A0-E5C4DC950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9657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BEB53-DF4A-41CE-BCA5-5555D1AE2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84976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01408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84976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01408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95434-4C16-491E-BF41-EBBBE8FC7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0434E-35E9-4F65-BE8E-EDDF38429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5A563-A467-4936-8F19-A218E2CE6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47BD8-3B75-4A68-B956-D40694608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0210F-A300-474C-B895-14BC6850B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42A32-6550-4977-A133-E255910DB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293840" y="761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42F4F-9434-43EF-A2CC-90F0D82E6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F56C6-3256-4320-B294-E3AC810E5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C11DF-8F1C-4846-8980-88D504C6D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9657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5A2C9-3D11-4786-8037-984BE4AC9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F8553-CC44-45AA-A41F-5790AB1CB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60FD4-D3A1-4D6A-B9EC-D53D50AF8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9657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7FF9D-E795-4DCD-8BDC-0963BDBA8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84976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1408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284976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01408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BE116-F14C-4F1F-B002-BC1B591C0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B79F3-D8B7-41F0-9B7E-A625C5C35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C0DAE-CFD0-45C7-BA51-E2220D462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E8035-1D92-4A79-9156-1CB2C3DE7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293840" y="761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9AC3B-43DA-45C2-A994-3D8159DA7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632AE-494A-4B0F-A760-6017C69CF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9657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DFB22-85B2-4A57-8525-D10A903DA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52450-5EB7-4B13-BC65-4C959CA3C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EE20C-E046-4B12-BABC-34B4011ED602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38314-6905-4B68-AA05-15AB22E26859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52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66"/>
                </a:solidFill>
                <a:latin typeface="Times New Roman"/>
              </a:rPr>
              <a:t>Clase 25:</a:t>
            </a:r>
            <a:br>
              <a:rPr sz="4400"/>
            </a:br>
            <a:r>
              <a:rPr b="0" lang="es-MX" sz="4400" spc="-1" strike="noStrike">
                <a:solidFill>
                  <a:srgbClr val="ffcc66"/>
                </a:solidFill>
                <a:latin typeface="Times New Roman"/>
              </a:rPr>
              <a:t>Crecimiento Económico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Macroeconomía 2° Sem. de 2004                                 Hermann González B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52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66"/>
                </a:solidFill>
                <a:latin typeface="Times New Roman"/>
              </a:rPr>
              <a:t>Clase 25:</a:t>
            </a:r>
            <a:br>
              <a:rPr sz="4400"/>
            </a:br>
            <a:r>
              <a:rPr b="0" lang="es-MX" sz="4400" spc="-1" strike="noStrike">
                <a:solidFill>
                  <a:srgbClr val="ffcc66"/>
                </a:solidFill>
                <a:latin typeface="Times New Roman"/>
              </a:rPr>
              <a:t>Crecimiento Económico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Macroeconomía 2° Sem. de 2004                                 Hermann González B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6840" y="685440"/>
            <a:ext cx="83818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ffcc66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El crecimiento económico es el aumento sostenido del producto en una economí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ffcc66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Se mide como el aumento del </a:t>
            </a:r>
            <a:r>
              <a:rPr b="0" lang="es-MX" sz="2400" spc="-1" strike="noStrike" u="sng">
                <a:solidFill>
                  <a:srgbClr val="ffffff"/>
                </a:solidFill>
                <a:uFillTx/>
                <a:latin typeface="Times New Roman"/>
              </a:rPr>
              <a:t>PIB real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en un período dad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ffcc66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A continuación veremos un modelo que permite conocer los principales determinantes del crecimiento económic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ffcc66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Robert Solow, desarrolló un marco los principales factores que contribuyen al crecimiento económico, partiendo de una función de producció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croeconomía 2° Sem. de 2004                                 Hermann González B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56840" y="304560"/>
            <a:ext cx="83818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150000"/>
              </a:lnSpc>
              <a:spcBef>
                <a:spcPts val="550"/>
              </a:spcBef>
              <a:spcAft>
                <a:spcPts val="550"/>
              </a:spcAft>
              <a:buClr>
                <a:srgbClr val="ffcc66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Times New Roman"/>
              </a:rPr>
              <a:t>El producto, es una función del stock de capital (K), del trabajo (L) y de la tecnología (T): Q = T*F(K,L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-274320">
              <a:lnSpc>
                <a:spcPct val="150000"/>
              </a:lnSpc>
              <a:spcBef>
                <a:spcPts val="550"/>
              </a:spcBef>
              <a:spcAft>
                <a:spcPts val="550"/>
              </a:spcAft>
              <a:buClr>
                <a:srgbClr val="ffcc66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Times New Roman"/>
              </a:rPr>
              <a:t>De acuerdo a esta ecuación, el CE proviene de aumentos del capital, del trabajo o de progresos tecnológicos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-274320">
              <a:lnSpc>
                <a:spcPct val="150000"/>
              </a:lnSpc>
              <a:spcBef>
                <a:spcPts val="550"/>
              </a:spcBef>
              <a:spcAft>
                <a:spcPts val="550"/>
              </a:spcAft>
              <a:buClr>
                <a:srgbClr val="ffcc66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Times New Roman"/>
              </a:rPr>
              <a:t>Solow estableció que el crecimiento del producto (g) es igual a: dt/t + sL(dl/l) + sk(dk/k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-274320">
              <a:lnSpc>
                <a:spcPct val="150000"/>
              </a:lnSpc>
              <a:spcBef>
                <a:spcPts val="550"/>
              </a:spcBef>
              <a:spcAft>
                <a:spcPts val="550"/>
              </a:spcAft>
              <a:buClr>
                <a:srgbClr val="ffcc66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Times New Roman"/>
              </a:rPr>
              <a:t>Debido a la dificultad de estimar el progreso tecnológico, éste se obtiene indirectamente a partir de la diferencia entre el crecimiento del producto y el crecimiento ponderado del trabajo y el capital. Esta diferencia se conoce como </a:t>
            </a:r>
            <a:r>
              <a:rPr b="0" lang="es-MX" sz="2200" spc="-1" strike="noStrike" u="sng">
                <a:solidFill>
                  <a:srgbClr val="ffffff"/>
                </a:solidFill>
                <a:uFillTx/>
                <a:latin typeface="Times New Roman"/>
              </a:rPr>
              <a:t>residuo de Solow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0">
              <a:lnSpc>
                <a:spcPct val="150000"/>
              </a:lnSpc>
              <a:spcBef>
                <a:spcPts val="550"/>
              </a:spcBef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0">
              <a:lnSpc>
                <a:spcPct val="150000"/>
              </a:lnSpc>
              <a:spcBef>
                <a:spcPts val="550"/>
              </a:spcBef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0">
              <a:lnSpc>
                <a:spcPct val="150000"/>
              </a:lnSpc>
              <a:spcBef>
                <a:spcPts val="550"/>
              </a:spcBef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0">
              <a:lnSpc>
                <a:spcPct val="150000"/>
              </a:lnSpc>
              <a:spcBef>
                <a:spcPts val="550"/>
              </a:spcBef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croeconomía 2° Sem. de 2004                                 Hermann González B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56840" y="1981080"/>
            <a:ext cx="83818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5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ffff"/>
                </a:solidFill>
                <a:latin typeface="Times New Roman"/>
              </a:rPr>
              <a:t>El Modelo de Crecimiento de Solow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spcAft>
                <a:spcPts val="6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croeconomía 2° Sem. de 2004                                 Hermann González B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56840" y="685440"/>
            <a:ext cx="83818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ffcc66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El modelo de CE de Solow, toma como base la función de producción en términos per cápit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ffcc66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Para simplificar el modelo, supondremos que no hay cambios tecnológicos, de manera que el producto por trabajador (Q/L) es una función del capital por unidad de trabajo (K/L), es decir, la función de producción en términos per cápita se escribe como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 algn="ctr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q = f (k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ffcc66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Representación gráfic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>
              <a:lnSpc>
                <a:spcPct val="150000"/>
              </a:lnSpc>
              <a:spcBef>
                <a:spcPts val="550"/>
              </a:spcBef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>
              <a:lnSpc>
                <a:spcPct val="150000"/>
              </a:lnSpc>
              <a:spcBef>
                <a:spcPts val="550"/>
              </a:spcBef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croeconomía 2° Sem. de 2004                                 Hermann González B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456840" y="228240"/>
            <a:ext cx="83818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-2638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ffcc66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En una economía cerrada, el producto per cápita se puede dividir entre consumo e inversión per cápita: q = c + inv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3880" indent="-2638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ffcc66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El aumento de k es igual al monto de la inversión después de considerar la inversión que reemplaza el capital gastado y la inversión que contrarresta el aumento de la población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3880" indent="0" algn="ctr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dk = inv –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δk – nk   (1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3880" indent="-2638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ffcc66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 otras palabras, el aumento del stock de capital per cápita es igual a la inversión per cápita, menos la inversión necesaria para reemplazar el capital obsoleto y para compensar el aumento demográfic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3880" indent="0" algn="ctr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3880"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3880"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3880"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croeconomía 2° Sem. de 2004                                 Hermann González B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456840" y="228240"/>
            <a:ext cx="83818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ffcc66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Como sabemos, en una economía cerrada, el ahorro es igual a la inversión, además diremos que el ahorro es una fracción “s” del ingreso (por lo tanto, 1 – s es la fracción del igreso que se gast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57040" indent="-25704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ffcc66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Reemplazando esta identidad en la ecuación (1) tenemo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57040" indent="0" algn="ctr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k = sq – (n + δ)k     (2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57040" indent="-25704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ffcc66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posición de equilibrio de largo plazo de una economía se conoce como </a:t>
            </a:r>
            <a:r>
              <a:rPr b="0" lang="es-MX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estado estacionari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57040" indent="-25704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ffcc66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 este estado, el capital y el producto por trabajador alcanzan un valor de equilibrio y permanecen en ese nive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57040" indent="0" algn="ctr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57040"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57040"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57040"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croeconomía 2° Sem. de 2004                                 Hermann González B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6840" y="380880"/>
            <a:ext cx="83818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ffcc66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En EE dk = 0, por lo tanto la ecuación (2) queda como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 algn="ctr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q = (n + δ)k    (3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ffcc66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 EE, tanto el producto per cápita como el capital per cápita permanecen constantes (Recordar que q = f (k)), </a:t>
            </a:r>
            <a:r>
              <a:rPr b="0" lang="es-MX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pero tanto el producto total (Q), como el stock de capital total (K) crecen a la tasa 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ffcc66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to, porque si la población crece a la tasa n, la única forma de que las variables per cápita no crezcan, es que su nivel crezca igual que la població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 algn="ctr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croeconomía 2° Sem. de 2004                                 Hermann González B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6840" y="304560"/>
            <a:ext cx="83818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ffcc66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Representación gráfica y evolución hacia el E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ffcc66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2 Casos: cambios en la tasa de ahorro y crecimiento de la població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ffcc66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 u="sng">
                <a:solidFill>
                  <a:srgbClr val="ffffff"/>
                </a:solidFill>
                <a:uFillTx/>
                <a:latin typeface="Times New Roman"/>
              </a:rPr>
              <a:t>Elementos relevantes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: (i) aumento de </a:t>
            </a:r>
            <a:r>
              <a:rPr b="0" lang="es-MX" sz="2400" spc="-1" strike="noStrike" u="sng">
                <a:solidFill>
                  <a:srgbClr val="ffffff"/>
                </a:solidFill>
                <a:uFillTx/>
                <a:latin typeface="Times New Roman"/>
              </a:rPr>
              <a:t>s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no tiene efectos sobre el crecimiento de EE, sí hay efectos sobre el crecimiento per cápita en el CP y en el </a:t>
            </a:r>
            <a:r>
              <a:rPr b="0" lang="es-MX" sz="2400" spc="-1" strike="noStrike" u="sng">
                <a:solidFill>
                  <a:srgbClr val="ffffff"/>
                </a:solidFill>
                <a:uFillTx/>
                <a:latin typeface="Times New Roman"/>
              </a:rPr>
              <a:t>nivel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de las variables de E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ffcc66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(ii) Aumento de n produce caída de los </a:t>
            </a:r>
            <a:r>
              <a:rPr b="0" lang="es-MX" sz="2400" spc="-1" strike="noStrike" u="sng">
                <a:solidFill>
                  <a:srgbClr val="ffffff"/>
                </a:solidFill>
                <a:uFillTx/>
                <a:latin typeface="Times New Roman"/>
              </a:rPr>
              <a:t>niveles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de ingreso per cápita en EE (por caída de k), en cambio la tasa de crecimiento de EE es mayor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croeconomía 2° Sem. de 2004                                 Hermann González B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1T04:36:08Z</dcterms:created>
  <dc:creator> </dc:creator>
  <dc:description/>
  <dc:language>en-US</dc:language>
  <cp:lastModifiedBy> </cp:lastModifiedBy>
  <dcterms:modified xsi:type="dcterms:W3CDTF">2004-11-08T16:26:23Z</dcterms:modified>
  <cp:revision>750</cp:revision>
  <dc:subject/>
  <dc:title>Clase 2: Cuentas Nacionales</dc:title>
</cp:coreProperties>
</file>