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A35-1A1E-4110-8C68-D2F17D37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718-6BB4-4576-8BBD-84EEC65E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4E1-BFF7-43F3-B022-B927AEC9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EB7-B5C6-471C-9901-521D9805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38E-BE37-47A4-8149-9840CB2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1BE-94BD-434F-B4A5-3358E10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3D4-9E87-47F5-8E43-4FE7F341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A70-8896-4C3F-BDDF-0A108F2C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F88-9274-4D0F-8C44-D92872D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605-56B5-4D0E-AA22-349B755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973-727E-47EF-B564-C3C21E55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A77-16BA-4C47-95F5-CD9E8B4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DCF1-6DD1-4F9E-BBCA-E11FC2C4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341360"/>
            <a:ext cx="8315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4656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7080" y="2060640"/>
            <a:ext cx="36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080" y="366876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78400" y="4246560"/>
            <a:ext cx="7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51760" y="2060640"/>
            <a:ext cx="41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880" y="36687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86400" y="4246560"/>
            <a:ext cx="30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9-06T13:33:57Z</dcterms:modified>
  <cp:revision>68</cp:revision>
  <dc:subject/>
  <dc:title>Sin título de diapositiva</dc:title>
</cp:coreProperties>
</file>