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97975"/>
</p:presentation>
</file>

<file path=ppt/commentAuthors.xml><?xml version="1.0" encoding="utf-8"?>
<p:cmAuthorLst xmlns:p="http://schemas.openxmlformats.org/presentationml/2006/main">
  <p:cmAuthor id="0" name="lucarna15"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3.xml><?xml version="1.0" encoding="utf-8"?>
<p:cmLst xmlns:p="http://schemas.openxmlformats.org/presentationml/2006/main">
  <p:cm authorId="0" dt="2004-09-27T18:56:40.890000000" idx="1">
    <p:pos x="5323" y="2107"/>
    <p:text>En la Obra Publica, el Estado encarga la construccion de un inmueble a una empresa particular, de la cual se generan pagos periodicos por la obra, ya sea por plazo, por meta cumplida, etc. 
Estos son los flujos securitizables para la empresa constructor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A647C-7683-4F4B-B65F-955D96344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E3D5-9E84-49A7-9D16-044598A5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64B88-5EB6-4777-A9A9-BDEEB21DC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CB1FD-7157-4B2B-9BF9-C4030D61C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4845C-26A6-485A-8D8E-0F1519F29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E8ED58-6AD9-4A4F-9061-E22739B6D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16D41-AA50-46C1-9692-01D27A75B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3FA51-91A6-471F-BAA4-5790AD4F5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2741-D74C-4F8A-BFE6-7537471D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D86FC-8999-4F2F-823F-80009B64A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D76CF-A57E-453E-A2B8-480EA807F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33C74-2C7A-4F74-8708-F8E13AD21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63B10-B7D3-4C99-81CE-625A88F0A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BFFBA-681D-4D45-A3D4-2B6EA4528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79CF1-8234-4C36-AAD6-532DE568D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F306D-63C6-4534-88BD-F2BFD9140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6445C-21CD-40BB-A9E6-47004649F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27073-F920-474E-B591-3B0D76CD4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369F0-FD50-4F13-971E-A83A33CE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55613-FA7F-437D-954A-FC12B91E6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5FA47-B830-4B62-9C29-7384BEB84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8560-4675-4582-91FF-2953648D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8266A-DCAB-4013-8CF9-95BDAB863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6B6EE-36BE-47ED-8352-36AE1E551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13E7D-2568-41A7-9AB3-C4398C367F0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ACE5-ABD3-4EF3-8E26-2D38DEAD10F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792080"/>
            <a:ext cx="8229600" cy="14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ffff"/>
                </a:solidFill>
                <a:latin typeface="Arial"/>
              </a:rPr>
              <a:t>Derechos Sobre Flujos de Pago.</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rlos Jofre</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Gabriel Lizama</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atalia Nuñez</a:t>
            </a:r>
            <a:endParaRPr b="0" lang="en-US" sz="2400" spc="-1" strike="noStrike">
              <a:solidFill>
                <a:srgbClr val="ffffff"/>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oaquin Urra</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86800" y="-547416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81"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mportancia de la distinción:</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Como activos intangibles, los derechos sobre flujos de pago, tal vez asimilables al derecho de llaves o a una marca, sólo han sido consagrados expresamente como medio de financiamiento por la vía de la securitización, a diferencia de los créditos que por su certidumbre tienen un espectro más amplio para servir a tal fin. V.gr: factoring, cesión de créditos, descuento, etc.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83"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curitización de flujos futur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Venta </a:t>
            </a:r>
            <a:r>
              <a:rPr b="0" i="1" lang="es-ES" sz="2800" spc="-1" strike="noStrike">
                <a:solidFill>
                  <a:srgbClr val="ffffff"/>
                </a:solidFill>
                <a:latin typeface="Arial"/>
              </a:rPr>
              <a:t>forward </a:t>
            </a:r>
            <a:r>
              <a:rPr b="0" lang="es-ES" sz="2800" spc="-1" strike="noStrike">
                <a:solidFill>
                  <a:srgbClr val="ffffff"/>
                </a:solidFill>
                <a:latin typeface="Arial"/>
              </a:rPr>
              <a:t>de cuentas por cobrar en moneda dura, que se espera serán generadas en el futuro, a través de las operaciones normales del negocio”.</a:t>
            </a: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Steven Gandy y Jerome F. Festa.</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chos sobre flujos de pago</a:t>
            </a:r>
            <a:endParaRPr b="0" lang="en-US" sz="18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lujos de Pago en la LMV</a:t>
            </a:r>
            <a:endParaRPr b="0" lang="en-US" sz="36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 132:  Toda obligación existente o que se genere en el futuro de pagar una o mas sumas de dinero por la adquisición o el uso de bienes o por la prestación de servici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tre los activos securitizables se señal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Creditos y derechos sobre flujos de pago emanados d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bra publica constructora</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Obra de infraestructura publica</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ienes nacionales de uso publico</a:t>
            </a:r>
            <a:endParaRPr b="0" lang="en-US" sz="3200" spc="-1" strike="noStrike">
              <a:solidFill>
                <a:srgbClr val="ffffff"/>
              </a:solidFill>
              <a:latin typeface="Arial"/>
            </a:endParaRPr>
          </a:p>
          <a:p>
            <a:pPr marL="343080" indent="-34308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cesiones de estos bienes u obr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endParaRPr b="0" lang="en-US" sz="20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la Obra Publica, el Estado encarga la construcción de un inmueble a una empresa particular, de la cual se generan pagos periódicos por la obra, ya sea por plazo, por meta cumplida, etc.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tos son los flujos securitizables para la empres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 entenderá incluido dentro de la expresión “flujo de pago” todo </a:t>
            </a:r>
            <a:r>
              <a:rPr b="0" lang="en-US" sz="2800" spc="-1" strike="noStrike" u="sng">
                <a:solidFill>
                  <a:srgbClr val="ffffff"/>
                </a:solidFill>
                <a:uFillTx/>
                <a:latin typeface="Arial"/>
              </a:rPr>
              <a:t>flujo de caja</a:t>
            </a:r>
            <a:r>
              <a:rPr b="0" lang="en-US" sz="2800" spc="-1" strike="noStrike">
                <a:solidFill>
                  <a:srgbClr val="ffffff"/>
                </a:solidFill>
                <a:latin typeface="Arial"/>
              </a:rPr>
              <a:t> proveniente de:</a:t>
            </a:r>
            <a:endParaRPr b="0" lang="en-US" sz="28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jes  futuro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reso mínimo garantizado</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venciones</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echos emanados de las garantías cambiarias o de cobro</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ros flujos inherentes al contrato de concesión de obra publica, que se cree en el futur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nen la calidad de transferibles (art 135 inc. 2º)…</a:t>
            </a:r>
            <a:endParaRPr b="0" lang="en-US" sz="2800" spc="-1" strike="noStrike">
              <a:solidFill>
                <a:srgbClr val="ffffff"/>
              </a:solidFill>
              <a:latin typeface="Arial"/>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rechos</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éditos</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qué la ley distingue aquí entre “derechos” y “credito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los provenientes de fuentes distintas al contra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e necesaria la diferenciación? Art 132. se refiere a “toda obligacion” sin referirse a su fuent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ciones</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y LMV hace clasificaciones y esquemas que son odiosas, distinguiendo de los créditos y los derechos de los flujos, cuando económicamente TODOS GENERAN FLUJOS</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emos que la distinción se hace en cuanto a la determinación de la obligación</a:t>
            </a:r>
            <a:endParaRPr b="0" lang="en-US" sz="2400" spc="-1" strike="noStrike">
              <a:solidFill>
                <a:srgbClr val="ffffff"/>
              </a:solidFill>
              <a:latin typeface="Arial"/>
            </a:endParaRPr>
          </a:p>
        </p:txBody>
      </p:sp>
      <p:sp>
        <p:nvSpPr>
          <p:cNvPr id="196"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 que importa en si es el flujo de pago, sea este presente o futuro, cuya </a:t>
            </a:r>
            <a:r>
              <a:rPr b="0" lang="en-US" sz="2400" spc="-1" strike="noStrike" u="sng">
                <a:solidFill>
                  <a:srgbClr val="ffffff"/>
                </a:solidFill>
                <a:uFillTx/>
                <a:latin typeface="Arial"/>
              </a:rPr>
              <a:t>expectativa sea fundada</a:t>
            </a:r>
            <a:r>
              <a:rPr b="0" lang="en-US" sz="2400" spc="-1" strike="noStrike">
                <a:solidFill>
                  <a:srgbClr val="ffffff"/>
                </a:solidFill>
                <a:latin typeface="Arial"/>
              </a:rPr>
              <a:t> económicamente, ya que jurídicamente no  ofrece seguridad alguna de existenci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ra de cosa futura?: bajo condición de que exista o se entiende por la naturaleza del contrato que se compra la suerte?.  Art 1813 CC</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SECURITIZACION NO ES VIABLE SI SE ENTIENDE QUE SE REALIZA BAJO CONDICION DE ENTERAR EL FLUJO ESTIM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ujos de pago en los siguientes cas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conces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suministro: </a:t>
            </a:r>
            <a:r>
              <a:rPr b="0" lang="en-US" sz="3200" spc="-1" strike="noStrike">
                <a:solidFill>
                  <a:srgbClr val="ffffff"/>
                </a:solidFill>
                <a:latin typeface="Arial"/>
              </a:rPr>
              <a:t>	</a:t>
            </a:r>
            <a:r>
              <a:rPr b="0" lang="en-US" sz="3200" spc="-1" strike="noStrike">
                <a:solidFill>
                  <a:srgbClr val="ffffff"/>
                </a:solidFill>
                <a:latin typeface="Arial"/>
              </a:rPr>
              <a:t>Servicios básic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rédito proveed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franquic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68360"/>
            <a:ext cx="77724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ffffff"/>
                </a:solidFill>
                <a:latin typeface="Arial"/>
              </a:rPr>
              <a:t>Definición de Flujos de Pago.</a:t>
            </a:r>
            <a:br>
              <a:rPr sz="4000"/>
            </a:br>
            <a:r>
              <a:rPr b="0" lang="es-ES_tradnl" sz="4000" spc="-1" strike="noStrike">
                <a:solidFill>
                  <a:srgbClr val="ffffff"/>
                </a:solidFill>
                <a:latin typeface="Arial"/>
              </a:rPr>
              <a:t>Concepto económico:</a:t>
            </a:r>
            <a:endParaRPr b="0" lang="en-US" sz="4000" spc="-1" strike="noStrike">
              <a:solidFill>
                <a:srgbClr val="ffffff"/>
              </a:solidFill>
              <a:latin typeface="Arial"/>
            </a:endParaRPr>
          </a:p>
        </p:txBody>
      </p:sp>
      <p:sp>
        <p:nvSpPr>
          <p:cNvPr id="165" name="PlaceHolder 2"/>
          <p:cNvSpPr>
            <a:spLocks noGrp="1"/>
          </p:cNvSpPr>
          <p:nvPr>
            <p:ph/>
          </p:nvPr>
        </p:nvSpPr>
        <p:spPr>
          <a:xfrm>
            <a:off x="456840" y="2244600"/>
            <a:ext cx="7745400" cy="2959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
            </a:r>
            <a:r>
              <a:rPr b="0" lang="es-ES_tradnl" sz="3200" spc="-1" strike="noStrike">
                <a:solidFill>
                  <a:srgbClr val="ffffff"/>
                </a:solidFill>
                <a:latin typeface="Arial"/>
              </a:rPr>
              <a:t>Efectivo neto y real que se genera en una empresa durante un período de tiempo específico, como consecuencia de sus operaciones normal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racterísticas  Comu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tación indeterminada en cuanto a:</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udor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ont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itulo es antecedente remoto de la prestación securitiza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trato de Suministr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rt 2º Ley 19886:  es el que tiene por objeto la compra o el arrendamiento, incluso con opción de compra, de productos o bienes muebl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é y por que se securitiz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pagos periódicos que generan.</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eguridad que otorga el Estado como deudor</a:t>
            </a:r>
            <a:endParaRPr b="0" lang="en-US" sz="2800" spc="-1" strike="noStrike">
              <a:solidFill>
                <a:srgbClr val="ffffff"/>
              </a:solidFill>
              <a:latin typeface="Arial"/>
            </a:endParaRPr>
          </a:p>
          <a:p>
            <a:pPr marL="343080" indent="-343080">
              <a:spcBef>
                <a:spcPts val="700"/>
              </a:spcBef>
              <a:buClr>
                <a:srgbClr val="86d1e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rasos en sus pag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ranquici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un proceso en el que existe una colaboracion conjunto entre empresas, donde se comercializan productos, servicio y/o tecnología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trato de Franquici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el documento donde constan las obligaciones del franquiciador y el franquiciante</a:t>
            </a:r>
            <a:endParaRPr b="0" lang="en-US" sz="3200" spc="-1" strike="noStrike">
              <a:solidFill>
                <a:srgbClr val="ffffff"/>
              </a:solidFill>
              <a:latin typeface="Arial"/>
            </a:endParaRPr>
          </a:p>
        </p:txBody>
      </p:sp>
      <p:sp>
        <p:nvSpPr>
          <p:cNvPr id="207" name=""/>
          <p:cNvSpPr/>
          <p:nvPr/>
        </p:nvSpPr>
        <p:spPr>
          <a:xfrm>
            <a:off x="853920" y="4957920"/>
            <a:ext cx="438480" cy="57924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JEMPLO:  Locales de Fast Foo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El franquiciante, entre sus obligaciones, debe pagar un porcentaje de sus ventas al franquiciador.  El porcentaje es variable, con ciertos márgen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s securitizable según la LM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to de concesión</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 39 DFL MOP nº 164 de 1991</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e entendera por obra publica fiscal a cualquier bien inmueble construido, reparado o conservado a cambio de la concesion temporal de su explotacion o sobre bienes nacionales de uso publico o fiscales destinados a desarrollar areas de servicio”</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ecuritizacion de Ventas al Retai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5" name="PlaceHolder 2"/>
          <p:cNvSpPr>
            <a:spLocks noGrp="1"/>
          </p:cNvSpPr>
          <p:nvPr>
            <p:ph/>
          </p:nvPr>
        </p:nvSpPr>
        <p:spPr>
          <a:xfrm>
            <a:off x="457200" y="1599840"/>
            <a:ext cx="807552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ecuritizacion de Matricul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so de la Universidad de Concep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erechos sobre flujos de pago de matriculas y aporte fiscal directo (af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ementos a considerar en cuanto a los flujos</a:t>
            </a:r>
            <a:endParaRPr b="0" lang="en-US" sz="2400" spc="-1" strike="noStrike">
              <a:solidFill>
                <a:srgbClr val="ffffff"/>
              </a:solidFill>
              <a:latin typeface="Arial"/>
            </a:endParaRPr>
          </a:p>
          <a:p>
            <a:pPr marL="343080" indent="-343080">
              <a:lnSpc>
                <a:spcPct val="90000"/>
              </a:lnSpc>
              <a:spcBef>
                <a:spcPts val="349"/>
              </a:spcBef>
              <a:buSzPct val="21168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onsideración de la Universidad</a:t>
            </a:r>
            <a:endParaRPr b="0" lang="en-US" sz="1400" spc="-1" strike="noStrike">
              <a:solidFill>
                <a:srgbClr val="ffffff"/>
              </a:solidFill>
              <a:latin typeface="Arial"/>
            </a:endParaRPr>
          </a:p>
          <a:p>
            <a:pPr marL="343080" indent="-343080">
              <a:lnSpc>
                <a:spcPct val="90000"/>
              </a:lnSpc>
              <a:spcBef>
                <a:spcPts val="349"/>
              </a:spcBef>
              <a:buSzPct val="21168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umento de alumnos</a:t>
            </a:r>
            <a:endParaRPr b="0" lang="en-US" sz="1400" spc="-1" strike="noStrike">
              <a:solidFill>
                <a:srgbClr val="ffffff"/>
              </a:solidFill>
              <a:latin typeface="Arial"/>
            </a:endParaRPr>
          </a:p>
          <a:p>
            <a:pPr marL="343080" indent="-343080">
              <a:lnSpc>
                <a:spcPct val="90000"/>
              </a:lnSpc>
              <a:spcBef>
                <a:spcPts val="349"/>
              </a:spcBef>
              <a:buSzPct val="21168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umento AFD</a:t>
            </a:r>
            <a:endParaRPr b="0" lang="en-US" sz="1400" spc="-1" strike="noStrike">
              <a:solidFill>
                <a:srgbClr val="ffffff"/>
              </a:solidFill>
              <a:latin typeface="Arial"/>
            </a:endParaRPr>
          </a:p>
          <a:p>
            <a:pPr marL="343080" indent="-343080">
              <a:lnSpc>
                <a:spcPct val="90000"/>
              </a:lnSpc>
              <a:spcBef>
                <a:spcPts val="349"/>
              </a:spcBef>
              <a:buSzPct val="21168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aticipacion en el mercado Universitario</a:t>
            </a:r>
            <a:endParaRPr b="0" lang="en-US" sz="1400" spc="-1" strike="noStrike">
              <a:solidFill>
                <a:srgbClr val="ffffff"/>
              </a:solidFill>
              <a:latin typeface="Arial"/>
            </a:endParaRPr>
          </a:p>
          <a:p>
            <a:pPr marL="343080" indent="-343080">
              <a:lnSpc>
                <a:spcPct val="90000"/>
              </a:lnSpc>
              <a:spcBef>
                <a:spcPts val="349"/>
              </a:spcBef>
              <a:buSzPct val="21168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spaldo Lotería de Concepción</a:t>
            </a:r>
            <a:endParaRPr b="0" lang="en-US" sz="1400" spc="-1" strike="noStrike">
              <a:solidFill>
                <a:srgbClr val="ffffff"/>
              </a:solidFill>
              <a:latin typeface="Arial"/>
            </a:endParaRPr>
          </a:p>
          <a:p>
            <a:pPr marL="343080" indent="-343080">
              <a:lnSpc>
                <a:spcPct val="90000"/>
              </a:lnSpc>
              <a:spcBef>
                <a:spcPts val="349"/>
              </a:spcBef>
              <a:buSzPct val="21168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ados Financieros</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rechos sobre flujos de pago</a:t>
            </a:r>
            <a:endParaRPr b="0" lang="en-US" sz="20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oblemas: Aunque económicamente puede ser viable la securitizacion, jurídicamente es discutible su procedencia, en relación con los activos securitizables que señala la LMV, ya que no tiene un titulo que lo sustente como antecedente, es la expectativa mas incierta de todos los casos que hemos vis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Originadores de flujos de pago.</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réditos hipotecario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atos de arrendamiento Leas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uentas por cobra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ratos de concesió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ranquicia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591400" y="-5172480"/>
            <a:ext cx="684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6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	</a:t>
            </a:r>
            <a:r>
              <a:rPr b="0" lang="es-ES" sz="3200" spc="-1" strike="noStrike">
                <a:solidFill>
                  <a:srgbClr val="ffffff"/>
                </a:solidFill>
                <a:latin typeface="Arial"/>
              </a:rPr>
              <a:t>El legislador al definir el concepto de flujos de pago utiliza un concepto amplio, abarcando tanto el concepto de crédito como el de flujos de pago “indeterminado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lujos de pago (art. 132 L.M.V.)</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Toda obligación existente o que se genere en el futuro, de pagar una o más sumas de dinero por la adquisición o uso de bienes o por la prestación de servicios”.</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1"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 oposición tenemos otro concepto que la ley distingue del ya señalado:</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édito (art. 578 C. Civil)</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recho personal o crédito son los que sólo pueden reclamarse de ciertas personas que, por un hecho suyo o la sola disposición de la ley, han contraído las obligaciones correlativas;como el que tiene el prestamista contra su deudor por el dinero prestado, o el hijo contra su padre por alimentos. De estos derechos nacen las acciones personales”.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9308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3"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rt. 135, inc. Primero, L.M.V.</a:t>
            </a:r>
            <a:endParaRPr b="0" lang="en-US" sz="3200" spc="-1" strike="noStrike">
              <a:solidFill>
                <a:srgbClr val="ffffff"/>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Para los efectos de este título se entenderán incluidos dentro de la expresión flujos de pagos, todo flujo de caja proveniente de peajes futuros, del ingreso mínimo garantizado, de las subvenciones, de los derechos emanados de las garantías cambiarias o de cobro; y todo otro flujo de pago inherente al contrato de concesión de obra pública…”</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567280" y="-5185800"/>
            <a:ext cx="63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5"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álisis de los contratos en cuanto a su certidumbre, es decir, a factores com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to exigibilidad,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jeto pasivo y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rantías de las que responde el acreedor ced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459280" y="-543816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reale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de tracto sucesivo</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tos de ejecución diferi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n flujos de pag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quicia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venciones </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gresos mínimos garantizad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n flujos de pago?</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686440" y="-543816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ff"/>
              </a:solidFill>
              <a:latin typeface="Arial"/>
            </a:endParaRPr>
          </a:p>
        </p:txBody>
      </p:sp>
      <p:sp>
        <p:nvSpPr>
          <p:cNvPr id="179"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istinción entre los flujos de pag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réditos (rtas. de arrend., mutuo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ujos de caja futuros (franquicia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lujos de caja eventuales ( matrícul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6:30:36Z</dcterms:created>
  <dc:creator>lucarna11</dc:creator>
  <dc:description/>
  <dc:language>en-US</dc:language>
  <cp:lastModifiedBy>Octavio Bofill G.</cp:lastModifiedBy>
  <dcterms:modified xsi:type="dcterms:W3CDTF">2004-09-29T00:31:49Z</dcterms:modified>
  <cp:revision>9</cp:revision>
  <dc:subject/>
  <dc:title>Diapositiva 1</dc:title>
</cp:coreProperties>
</file>