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092-0282-4C7C-B47E-7E81157C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84C-96BD-4746-B132-E8A24547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489-8711-4857-A818-673F8242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651-1FE2-4E2B-AAEF-DE72356C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EFA0-A49C-43BE-B3C1-59EBF604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4BAF-6640-4CED-A480-AE3DFE2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7C9D-CCAB-4A49-AEB7-530F0F66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B0B2-6165-48FB-87FA-88BF8124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F3FA-1797-486C-B15C-E861BD59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DAA8-3E7A-4823-B78E-7CEA709F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7EE7-069C-464D-9344-5654E5F0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567-FBC4-4183-A7A4-FF37D5D5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682C-74CD-44E4-8B05-FF6D7D2A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3F46-7E20-4396-8987-EB30BF0A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3795-52D8-48A4-B611-69C93A30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3CE6-A771-4B6E-A797-108FB1B1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459A-566D-4928-8DAD-7DA95515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80C-0B9D-4D5C-888D-8FE11BCF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531-41E8-4A83-86BD-6A38EC22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20D-4039-4A3E-A92C-52E8BAD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335-BB55-4E42-8FF1-ADD53A6A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6FD-8EBA-46F9-B838-1E0B1BA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5CB-5951-4F84-B82B-99F5AA6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351-522D-412E-9F94-DC8E2D1A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BC8D-0033-469C-91B4-2F4898BBF5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F6B3-504E-45AD-A8FC-5290B1EFBF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0000" y="404640"/>
            <a:ext cx="83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POST GUERRA F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ANSIÓN AGENDA DE DERECHOS HUMANOS Y TEMAS A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72640" y="1719360"/>
            <a:ext cx="4709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ción a la democra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sticia Penal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evo Impulso a temas 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84800" y="3548160"/>
            <a:ext cx="556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de la mujer, de pueblos indígen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niño, de discapacitados, etc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económicos, sociales y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4320" y="5157720"/>
            <a:ext cx="79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ia de movimiento pro transparencia y probidad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contra  la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43280" y="692280"/>
            <a:ext cx="496872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0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270828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7082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33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3357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4005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4005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4653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465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5229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522936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80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5805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64533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6920" y="2060640"/>
            <a:ext cx="7207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36360" y="5157720"/>
            <a:ext cx="92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5516640"/>
            <a:ext cx="216036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5516640"/>
            <a:ext cx="208764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5373720"/>
            <a:ext cx="223200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50920" y="2205000"/>
            <a:ext cx="576000" cy="374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2276640"/>
            <a:ext cx="86364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2060640"/>
            <a:ext cx="7192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08000" y="2276640"/>
            <a:ext cx="43200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59280" y="2276640"/>
            <a:ext cx="93636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2060640"/>
            <a:ext cx="93636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32000" y="2349360"/>
            <a:ext cx="64800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2276640"/>
            <a:ext cx="647640" cy="35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80000" y="2060640"/>
            <a:ext cx="93672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32360" y="5661000"/>
            <a:ext cx="2160720" cy="7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32000" y="2276640"/>
            <a:ext cx="6476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2349360"/>
            <a:ext cx="576360" cy="374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4360" y="5300640"/>
            <a:ext cx="16574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2133720"/>
            <a:ext cx="865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64360" y="2349360"/>
            <a:ext cx="287280" cy="331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17080" y="2276640"/>
            <a:ext cx="502920" cy="33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6524640"/>
            <a:ext cx="1565280" cy="318960"/>
          </a:xfrm>
          <a:custGeom>
            <a:avLst/>
            <a:gdLst/>
            <a:ahLst/>
            <a:rect l="l" t="t" r="r" b="b"/>
            <a:pathLst>
              <a:path w="986" h="201">
                <a:moveTo>
                  <a:pt x="0" y="201"/>
                </a:moveTo>
                <a:cubicBezTo>
                  <a:pt x="67" y="103"/>
                  <a:pt x="221" y="82"/>
                  <a:pt x="333" y="61"/>
                </a:cubicBezTo>
                <a:cubicBezTo>
                  <a:pt x="459" y="65"/>
                  <a:pt x="881" y="0"/>
                  <a:pt x="986" y="20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41400" y="5405400"/>
            <a:ext cx="549360" cy="1289160"/>
          </a:xfrm>
          <a:custGeom>
            <a:avLst/>
            <a:gdLst/>
            <a:ahLst/>
            <a:rect l="l" t="t" r="r" b="b"/>
            <a:pathLst>
              <a:path w="346" h="812">
                <a:moveTo>
                  <a:pt x="0" y="0"/>
                </a:moveTo>
                <a:cubicBezTo>
                  <a:pt x="73" y="12"/>
                  <a:pt x="131" y="35"/>
                  <a:pt x="192" y="77"/>
                </a:cubicBezTo>
                <a:cubicBezTo>
                  <a:pt x="229" y="131"/>
                  <a:pt x="271" y="176"/>
                  <a:pt x="308" y="230"/>
                </a:cubicBezTo>
                <a:cubicBezTo>
                  <a:pt x="312" y="243"/>
                  <a:pt x="316" y="256"/>
                  <a:pt x="320" y="269"/>
                </a:cubicBezTo>
                <a:cubicBezTo>
                  <a:pt x="328" y="294"/>
                  <a:pt x="346" y="345"/>
                  <a:pt x="346" y="345"/>
                </a:cubicBezTo>
                <a:cubicBezTo>
                  <a:pt x="336" y="497"/>
                  <a:pt x="339" y="675"/>
                  <a:pt x="167" y="729"/>
                </a:cubicBezTo>
                <a:cubicBezTo>
                  <a:pt x="105" y="770"/>
                  <a:pt x="83" y="812"/>
                  <a:pt x="26" y="7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1052640"/>
            <a:ext cx="172728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5950080"/>
            <a:ext cx="50418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850920" y="1341360"/>
            <a:ext cx="1873080" cy="489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51640" y="1413000"/>
            <a:ext cx="1441440" cy="48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765000"/>
            <a:ext cx="302400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5445000"/>
            <a:ext cx="5689440" cy="11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112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331640" y="1125360"/>
            <a:ext cx="647640" cy="475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03640" y="1125360"/>
            <a:ext cx="1944720" cy="49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834200" y="33336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TICA POLÍTICA: DISTINTOS TIEM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5400" y="1119240"/>
            <a:ext cx="69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s: Estado – nación moderno, sistema democr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1320" y="2127240"/>
            <a:ext cx="57844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EMPO FUNDACIONAL O CONSTITU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empo históricamente concent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ceso histórico y momento m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ncipios fund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itución Polí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67640" y="404640"/>
            <a:ext cx="80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FUNCIONAMIENTO SUSTENTABLE DEL 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RÍDICO -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4200" y="1622520"/>
            <a:ext cx="64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ES CUESTIONES DE ÉTICA POLÍT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25880" y="2108160"/>
            <a:ext cx="720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– ab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idad vs.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dad de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íticas públicas de largo alcance: justicia social, igual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4941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5440" y="5373720"/>
            <a:ext cx="25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do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9080" y="333360"/>
            <a:ext cx="85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CRISIS QUE PONEN EN PELIGRO LA SUBSIS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 O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200" y="141300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polít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13372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9320" y="2708280"/>
            <a:ext cx="33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ímenes de Exce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yes de Guerra (DI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760" y="4221000"/>
            <a:ext cx="67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.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RECONSTRUCCIÓN O REFUND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93400" y="4797360"/>
            <a:ext cx="427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aboración ético – jurídica en ges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ado – presente – fut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57200" y="47628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O POST 11/9/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5760" y="1576440"/>
            <a:ext cx="786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ual reordenamiento orden m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unip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finiciones de concepto de seguridad y de amenazas a la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tos de redefinición de conflicto armado y de derecho humani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ricciones adicionales a ciertos derec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47440" y="307800"/>
            <a:ext cx="75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OLUCION HISTORICA DE LA NORMATIVA DE DEREC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91960" y="1268280"/>
            <a:ext cx="6248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históricos remotos (pr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amentación filosófica (a partir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itivación (a partir fin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tensión o generalización (a partir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ansión (a partir mediados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acionalización (decididamente, a partir 19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pecificación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puestos derechos colectivos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lso a justicia internacional ( a partir años 8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77080" y="40464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TROS CRITERIOS SOBRE EVOLU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ÓRICA DE LOS DD.H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280" y="1766880"/>
            <a:ext cx="49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s de documentos en que const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30720" y="2440080"/>
            <a:ext cx="506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uerdos histór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araciones fund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tituciones y le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tados y otros instrumentos inter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32600" y="495360"/>
            <a:ext cx="52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quién se exige cumpl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1360440"/>
            <a:ext cx="724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mona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 y de la comunidad inter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entes no esta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79640" y="620640"/>
            <a:ext cx="47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”GENERACIONES” DE DERECH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1480" y="1484280"/>
            <a:ext cx="853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ª. Civiles y políticos  (incluidos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ª. Derechos Económicos Sociales y Culturales, DESC (par algunos, la 2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n. =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ª.   - Derechos de especificación, o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 Derechos cole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Para algunos, los DESC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7280" y="471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1320" y="1073160"/>
            <a:ext cx="1863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rmati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14172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0" y="335772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AL VS, E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414972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4118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MENSIONES DE LA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5120" y="4941720"/>
            <a:ext cx="466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SOCIAL, POSITIVA O VI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NORM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AUTÓN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35280" y="1844640"/>
            <a:ext cx="3024000" cy="316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1989000"/>
            <a:ext cx="3240360" cy="302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4000" y="29844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55640" y="47628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ORÍAS DE ÉTICA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1125360"/>
            <a:ext cx="25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ONT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8560" y="244008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USTO – CORRECTO, VS. ÚLTIMAMENTE BUE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314172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50760" y="352116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S POSIBLE JUSTIFICAR RACIONALMENTE LOS JUI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65300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6200" y="496080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UNAS LIMITACIONES DE LAS NORMAS PRESCRIP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9280" y="5445000"/>
            <a:ext cx="17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22:15:48Z</dcterms:created>
  <dc:creator>carolina</dc:creator>
  <dc:description/>
  <dc:language>en-US</dc:language>
  <cp:lastModifiedBy>carolina</cp:lastModifiedBy>
  <dcterms:modified xsi:type="dcterms:W3CDTF">2004-08-10T16:22:26Z</dcterms:modified>
  <cp:revision>20</cp:revision>
  <dc:subject/>
  <dc:title>Diapositiva 1</dc:title>
</cp:coreProperties>
</file>