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2A0-0F8B-4722-BB4D-14C41659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3B9-5568-40E1-979F-BD550F4C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D9F-0FAA-4665-A16F-1292DD04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092-CA7B-455C-8A35-F1782CF2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40B2-3BC0-4D91-BAC3-41273FA3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AE38-C0CC-4FF3-8AFA-CAD813AD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A10E-83CA-4850-8C76-55AAD50E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E230-F5FF-4976-86B0-FE5C71A1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7F53-C93D-423A-B56F-6C6506E2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3AA9-76E7-4D01-AE65-B1E14C0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145C-226D-4FF4-9B08-9D0FB8A3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21B-A418-439B-9E08-8AABED26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9E16-6194-4B5E-B0ED-656F085C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2EAB-219E-4C66-B6CC-D3E3EDBB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183B-68A1-4853-A3FD-291DC284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D1DE-BC41-4748-B695-45DBD259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8519-5524-4E0A-B887-B19C1A5A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0C0-3342-4D5B-8D38-CD4E9F5C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BF6-0462-43DC-8F05-6498762E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63B-CA80-4818-AFCD-191161F0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995-105D-4E1C-B9CD-7F8018F6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757-696F-46F2-B313-E42BA54A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C65-D4BB-4B58-A754-B8BAA3FA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9FB-1B2E-4560-A843-9460697E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EDF2-C059-4A27-AA32-F50CFC3B2CE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0B78-86B9-4D85-A563-A2C0DB3551D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93400" y="47628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US AD BEL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200" y="1197000"/>
            <a:ext cx="8367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derecho a recurrir a la guerra o Teorías de la Guerr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materia generalmente ajena al derecho internacion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a por filósofos, moralistas y publicis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incorpora al D. Internacional como un “Ius Contra Bellu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o de París (Pacto Kellog-Briand, de 192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ta de ONU, Cap. V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leo de fuerza con fines defens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torización por parte del Consejo de Seguridad de la ONU pa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guardar o restablecer la pa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907920"/>
            <a:ext cx="72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ATE ETICO-POLÍTICO SOBRE LEGITIM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INTERVENCION HUMANI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8240" y="2349360"/>
            <a:ext cx="3877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ridad legí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a Inten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cesidad o “último recurs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45320" y="614520"/>
            <a:ext cx="32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, por extensión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840" y="1406520"/>
            <a:ext cx="486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belión armada contra el gobie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so a la fuerza entre parti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4120" y="3495600"/>
            <a:ext cx="72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 por analogía a medidas extremas que no supo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97400" y="404640"/>
            <a:ext cx="583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ONES PARA DEBATE SOBR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ERRA ANTI-TERRORIST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3760" y="1989000"/>
            <a:ext cx="8368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EMENTOS DEL CONCEPTO DE “TERRORISM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so o amenaza de uso de la fuer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lanco:  civiles o uso de la fuerza de modo indiscri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jetivo político – ideo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úsqueda de efecto político por medios indirectos que provoqu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ilitamiento o sobrerreacción del Est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pel esencial de la publ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63240" y="974880"/>
            <a:ext cx="654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ORISMO” COMO NOCIÓN APLICADA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o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os u organizaciones o Estados (“terrorista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rategias o guer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02080" y="404640"/>
            <a:ext cx="55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TIVA ANTITERROR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7840" y="1406520"/>
            <a:ext cx="835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tratados internacionales, entre ell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estro de aeronaves (19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ímenes contra personas internacionalmente protegidas (197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a de rehenes (197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ción de material nuclear (19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bombas y explosivos en lugares públicos (199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miento del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dos regionales (Europa, América, mundo árab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nción Interamericana Contra el Terrorismo (3.6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04640" y="1364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ANTES NORM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4040" y="836640"/>
            <a:ext cx="8818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umerar actos terr., no definir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blecer obligaciones de tipifi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ón de adoptar medidas de prevención, castigo y errad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ones especiales respecto de financiamiento y lavado de 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policial, fronteriza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gar al terrorismo carácter de crimen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permite invocar estatus de refugiado o asilado (extradición es siemp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99200" y="333360"/>
            <a:ext cx="43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NUEVO TERRORISM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800" y="1550880"/>
            <a:ext cx="4063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ertado dentro de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es intern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bicu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 capacidad de devas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73720" y="476280"/>
            <a:ext cx="53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GUERRA ANTITERRORIS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7200" y="1479600"/>
            <a:ext cx="7189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preventi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anticipator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uración ilimitad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Redefinición de principios o reglas de Derecho Humanitari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6:07:14Z</dcterms:created>
  <dc:creator>carolina</dc:creator>
  <dc:description/>
  <dc:language>en-US</dc:language>
  <cp:lastModifiedBy>jzalaq</cp:lastModifiedBy>
  <dcterms:modified xsi:type="dcterms:W3CDTF">2004-10-06T20:01:53Z</dcterms:modified>
  <cp:revision>5</cp:revision>
  <dc:subject/>
  <dc:title>Diapositiva 1</dc:title>
</cp:coreProperties>
</file>