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D670-F237-4C72-AA1D-B4A80523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138F-BF33-45C1-A7DB-B38D62AB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D56D-23F6-4AC6-BD38-5B5907ED9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38B5-8282-4722-B808-5F3126537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EC8D-5FCB-4D1D-9346-97939FA8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8B8E-B2B8-4AAB-8802-A9747969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C441-F238-4555-83E5-3DBD697B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7B2A-BC70-46D0-AF85-25C4AA85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C3D8-50D9-472C-93C4-2F07632D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09F8-836A-470B-93CC-7D51D8B1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CE3A-1E81-4672-83BA-FB878BD8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3EE3-ADF5-4A3C-B7AF-A8326207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2EDA-6E57-4FB5-974D-8E238F8A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0230-71C5-4773-87DC-BA2E230C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F53F-0E63-4684-B578-AB11979F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BD0F-9213-45ED-81B0-2117182E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13C1-C132-4A2E-9DC2-11A746519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A6A9-EE9B-474A-A3C8-51FBB65D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1B3C-BBFF-4180-8A44-C18E3EEC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B68C-7522-4D6F-9A89-1B9831A5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22DB-93E8-4F54-AC3F-6FA4C47B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0052-7306-4C12-937F-1F90F5A2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BFAA-AFAB-40DC-B995-FF5AE271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1697-2D5A-458F-81ED-C023DA36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56B9-D38C-4E94-A21E-BE689487FAD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59B6-A146-42BC-B926-5F80FBBD27C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993400" y="47628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US AD BELL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5200" y="1197000"/>
            <a:ext cx="83671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derecho a recurrir a la guerra o Teorías de la Guerra ju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ue materia generalmente ajena al derecho internacional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tada por filósofos, moralistas y publicist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incorpora al D. Internacional como un “Ius Contra Bellum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tado de París (Pacto Kellog-Briand, de 192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rta de ONU, Cap. V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xcep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mpleo de fuerza con fines defens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utorización por parte del Consejo de Seguridad de la ONU par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sguardar o restablecer la paz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39640" y="907920"/>
            <a:ext cx="722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BATE ETICO-POLÍTICO SOBRE LEGITIM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 INTERVENCION HUMANIT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78240" y="2349360"/>
            <a:ext cx="3877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oridad legíti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usa Ju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ta Inten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cesidad o “último recurso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porciona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45320" y="614520"/>
            <a:ext cx="329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licación, por extensión 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0840" y="1406520"/>
            <a:ext cx="4868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belión armada contra el gobier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o de la Fuerza púb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urso a la fuerza entre particula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4120" y="3495600"/>
            <a:ext cx="723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licación por analogía a medidas extremas que no supong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o de la fuerz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697400" y="404640"/>
            <a:ext cx="583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CIONES PARA DEBATE SOBRE L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ERRA ANTI-TERRORIST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3760" y="1989000"/>
            <a:ext cx="8368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LEMENTOS DEL CONCEPTO DE “TERRORISMO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so o amenaza de uso de la fuer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lanco:  civiles o uso de la fuerza de modo indiscrimin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jetivo político – ideológ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úsqueda de efecto político por medios indirectos que provoqu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bilitamiento o sobrerreacción del Estad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pel esencial de la public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63240" y="974880"/>
            <a:ext cx="6547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RRORISMO” COMO NOCIÓN APLICADA 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o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upos u organizaciones o Estados (“terroristas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rategias o guer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702080" y="404640"/>
            <a:ext cx="55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RMATIVA ANTITERRORI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7840" y="1406520"/>
            <a:ext cx="835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tratados internacionales, entre ell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uestro de aeronaves (197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ímenes contra personas internacionalmente protegidas (197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ma de rehenes (197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ección de material nuclear (198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o de bombas y explosivos en lugares públicos (199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nciamiento del Terro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tados regionales (Europa, América, mundo árab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vención Interamericana Contra el Terrorismo (3.6.200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204640" y="136440"/>
            <a:ext cx="51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ANTES NORMATIV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-14040" y="836640"/>
            <a:ext cx="88182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umerar actos terr., no definir terro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ablecer obligaciones de tipific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ligación de adoptar medidas de prevención, castigo y erradic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ligaciones especiales respecto de financiamiento y lavado de dine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operación policial, fronteriza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egar al terrorismo carácter de crimen polí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o permite invocar estatus de refugiado o asilado (extradición es siemp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osib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Jurisdicción univers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699200" y="333360"/>
            <a:ext cx="43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NUEVO TERRORISM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6800" y="1550880"/>
            <a:ext cx="40636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ertado dentro de es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es internacio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bicu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i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n capacidad de devast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773720" y="476280"/>
            <a:ext cx="538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GUERRA ANTITERRORIST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27200" y="1479600"/>
            <a:ext cx="7189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Defensa preventiv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Defensa anticipatori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Duración ilimitad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Redefinición de principios o reglas de Derecho Humanitari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6:07:14Z</dcterms:created>
  <dc:creator>carolina</dc:creator>
  <dc:description/>
  <dc:language>en-US</dc:language>
  <cp:lastModifiedBy>jzalaq</cp:lastModifiedBy>
  <dcterms:modified xsi:type="dcterms:W3CDTF">2004-10-06T20:01:53Z</dcterms:modified>
  <cp:revision>5</cp:revision>
  <dc:subject/>
  <dc:title>Diapositiva 1</dc:title>
</cp:coreProperties>
</file>