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C313-0D7A-4139-8D83-42E55907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AB1F-6560-4FA9-96FC-A8DD94F8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0E62-F6BC-421E-BCB7-A45328BA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667E-180B-40FF-ADA7-AB87EFC7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C2A0-0942-40C1-B2EB-8DDAC9E0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E7B9-56E7-4CB1-A54B-8770D8F5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845E-79DF-4574-9158-C87704F7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57EE-3375-431C-AFE7-15167399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DF05-4476-4846-BCBE-324365E6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05DB-B9AE-43A1-B1A5-24A652C8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42DC-8AAB-45B0-BF0D-65504161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E5C4-1F8C-499B-A6E3-541B90E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EFDD-2A1F-4041-A253-9CABF2EC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A63D-F5AB-4CBA-A4DD-ED4FE42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4338-2677-4D2C-BA37-D6181206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2DFD-1B72-444F-9953-B9ADDBBD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CD87-232E-4603-BC3B-2169D679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638C-FD12-48DD-8A10-AA2FE89E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8D41-E604-4069-BAE6-55DFB62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1778-EAF2-4E2F-85A6-52D00725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11EE-716F-4E9A-8AD6-9F1F6D5E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22A6-9750-439A-B398-ECB7D07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C081-AF64-4A93-90FB-0B55797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A276-D55B-4FAB-98B4-FFCBB57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E063-F351-4A3F-8E48-54C2AC875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C59D-7800-495E-9F26-FCD2DBB938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68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MENTOS DE ETICA POLITICA DEMOCR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1989000"/>
            <a:ext cx="772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FUND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FUNCIONAMIENTO SOSTENIBLE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GRAVE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REFUND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2200" y="279360"/>
            <a:ext cx="62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GRAVE CRI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2200" y="1622520"/>
            <a:ext cx="68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RMAS SOBRE REGÍMENES DE 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ECHO INTERNACIONAL HUMA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9360"/>
            <a:ext cx="92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REFUND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5120" y="1479600"/>
            <a:ext cx="56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55736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CIONANTES 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CRI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VIOL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TRAN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7400" y="2080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43000"/>
            <a:ext cx="86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MILITAR 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ASCO MILITAR SIN PÉRDIDA DE CONTROL DE MONOPOLIO DE LAS A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POLI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ERTURA GRA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ATE MIL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ANZAS CAMBIANTES EN COMFLICTO QUE CONTINÚ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74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276640"/>
            <a:ext cx="85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LAPSO DE SISTEMAS TOTALITAR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FLICTOS ET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5:22:01Z</dcterms:created>
  <dc:creator>carolina</dc:creator>
  <dc:description/>
  <dc:language>en-US</dc:language>
  <cp:lastModifiedBy>claudio</cp:lastModifiedBy>
  <dcterms:modified xsi:type="dcterms:W3CDTF">2004-10-22T13:37:58Z</dcterms:modified>
  <cp:revision>7</cp:revision>
  <dc:subject/>
  <dc:title>Diapositiva 1</dc:title>
</cp:coreProperties>
</file>