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DA7A-349B-4BBF-BC52-318B2780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D729-D043-4280-9F67-8362723E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61C4-123B-44A7-B64C-A84245F5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3126-5FF3-45FE-9B5A-35F5705D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0134-35AD-40B1-82E8-B5EACA22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0CF-4E2C-4116-A983-D4414610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D350-7068-4402-AEBC-2ED06B4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F6F6-4CD5-44AA-BF09-FCA494E6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B0D6-C6B9-418E-98E9-AD8956E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BB2-0F45-42D5-9B2D-8D6A917A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E5AD-B582-4E41-9FEB-86B874D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7DC2-3A3B-4286-851A-BE869B6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C866-B335-4E2F-B975-4A9F004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5FBD-2BDC-4539-860B-629FA09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DDF-481E-4DE6-9139-69AF16AD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A637-7C04-4E0C-BD8F-73CC0563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779-FC34-49A4-87BE-D56C648B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DE4E-4CE5-4880-9975-43AABF1B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D445-2E44-4C38-8134-5213EFFE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8E6A-41AC-4687-8C28-AEF7C94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B2C4-980E-48EB-8A9C-3A7F2D23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4A95-127D-4F67-BFA9-5FEECAE0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D27F-6AD4-4CD3-93C1-84BDDEA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A305-B2CA-4522-BAF9-E547D4A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D35-5ECD-448C-A93F-BC814874A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6AC4-B04C-4EAC-82F7-FA345CAAC2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68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MENTOS DE ETICA POLITICA DEMOCR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1989000"/>
            <a:ext cx="772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FUND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FUNCIONAMIENTO SOSTENIBLE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GRAVE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REFUND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2200" y="279360"/>
            <a:ext cx="62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GRAVE CRI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62252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RMAS SOBRE REGÍMENE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ECHO INTERNACIONAL HUMA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9360"/>
            <a:ext cx="92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REFUN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1479600"/>
            <a:ext cx="56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55736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CIONANTES 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CRI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VIO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TRAN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7400" y="2080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430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MILITAR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ASCO MILITAR SIN PÉRDIDA DE CONTROL DE MONOPOLIO DE LAS A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POLI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ERTURA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ATE MIL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ANZAS CAMBIANTES EN COMFLICTO QUE CONTIN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74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7664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LAPSO DE SISTEMAS TOTALITA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LICTOS ET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22:01Z</dcterms:created>
  <dc:creator>carolina</dc:creator>
  <dc:description/>
  <dc:language>en-US</dc:language>
  <cp:lastModifiedBy>claudio</cp:lastModifiedBy>
  <dcterms:modified xsi:type="dcterms:W3CDTF">2004-10-22T13:37:58Z</dcterms:modified>
  <cp:revision>7</cp:revision>
  <dc:subject/>
  <dc:title>Diapositiva 1</dc:title>
</cp:coreProperties>
</file>