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12F9-CB50-45E2-8C2F-A35D67585D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pueden ser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ES/COL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ES/SIMBOL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Individuales incluye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nero/servici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titución de prop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Colectivas incluy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lud/educacion/servicios habit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simbólicas individuales incluy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ciones o cartas formales de perd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taurar el nombre de las víct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colectivas incluye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acios públicos (parques/muesos/mem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5910-76A3-4D41-AE69-A860A56C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11A4-FBE4-4B50-A849-A40C54EE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AADA-0045-4B18-8C20-DF3226A2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7045-4F57-4721-AED5-81FFC021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6EE5-CB0A-4AAE-AA73-2BDB030F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D912-B2A9-4BE0-A8DA-1B5F3D50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B9B-70CA-4F8F-B8DA-12DDADEF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25EE-83D9-4E16-BB34-9A90CB8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0247-3324-4F00-B91E-432A930B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BE43-0837-495E-8A17-CD58A893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F19A-5682-4659-9F3D-17C6CECB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3601-2124-4D9E-8D72-99B3DBFD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C08-B194-4DCD-A72C-60077D6C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5BC7-B227-45B4-8939-DA012E8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663-3880-4686-91CA-56CBF99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0B30-4644-4DB9-ACEB-C2FB4F10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71A4-0DAB-4F13-9A18-50401AC9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1E95-EF18-4043-8F12-E2B84202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4A65-32E0-4587-A8C1-40319805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961A-4656-4285-BE05-A18729FD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4B46-3E7F-4D8A-9C53-4AF4E04B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82CE-5923-4221-9184-368D1579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BAB2-9528-4F86-9778-1F17081A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4E07-A21F-4244-ABC3-8E7596B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1F0D-7E86-4D13-B5C3-5EB06AB1AA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18B-D75B-4A81-B4FC-E11C3845F6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Evolución Históric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48392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eriores II Guerra Mundial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uremberg y Tok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eriors década de los ochen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ntecedente remoto: Gre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rgentina: transición post-guerra Malvin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hile/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entroamé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-guerra f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uropa ori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026000" y="685440"/>
            <a:ext cx="7020720" cy="5372640"/>
            <a:chOff x="1026000" y="685440"/>
            <a:chExt cx="7020720" cy="5372640"/>
          </a:xfrm>
        </p:grpSpPr>
        <p:sp>
          <p:nvSpPr>
            <p:cNvPr id="110" name=""/>
            <p:cNvSpPr/>
            <p:nvPr/>
          </p:nvSpPr>
          <p:spPr>
            <a:xfrm>
              <a:off x="3132000" y="2514600"/>
              <a:ext cx="2632680" cy="1714680"/>
            </a:xfrm>
            <a:prstGeom prst="donut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Justicia Transi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9360" y="4915080"/>
              <a:ext cx="245736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 Económic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demnizacione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360" y="685440"/>
              <a:ext cx="245736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taurativ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paracion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dad y Memo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6000" y="685440"/>
              <a:ext cx="2457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Justicia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riminal justice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tribu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Preven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habilitat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6000" y="4915080"/>
              <a:ext cx="2457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 soci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moria colectiva Rehabili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ncili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5" name=""/>
            <p:cNvCxnSpPr>
              <a:stCxn id="110" idx="5"/>
              <a:endCxn id="111" idx="0"/>
            </p:cNvCxnSpPr>
            <p:nvPr/>
          </p:nvCxnSpPr>
          <p:spPr>
            <a:xfrm>
              <a:off x="5379480" y="3987720"/>
              <a:ext cx="143856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0" idx="3"/>
              <a:endCxn id="114" idx="0"/>
            </p:cNvCxnSpPr>
            <p:nvPr/>
          </p:nvCxnSpPr>
          <p:spPr>
            <a:xfrm flipH="1">
              <a:off x="2253600" y="3987720"/>
              <a:ext cx="126324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0" idx="1"/>
              <a:endCxn id="113" idx="2"/>
            </p:cNvCxnSpPr>
            <p:nvPr/>
          </p:nvCxnSpPr>
          <p:spPr>
            <a:xfrm flipH="1" flipV="1">
              <a:off x="2253600" y="1842480"/>
              <a:ext cx="126324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0" idx="7"/>
              <a:endCxn id="112" idx="2"/>
            </p:cNvCxnSpPr>
            <p:nvPr/>
          </p:nvCxnSpPr>
          <p:spPr>
            <a:xfrm flipV="1">
              <a:off x="5379480" y="1842480"/>
              <a:ext cx="143856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r qué confrontar el pasado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en-GB" sz="3000" spc="-1" strike="noStrike">
                <a:solidFill>
                  <a:srgbClr val="ffffcc"/>
                </a:solidFill>
                <a:latin typeface="Arial"/>
              </a:rPr>
              <a:t>Para fortalecer la democr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Imperativo mo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Terminar con la impun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vitar que los hechos se repitan en el futur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e5ff"/>
                </a:solidFill>
                <a:latin typeface="Garamond"/>
              </a:rPr>
              <a:t>Mecanismos de la Justicia Transicional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canismos de búsqueda de la verdad y verificación de hech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didas de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formas instituc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moria colec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Mecanismos Judicial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Garamond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nac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Internacionales y Tribunales Híbri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Corte Penal Interna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Jurisdicción Univers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canismos Regionales de Derechos Human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tivaciones de las Comisiones de Verda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68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vestigación de crím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dentificación de los órganos y/o individuos represor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conocimiento de las Víct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segurar la memoria colec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roveer bases para la acción esta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vanzar en la reconciliación na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Formas de Reparació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pueden ser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DIVIDUALES/COLECTIV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ATERIALES/SIMBOL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Individuale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Colectiva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simbólicas individuale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colectiva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2:42:35Z</dcterms:created>
  <dc:creator>claudio</dc:creator>
  <dc:description/>
  <dc:language>en-US</dc:language>
  <cp:lastModifiedBy>claudio</cp:lastModifiedBy>
  <dcterms:modified xsi:type="dcterms:W3CDTF">2004-10-25T11:58:42Z</dcterms:modified>
  <cp:revision>2</cp:revision>
  <dc:subject/>
  <dc:title>Diapositiva 1</dc:title>
</cp:coreProperties>
</file>