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6CBB-0485-4B01-AEAE-20B965EDA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7AC6-B340-40C2-B492-EE7CC2267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B7A0-C989-4451-B13E-5C4E68656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58CC-4289-4542-8B24-B45D8EA3C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D484F-0E87-429F-8A7F-2E90A4E0F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B819E-F9C3-49E2-900E-A94DA4B94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ADF83-35F6-47AB-AA2A-A2BB2C826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598C3-7F55-4249-93E8-9101FEDD7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60D06-45D3-44DA-AFB1-60EACAE55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610E3-23F1-4B05-9DF1-7F36E8A9B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3480A-FF5D-4E71-A4E4-1C19C25BD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2BBE-FD10-4DD6-884E-985D9A7C2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75DAF-89FF-4699-B131-7A3EDF9B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EF5AA-4DBB-4D24-9AED-A3177D35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135C5-E49D-415D-ADA2-5F2AEE41F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AA8D2-4CB6-4D0C-BAE7-E293580D8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C8CA3-9A2D-491E-94E5-1F1C392EB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3915-5415-4E13-8875-7436F694F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B836-F970-45BB-ADEF-CC4BE5514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5B45-B21F-42C1-8947-D7BA932D9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833C-F51A-4020-B7B0-C2525D251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F12F-60D5-438E-8C50-1F78009E2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C448-63D3-4BDA-BBE3-81AFB14C4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9D09-BD5A-4A63-9ED0-370510765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DAE3B-7C25-41D0-9219-DBFD5E308FF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6B1D7-B403-44A0-84E8-9F58D83E875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00"/>
                </a:solidFill>
                <a:latin typeface="Times New Roman"/>
              </a:rPr>
              <a:t>IMPUESTO AL</a:t>
            </a:r>
            <a:br>
              <a:rPr sz="3600"/>
            </a:br>
            <a:r>
              <a:rPr b="0" lang="es-MX" sz="3600" spc="-1" strike="noStrike">
                <a:solidFill>
                  <a:srgbClr val="ffff00"/>
                </a:solidFill>
                <a:latin typeface="Times New Roman"/>
              </a:rPr>
              <a:t>VALOR AGREGADO (IVA)</a:t>
            </a:r>
            <a:br>
              <a:rPr sz="3600"/>
            </a:br>
            <a:br>
              <a:rPr sz="3600"/>
            </a:br>
            <a:r>
              <a:rPr b="0" lang="es-MX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Profesor: Rodrigo Rojas Palma</a:t>
            </a:r>
            <a:br>
              <a:rPr sz="2400"/>
            </a:br>
            <a:br>
              <a:rPr sz="2400"/>
            </a:b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Ayudantes: </a:t>
            </a:r>
            <a:br>
              <a:rPr sz="2400"/>
            </a:b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Jorge Carraha </a:t>
            </a:r>
            <a:br>
              <a:rPr sz="2400"/>
            </a:b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Rodrigo Zarhi</a:t>
            </a:r>
            <a:br>
              <a:rPr sz="2400"/>
            </a:br>
            <a:br>
              <a:rPr sz="2400"/>
            </a:b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2005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imes New Roman"/>
              </a:rPr>
              <a:t>HECHO GRAVADO BÁSIC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362320" y="35812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VENT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REQUISITOS HECHO GRAVADO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BASICO VENTA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1.- Convención Traslaticia de Domin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2.- Sobre bienes corporales muebles, 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inmuebles de empresas constructor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- A Título Oneros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- Ubicados en Territorio Na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- Realizada por un “vendedor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1.- Convención Traslaticia de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dominio o de una cuota domini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Convención, acto o contrato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independiente del nombre que le den las partes que sirva pa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Transferir el domin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Transferir una cuota de domin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minio: derecho real que permite usar, gozar y disponer de una cosa arbitrariamente “propiedad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piedad, separada del goce de la cosa se llama “nuda propiedad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2.- Debe recaer sobre bienes corporales</a:t>
            </a:r>
            <a:br>
              <a:rPr sz="2800"/>
            </a:b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muebles, bienes corporales inmuebles de una empresa constructora, o derechos real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33526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944280"/>
            <a:ext cx="7772400" cy="57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Clasificación de los Bien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2971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Bien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81080" y="1828800"/>
            <a:ext cx="457200" cy="2971800"/>
          </a:xfrm>
          <a:custGeom>
            <a:avLst/>
            <a:gdLst>
              <a:gd name="textAreaLeft" fmla="*/ 292320 w 457200"/>
              <a:gd name="textAreaRight" fmla="*/ 457560 w 45720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362320" y="1981080"/>
            <a:ext cx="220968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rpor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(ser real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1828800"/>
            <a:ext cx="228600" cy="1752480"/>
          </a:xfrm>
          <a:custGeom>
            <a:avLst/>
            <a:gdLst>
              <a:gd name="textAreaLeft" fmla="*/ 0 w 228600"/>
              <a:gd name="textAreaRight" fmla="*/ 82440 w 22860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91120" y="2057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Mue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191120" y="33526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Inmue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62720" y="17524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Por Naturalez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20574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Por Anticipa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486400" y="236232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- prod. De inmueb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4600" y="4572000"/>
            <a:ext cx="182880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ncorpor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(derecho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715000" y="32767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Por Naturalez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86400" y="3276720"/>
            <a:ext cx="76320" cy="1066680"/>
          </a:xfrm>
          <a:custGeom>
            <a:avLst/>
            <a:gdLst>
              <a:gd name="textAreaLeft" fmla="*/ 48960 w 76320"/>
              <a:gd name="textAreaRight" fmla="*/ 76320 w 763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15000" y="36576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Por Adherenc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40384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Por Destina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724280" y="4572000"/>
            <a:ext cx="76320" cy="1371600"/>
          </a:xfrm>
          <a:custGeom>
            <a:avLst/>
            <a:gdLst>
              <a:gd name="textAreaLeft" fmla="*/ 48960 w 76320"/>
              <a:gd name="textAreaRight" fmla="*/ 76320 w 763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76920" y="46483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Re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54864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ers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Clasificación de los derechos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3429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erech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8120" y="1600200"/>
            <a:ext cx="457200" cy="4191120"/>
          </a:xfrm>
          <a:custGeom>
            <a:avLst/>
            <a:gdLst>
              <a:gd name="textAreaLeft" fmla="*/ 292320 w 457200"/>
              <a:gd name="textAreaRight" fmla="*/ 457560 w 457200"/>
              <a:gd name="textAreaTop" fmla="*/ 109080 h 4191120"/>
              <a:gd name="textAreaBottom" fmla="*/ 4082040 h 4191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0988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RE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257800" y="1828800"/>
            <a:ext cx="228600" cy="2743200"/>
          </a:xfrm>
          <a:custGeom>
            <a:avLst/>
            <a:gdLst>
              <a:gd name="textAreaLeft" fmla="*/ 146160 w 228600"/>
              <a:gd name="textAreaRight" fmla="*/ 228960 w 22860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638680" y="17524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Domin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638680" y="21337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Herenc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25146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Usufruc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638680" y="28954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Us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32767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Habita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638680" y="36576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Servidumb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38680" y="39625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Prend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638680" y="43434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Hipote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590920" y="320040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657600" y="2819520"/>
            <a:ext cx="1295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ffffff"/>
                </a:solidFill>
                <a:latin typeface="Times New Roman"/>
              </a:rPr>
              <a:t>Se grava s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ffffff"/>
                </a:solidFill>
                <a:latin typeface="Times New Roman"/>
              </a:rPr>
              <a:t>transfer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86200" y="46483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PERSON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86400" y="5029200"/>
            <a:ext cx="1981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Recaen sobre det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ersonas (arriend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102060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A.- Transferencias afecta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e bienes corporales mue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erechos reales sobre bienes corpor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mue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bienes corporales inmue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De propiedad de una empresa constructor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ruidos totalmente por ella o en par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un tercero para el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echos reales sobre bienes corporales inmue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Situación de empresa constructora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que encarga la obr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La primera venta constituye hecho grav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a.- por cuenta propia, realizando ella mis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todas las especiali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b.- por cuenta propia, celebrando con terceros uno o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más contratos de administración para la ejecución de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la ob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c.- por cuenta propia, celebrando con terceros todas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o algunas especiali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Situación de empresa constructora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que encarga la obr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La posterior venta NO constituye hecho grav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Por cuenta propia celebrando un contrato general de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nstrucción por suma alzada con otra empresa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nstructo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Adquiriendo obras construidas y terminadas por otra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mpresa constructo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Situación de empresa constructor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Inmuebles adquiridos terminados, a los cuales la empresa constructora efectúa obras adicionales, complementarias, ampliaciones, terminaciones o remodelaciones – Hecho gravado sólo las obras complementari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lasificación Impuest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1.- Impuestos Direc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2.- Impuestos Indirec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3.- Convención a título Oneros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onvención que transfiere el domin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ebe ser a título oneroso (no nec. Diner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t. 1440 define contratos gratuitos y oneros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Gratuitos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sólo tienen por objeto la utilidad de una de las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tes, sufriendo la otra todo el gravamen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Onerosos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utilidad de ambas partes, gravándose uno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eficio del ot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2120" y="-30600"/>
            <a:ext cx="7772400" cy="155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4.- Bienes deben estar ubicados en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el Territorio Naciona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Ubicados en territorio n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ndependiente lugar en que se celebre conven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espect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tuación bienes ubicados transitoriam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era de C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bienes cuya inscripción, matrícula o patente hay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do otorgada en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bienes que se encuentren embarca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ís procedenc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5.- Realizada por un “vendedor”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Vendedor – definición leg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rtículo 10 No. 3 L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efinición – artículo 2 No. 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Habitualidad – calificada por el SI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ART. 4.- Reglamento: SII considerará l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naturaleza, cantidad y frecue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Presunciones de habitualidad - gi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Habitualidad” – elemento subjetiv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orresponde al contribuyente probar q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no existe habitualidad y/o que no adquiri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on “ánimo” de reven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presume habitualidad respecto 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das las transferencias y retir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fectuados por un vendedor dentro de s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i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Ventas respecto de las cuales no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se tiene calidad de vendedo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Particulares que ocasionalmente vend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sus bienes nuevos o usa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presas que vendan bienes corpor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ebles que integran su activ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movilizado o fijo (ojo art. 8 letra 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ntas materiales sobrantes adquiri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 ánimo de ser consumidos o utiliza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urante rodaje administrativo (p.e. pape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Calificación habitualidad venta de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inmuebl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Vendedor: Empresa constructo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mpresa organizada para construir 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vender, aunque no sea exclusivo, o se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sporádico, o aprovech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ocasionalmente para construir y ven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judicaciones – se presume habitual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¿Quién es vendedor?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23880" y="281952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Vende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24080" y="1828800"/>
            <a:ext cx="457200" cy="2438280"/>
          </a:xfrm>
          <a:custGeom>
            <a:avLst/>
            <a:gdLst>
              <a:gd name="textAreaLeft" fmla="*/ 0 w 457200"/>
              <a:gd name="textAreaRight" fmla="*/ 164880 w 45720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654360" y="2209680"/>
            <a:ext cx="3823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.- persona dedicada en for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HABITUAL a venta de bie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Corporales muebles o inmue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B.- productor, fabricante o empres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constructora que vende materias prim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o insumos no utiliza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95280" y="4800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Habitual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24080" y="4572000"/>
            <a:ext cx="152640" cy="1066680"/>
          </a:xfrm>
          <a:custGeom>
            <a:avLst/>
            <a:gdLst>
              <a:gd name="textAreaLeft" fmla="*/ 97560 w 152640"/>
              <a:gd name="textAreaRight" fmla="*/ 153000 w 15264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352680" y="4724280"/>
            <a:ext cx="5029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Bienes corporales del GIRO –activo realiz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Calificada por el SII - Presuncion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NO son vendedor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Particulares que venden ocasionalm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mpresas que vendan activo fijo (8 letra 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mpresas que vendan material oficina sobra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Habitualidad Empresas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Constructora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Toda empresa organizada para construi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y vender inmue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nque giro construcción no sea exclusiv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nque giro construcción sea esporádico 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menor importanc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ndo existe organización empresar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inta usada ocasionalmente para construi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vender uno o varios inmue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No se califica de habitual en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empresas constructora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Ventas de inmuebles que las empresas constructoras hayan construido para s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uso, esto 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Necesarios para producir la renta, 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Que hayan estado sujeto al tratami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ntable y tributario de ACTIVO FI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1.- Los Impuestos Directos</a:t>
            </a:r>
            <a:br>
              <a:rPr sz="3200"/>
            </a:b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Gravan la riqueza al momento de su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- gener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- produc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- obten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85800" y="1523880"/>
            <a:ext cx="76212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19320" y="685800"/>
            <a:ext cx="533160" cy="5181480"/>
          </a:xfrm>
          <a:custGeom>
            <a:avLst/>
            <a:gdLst>
              <a:gd name="textAreaLeft" fmla="*/ 0 w 533160"/>
              <a:gd name="textAreaRight" fmla="*/ 192600 w 533160"/>
              <a:gd name="textAreaTop" fmla="*/ 135000 h 5181480"/>
              <a:gd name="textAreaBottom" fmla="*/ 5046480 h 518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752480" y="106668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ersona natur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752480" y="167652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Comunidad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752480" y="137160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ersona juríd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752480" y="1981080"/>
            <a:ext cx="19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Sociedades de hech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86200" y="1219320"/>
            <a:ext cx="274320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Se dedique en  forma hatibual a la venta de bienes corporales muebles, sean de su propia producción o de tercer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752480" y="342900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Empresa Constructo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00400" y="3124080"/>
            <a:ext cx="76320" cy="1524240"/>
          </a:xfrm>
          <a:custGeom>
            <a:avLst/>
            <a:gdLst>
              <a:gd name="textAreaLeft" fmla="*/ 22320 w 76320"/>
              <a:gd name="textAreaRight" fmla="*/ 76320 w 76320"/>
              <a:gd name="textAreaTop" fmla="*/ 63360 h 1524240"/>
              <a:gd name="textAreaBottom" fmla="*/ 146088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657600" y="914400"/>
            <a:ext cx="152280" cy="1676520"/>
          </a:xfrm>
          <a:custGeom>
            <a:avLst/>
            <a:gdLst>
              <a:gd name="textAreaLeft" fmla="*/ 0 w 152280"/>
              <a:gd name="textAreaRight" fmla="*/ 106920 w 152280"/>
              <a:gd name="textAreaTop" fmla="*/ 69840 h 1676520"/>
              <a:gd name="textAreaBottom" fmla="*/ 16066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76720" y="32004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ersona natur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76720" y="350532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ersona juríd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76720" y="38098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Comunidad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76720" y="411480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Sociedades de hech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81480" y="3048120"/>
            <a:ext cx="228600" cy="1600200"/>
          </a:xfrm>
          <a:custGeom>
            <a:avLst/>
            <a:gdLst>
              <a:gd name="textAreaLeft" fmla="*/ 66960 w 228600"/>
              <a:gd name="textAreaRight" fmla="*/ 228960 w 228600"/>
              <a:gd name="textAreaTop" fmla="*/ 66600 h 1600200"/>
              <a:gd name="textAreaBottom" fmla="*/ 15336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3124080"/>
            <a:ext cx="251460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Se dedique en  forma hatibual a la venta de bienes corporales inmuebles construidos total o parcialmente por ell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676520" y="47242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roductor Fabrica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09880" y="4648320"/>
            <a:ext cx="76320" cy="1295280"/>
          </a:xfrm>
          <a:custGeom>
            <a:avLst/>
            <a:gdLst>
              <a:gd name="textAreaLeft" fmla="*/ 0 w 76320"/>
              <a:gd name="textAreaRight" fmla="*/ 53640 w 76320"/>
              <a:gd name="textAreaTop" fmla="*/ 53640 h 1295280"/>
              <a:gd name="textAreaBottom" fmla="*/ 1241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76520" y="525780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Empresa Constructo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4876920"/>
            <a:ext cx="3809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Venda materias primas e insumos que por cualquiera causa no utilice en sus procesos Productiv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246852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HECHO GRAVADO BÁSIC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32004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SERVICI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Definición de Servici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294920" y="190512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rt. 2 No. L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“La acción o prestación que una persona realiza para otra y por la cual percibe un interés, prima, comisión o cualquiera otra forma de remuneración, siempre que provenga del ejercicio de las actividades comprendidas en los Números 3 y 4 del Artículo 20 de la Ley de la Rent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Requisitos del Servicio como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hecho gravado básic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.- Que una persona realice una acción o prestación a favor de otra perso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B.- Que dicha persona perciba por la acción o prestación un interés, prima, comisión o remuner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.- Que la acción o prestación provenga ejercicio actividades artículo 20 Nos. 3 y 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.- Que el servicio se preste o utilice en Ch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A.- Realización de una prestación a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favor de otra person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74674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Puede ser realizada por persona natural o juríd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Prestación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acto o hecho que un contratante realiza o promete  a otro,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imes New Roman"/>
              </a:rPr>
              <a:t>sin importar que sea HABITUAL u OCAS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B.- Que el prestador del servicio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perciba una remuneració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716292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Percepción de “interés, prima o comisión, o cualquiera otra forma de remuneración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on la percepción nace la obligación tributa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Percibir”: recibir una cosa y entregarse de el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C.- Proveniente actividades del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 artículo 20 No. 3 y 4 Ley Rent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ctividades del 20 No. 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Industria comercio, minería, explotación de las riquezas del mar, y demás actividades extractiv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Cías. Aéreas, deseguros, bancos, asociaciones de ahorro y préstamos, sociedades administradoras fondos mutuos, sociedades de inversión o capitalización, empresas financieras y otras de actividad análog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C.- Proveniente actividades del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 artículo 20 No. 3 y 4 Ley Rent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ctividades del 20 No. 3 (cont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Empresas constructor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Empresas periodísticas, publicitarias, de radiodifusión y televis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Empresas de procesamiento automático de da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Empresas de telecomunica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(continuación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ctividades del 20 No.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Corredores que sean personas juríd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Corredores que sean personas naturales, cuyas rentas no provengan exclusivamente de su trabajo o actuación pers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Comisionistas con oficina estableci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Martilleros, agentes de aduana, embarcadores y otros que intervienen com. Marítim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(continuación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Actividades del 20 No.4 (cont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Agentes de seguros que no sean personas natural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Clínicas, hospitales, laboratorios y otros establecimientos análogos particular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Empresas de diversión y esparcimi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86832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2.- Impuestos Indirecto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Grava la riqueza cuando se consu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ibuyente de Derecho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tisface la obligación tributa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ibuyente de Hecho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porta carga del tribu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Interpretaciones del SII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ctividades del art. 20 No. 3 incluye rentas del “comercio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Se hace referencia al artículo 3 del Código de Comercio (def. de acto de comercio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Contrato de suministro – hoy super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Gestor de Negoc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D.- El servicio debe prestarse o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utilizarse en Chil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Territorialidad – art. 5 L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Servicio Prestado en Ch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cuando la actividad que genera el servicio es desarrollada en el territorio n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(continuación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Territorialidad – art. 5 L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Servicio Utilizado en Ch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cuando la actividad que genera el servicio es desarrollada fuera pero el beneficio es en C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1904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HECHOS GRAVADOS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ESPECIAL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35053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VENT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Hechos gravados especiales en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las venta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Operaciones, transacciones o prestaciones que la ley expresamente EQUIPARA a ventas. – Establecidas artículo 8 de la Le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unque no tengan todos los elementos del hecho gravado básico de ventas (p.e. puede faltar calidad de “vendedor”, habitualidad, etc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Listad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- Importac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- Aportes a socieda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- Adjudicac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- Retiros efectuados por vendedor o du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- Retiros destinados a rifas y sorte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- Entregas o distribuciones gratuit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- Contratos instalación o confección de especialida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Listad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- Contratos generales de construc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- Venta de establecimiento de comercio y de otras universida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- Promesa de venta de bienes corporales muebles de propiedad de una empresa constructora de su giro, contratos de arriendo con opción de comp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- venta bienes activo fijo antes 48 ó 12 me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1.- Importacion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Importació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introducción legal de mercaderías extranjeras para su uso o consumo en el paí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No se distingue si hay habitua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Importación realizada por cualquier persona, sea o no vendedor o prestador de servic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Impuesto se devenga al consumarse legalmente la importación (terminad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2.- Aportes a sociedad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Aporte o transferencia de dominio o de una cuota de dominio con ocasión 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constitución, ampliación, modific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SOCIE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enes corporales muebles o inmuebles de propiedad de empresas constructoras, o en derechos reales constituidos sobre dichos bie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ortante debe tener calidad de “vendedor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3.- Adjudicaciones en liquidaciones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de sociedades (8,c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641600"/>
            <a:ext cx="7772400" cy="27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djudicación de bienes corporales mue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ichos muebles sean propios del giro de la respectiva sociedad o comun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djudicación debe ser originada por liquidación de sociedad o comun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Impuesto a las Ventas y Servicios</a:t>
            </a:r>
            <a:br>
              <a:rPr sz="2800"/>
            </a:b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es un impuesto Indirecto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Mayor recaudación fis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De traslación o recar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eficio fis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laración y pago mensu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Adjudicación de bienes corporales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inmuebl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djudicación de bienes corporales inmue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Liquidación de sociedades que sean empresas constructoras, comunidades, cooperativas de vivien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No es necesario que sea del giro de la constructora, comunidad o cooperativ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4.- Retiros efectuados por 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empresario, socios, director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Retiros efectuados por empresario, socios, directores o emple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Bienes corporales mueblesdel gi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Objeto: uso o consumo personal de tales personas o sus famili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Retiro de Bienes Corporales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inmuebl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Retiro de inmue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el giro de una empresa constructo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onstruido total o parcialmente por el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Si forma parte de activo fijo (mas de 12 meses) el retiro no se afecta con I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13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Faltantes de inventario – Se 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consideran retiro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Presunción legal de que los faltantes de inventario constituyen retir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s necesario justificar salida de faltantes mediante documentación fehaci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anotaciones cronológicas en sistema de inventario permanente, contabilidad fidedig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Denuncias por robos o accid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Informes liquidadoras de segur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Mermas reconocidas por ley u organismo E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5.- Bienes entregados a rifas o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distribuidos gratuitament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(art. 8 letra 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Retiro de bienes corporales mue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Sean o no del giro de la empre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Destinados a rifas y sorte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Fines promocionales o de propagan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Realizado por vendedores (no prestadores de S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No es necesaria la habitua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5.1 Bienes distribuidos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gratuitament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(art. 8 letra 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ntrega o distribución gratuita de bie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realizados con fines de promoción o propagan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calidad de vende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pueden o no ser del giro del vende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No cumplen requisitos distribuciones efectuadas con fin simplemente benéf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6.- Contrato de Instalación o 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Confección de Especialidad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Tiene por objeto la incorporación de elementos que adhieren permanentemente al inmueble y son necesarios para que cumpla cabalmente la función específica para lo cual se construy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Se equiparan a venta cuando son a “suma alzada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7.- Contratos Generales de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Construcción</a:t>
            </a:r>
            <a:br>
              <a:rPr sz="3200"/>
            </a:b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oncepto del contrato de construc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Contrato que tiene por finalidad la confección de una obra material inmueble nueva que comprenda al menos dos especialidades, sea que se efectúe por si mismo o por intermedio de tercer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Tip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suma alz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que construye suministra materias o materias princip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administr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que encarga la construcción suministra la materia o las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terias o las materias princip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tuación Histór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Hasta el 01.10.87 sólo se gravaban los contratos por administración (servici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7.- Contratos Generales de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Construcción (cont.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8.- Venta de establecimiento de 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comercio y otras universalidad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stablecimiento de Comerc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- Universalidad de hecho con existencia distinta a la de los      elementos que la componen, corporales e incorporales, donde el comerciante ejerce su ofic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ersalidad de Hech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todo conjunto de bienes corporales e incorporales unidos opr su afectación a un fin común y que posee individualidad propia e independiente de los elementos que la componen (p.e. Fábricas, establecimientos industriales, bibliotecas, museos, etc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(continuación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VA llega a poder del Fisco fraccionadam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n diferentes etapas de circulación produc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(productor – mayorista – minorista –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nsumido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que intervienen en proceso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ción, distribución y venta recuper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to total impuesto recaudado 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ferentes etapas – SOPORTADO PO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IDOR FI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8.- Venta de establecimiento de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comercio y otras universalidad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Requisitos del hecho gravado espe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Es el valor de los bienes corporales muebles PROPIOS DEL GIRO del establecimiento o universalidad que se vend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Calidad de “vendedor” de los bie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Se exceptúan bienes del activo inmoviliz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ep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Cesión del derecho de herencia (art.8 letra f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8.1 Si establecimiento o 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universalidad incluyen inmuebl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rt. 8 letra 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Venta de establecimientos de comercio y otras universalidades que comprenden inmuebles del giro de una empresa constructo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eben pertenecer el activo realizable, ser “vendedor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9.- Promesa de venta de bienes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corporales inmuebl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Promesa de vent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bienes corporales inmue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e propiedad de una empresa constructo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el gi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onstruidos total o parcialmente por el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10.- Contratos de arriendo con opción 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de compra de b.c. inmuebl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ontrato de arriendo con opción de comp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elebrados por empresas constructora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respecto de inmuebles total 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parcialmente construidos por ell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asimilan a las promesas de venta para la aplicación del tributo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12.- Venta de Bienes del Activo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Fijo (art. 8 letra m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Venta de bienes corporales muebles o inmue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lasificados en activo fij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Venta antes de los 48 meses contados desde su adquisición (muebles) ó 12 meses (inmue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Que el contribuyente haya tenido derecho al CREDITO FISCAL por IVA soport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aso vehiculos motoriz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Se aplica de la misma mane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queda exento del impuesto especial contemplado en el artículo 41 de la Ley (0,5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12.- Venta de Bienes del Activo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Fijo (art. 8 letra m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HECHOS GRAVADOS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ESPECIAL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2960280"/>
            <a:ext cx="7772400" cy="22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SERVICI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1.- Arrendamiento de bienes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muebles e inmuebl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Arrendamiento, subarrendamiento, usufructo o cualquier otra forma de cesión temporal del uso y goce d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.- bienes corporales mue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b.- inmuebles amobl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c.- inmuebles con instalaciones o maquinarias que permitan el ejercicio de una actividad comercial o industr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d.- todo tipo de establecimiento de comerci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685800" y="1641600"/>
            <a:ext cx="7772400" cy="27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Arrendamiento bienes corporales muebles que forman parte del activo fij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Arrendamiento entre particula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Leas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Sobre bienes cuya venta está exenta de I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1.- Arrendamiento de bienes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corporales muebles (cont.)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685800" y="19047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rrendamiento, subarrendamiento, otras formas de cesión temporal de uso o go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Inmuebles amobl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mobiliario y menaje en cantidad y naturaleza suficiente para ser habit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1.- Arrendamiento de inmuebles 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amoblados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133720" y="4724280"/>
            <a:ext cx="510516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IVA  se aplica sólo a renta que exceda del 11% o del  avaluo fiscal al año o en la proporción que corresponda (sólo aplicable a arriendo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(continuación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uantía del impuesto no se increment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por aplicación del impue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VA no repercute en mayor costo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ción, distribución n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ercializ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influye en fijación de precios de ven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685800" y="1641600"/>
            <a:ext cx="7772400" cy="29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Inmuebles no agrícolas que tengan instalaciones o maquinarias que permitan desarrollar actividad comercial o industr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Inmuebles agrícolas, en la parte que tengan actividades industriales anexas o complementarias desarrolladas dentro del pred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1.- Arrendamiento de inmuebles 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con instalaciones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981080" y="510552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IVA sólo renta que exceda del 11% del avaluo fiscal o de la cantidad proporcional que corresponda (arriendo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rrendamiento, subarrendamiento, cualquier forma de cesión temporal del uso y goc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Bienes incorporales que tiene su origen en “propiedad intelectual” y “propiedad industrial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No se grava la constitución del derecho, ni la enajen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2.- Arrendamiento de marcas, 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patentes y prestaciones similares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3.- Estacionamiento de vehículos 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en playas de estacionamient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641600"/>
            <a:ext cx="7772400" cy="27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stacionamiento de vehículo en playas de estacionamiento u otros lugares destinado a dicho f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terrenos sin construcción, o construcciones liger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Edificios especialmente destinados a tal efec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4.- Primas de seguros de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cooperativas de seguro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Primas de cooperativas de servicios de segur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ntes de modificación de 1980, no constituía hecho hecho gravado por cuanto no era actividad clasificado en Nos. 3 y 4 art. 20 Ley Renta, sino que se clasificaban en el número 5 del mencionado precep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xisten ciertas exenciones aplica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Base Imponible” –precio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pagado por consumidor final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ncepto “valor agregado” no es en rig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l hecho grav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establece un impuesto a Ventas 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stema dotado de mecanismo que imp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fecto “cascada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canismo demuestra que en realidad 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sigue un porcentaje del “valor final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Estructura General de la Ley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(Decreto Ley 825 de 1974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Título I – Normas Gener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Materia y Destino del Impuesto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Definiciones, Contribuyentes, Otr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ítulo 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uesto al Valor agreg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ítulo I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Impuestos Especiales a las Ventas 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i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ítulo I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Administración del Impues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2T15:01:31Z</dcterms:created>
  <dc:creator>JCARRAHA</dc:creator>
  <dc:description/>
  <dc:language>en-US</dc:language>
  <cp:lastModifiedBy> Rodrigo Rojas</cp:lastModifiedBy>
  <dcterms:modified xsi:type="dcterms:W3CDTF">2005-03-30T03:00:01Z</dcterms:modified>
  <cp:revision>9</cp:revision>
  <dc:subject/>
  <dc:title>Presentación de PowerPoint</dc:title>
</cp:coreProperties>
</file>