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B6B-CFC0-43D9-9AD9-568FFB2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18E-412E-4B4B-90E8-C336026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25B-C2AD-4F28-B826-E4CC123B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8E5-6210-4D6B-A656-2899DDA2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C4E-2A0A-434E-90DB-7FC5978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71A-0428-4621-AAD4-3AA4FAD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69A-20D0-4B41-9EA1-9C7E3C77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0A6-E759-44F5-9CF6-DA6F3A33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146-DDBD-44B7-9B77-D5293C8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E48-8489-423F-A359-275B5D5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5E3-2C0E-4BF4-9BE5-54E6E52A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BD6-3076-4F66-A9F9-3B9C6F9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4A33-B4E6-4A83-89E1-8CE5838566D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192560" cy="59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88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Chile- Estadísticas Min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133720"/>
          <a:ext cx="8096400" cy="493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3720"/>
                    <a:ext cx="8096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18800" cy="695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entury Schoolbook"/>
              </a:rPr>
              <a:t>Chile - Claves para el Desarrol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Riqueza de recursos miner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Alta calidad de los profesionales y mano de o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ultura min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uevas normas sobre minería en los años 8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onstitución Política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Ley Orgánica Constitucional (requiere 4/7 para ser enmend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ódigo Min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ormas sobre inversión extranjera a mediados de los años 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D.L.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INVERSION EXTRANJERA MATERIALIZADA EN MINERIA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(MILLONES DE DOLA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866960"/>
          <a:ext cx="777096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6960"/>
                    <a:ext cx="777096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PARTICIPACION EN LA PRODUCCION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1:29:56Z</dcterms:created>
  <dc:creator>Consuelo Trujillo</dc:creator>
  <dc:description/>
  <dc:language>en-US</dc:language>
  <cp:lastModifiedBy>Consuelo Trujillo</cp:lastModifiedBy>
  <dcterms:modified xsi:type="dcterms:W3CDTF">2005-05-06T21:30:27Z</dcterms:modified>
  <cp:revision>1</cp:revision>
  <dc:subject/>
  <dc:title>No Slide Title</dc:title>
</cp:coreProperties>
</file>