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B02D-8C4A-4B1A-B0D9-B0F0C1C4B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99A3-BC85-4E06-9427-3DC105ADF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4803-5AF9-42CA-82B0-5DB703DF9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C5EE-5FB2-4689-924A-5FF7EEEFF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63DF-76F9-48AC-912E-13DD611E0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256D-A74D-4776-9DD2-C7490E81E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7A79-03FB-4E8C-A3B3-DBC504790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9F6F-E753-42A1-A92A-CF07B8314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24FA-5D68-487A-BB36-BE13616F7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9621-6A4F-491C-80EF-AE591953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93A8-9555-45E0-AB43-4DDA2E3F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6C22-DAC3-4BC2-8A41-A9CB2499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BD6C8-5066-4E1B-BDDE-406F82B322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1295280"/>
            <a:ext cx="1069812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Garamond"/>
              </a:rPr>
              <a:t>La empresa y las relaciones del trabaj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4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4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4400" spc="-1" strike="noStrike">
                <a:solidFill>
                  <a:srgbClr val="ffff00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Héctor Humeres Nogu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Universidad de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8390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380880"/>
            <a:ext cx="9144000" cy="72388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839080" cy="66294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0T23:28:08Z</dcterms:created>
  <dc:creator>Computador Personal</dc:creator>
  <dc:description/>
  <dc:language>en-US</dc:language>
  <cp:lastModifiedBy>Héctor Humeres</cp:lastModifiedBy>
  <dcterms:modified xsi:type="dcterms:W3CDTF">2005-04-18T13:53:20Z</dcterms:modified>
  <cp:revision>6</cp:revision>
  <dc:subject/>
  <dc:title>Sin título de diapositiva</dc:title>
</cp:coreProperties>
</file>