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60E-75B5-4787-9E2C-A5E020DE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FEE-C390-4D14-A3C9-EC9AEC5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67B-1C22-4A39-AFF1-6B9C759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221-FE93-4482-9641-3A0FE7E7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4454-5285-4B29-9A13-A512E490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1EF-CA53-4E4A-B98B-60EBC1E4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8E97-09AB-42B9-B895-B225C9C0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D046-8142-4225-B9FB-ACF7F701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B420-CE45-46B3-884F-28549D94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F85B-6233-44F3-96DB-4CD8757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181-BA23-401A-8E6F-561BFB2B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CFA-54BD-453E-B9C2-0713ECF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B8F3-1495-4498-8ED3-51DD6F7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517D-7213-4B08-A7E9-5807FEF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338B-94A5-4A6E-9B48-04413C5B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60FC-AA0D-45F6-B3CB-893E89C9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D831-C99B-4A83-988C-4516AF49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8F2-678D-42D8-AC2B-B50120F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929-8DB4-4C0E-8356-240CA19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093-A603-40C1-9ED1-658FA98E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92D-3363-48E1-AB6E-D3B53FE1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46B-39D4-40D4-86F0-5DB83C5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EF5-17BF-4541-8706-76E5A088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7D0-48E0-4F41-B7F9-6873024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0AD-A624-412E-8BC7-DC66148D9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527-2F93-463E-9E96-DC600D22E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Universidad de Chile   4º año    200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..desde la conflictividad a la complementariedad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éctor Humeres Nogu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3BF-B440-4604-AE97-2FA0E44E2181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5248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</a:t>
            </a: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  cuántos trabajadores se involucran.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F13-E363-443E-BAF8-D40DB86B8245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25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Comic Sans MS"/>
              </a:rPr>
              <a:t>  </a:t>
            </a:r>
            <a:r>
              <a:rPr b="1" lang="es-ES_tradnl" sz="4000" spc="-1" strike="noStrike">
                <a:solidFill>
                  <a:srgbClr val="ffcc66"/>
                </a:solidFill>
                <a:latin typeface="Comic Sans MS"/>
              </a:rPr>
              <a:t>que costo tienen......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2BA-9F75-498F-BA2A-E2AD5742A640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9D6-D7C0-4CEC-9B71-B85E7B3488D2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6094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....   sus resultados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F26-2E6E-40D2-99AA-F3496AD93994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44600"/>
            <a:ext cx="8686800" cy="536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609480"/>
            <a:ext cx="7239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..algo más.......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CFD-8E5F-4CE3-8410-CAA22363CA46}" type="slidenum">
              <a:t>14</a:t>
            </a:fld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evolución sindicalismo nacional en últimas 4 décadas......</a:t>
            </a:r>
            <a:r>
              <a:rPr b="1" lang="es-ES_tradnl" sz="44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228600" y="1219320"/>
          <a:ext cx="96012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19320"/>
                    <a:ext cx="9601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102-7CA2-47F2-A9CB-4C3B3C75792B}" type="slidenum">
              <a:t>2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evolución sindicalismo nacional última década</a:t>
            </a:r>
            <a:r>
              <a:rPr b="1" lang="es-ES_tradnl" sz="2800" spc="-1" strike="noStrike">
                <a:solidFill>
                  <a:srgbClr val="ff9900"/>
                </a:solidFill>
                <a:latin typeface="Comic Sans MS"/>
              </a:rPr>
              <a:t>...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838080" y="1447920"/>
          <a:ext cx="1447776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447920"/>
                    <a:ext cx="14477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279-E0B4-4DFA-9F6D-9B44030BCE71}" type="slidenum">
              <a:t>3</a:t>
            </a:fld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...  </a:t>
            </a:r>
            <a:r>
              <a:rPr b="0" lang="es-ES_tradnl" sz="4000" spc="-1" strike="noStrike">
                <a:solidFill>
                  <a:srgbClr val="ffcc66"/>
                </a:solidFill>
                <a:latin typeface="Comic Sans MS"/>
              </a:rPr>
              <a:t>trabajadores negociando por año, como % de la F. T. ocupada..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91: </a:t>
            </a:r>
            <a:r>
              <a:rPr b="1" lang="es-ES_tradnl" sz="3200" spc="-1" strike="noStrike">
                <a:solidFill>
                  <a:srgbClr val="00cc00"/>
                </a:solidFill>
                <a:latin typeface="Times New Roman"/>
              </a:rPr>
              <a:t>257.00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7: 193.000 (5,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2: 226.000 (4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8: 206.000 (5,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3:256.000 (5,0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9: 161.000 (4,3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4:236.000 (4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0: 182.000 (4,9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5:214.000 (4,1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1: 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160.000 (2,9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6:221.000 </a:t>
            </a:r>
            <a:r>
              <a:rPr b="1" lang="es-ES_tradnl" sz="3200" spc="-1" strike="noStrike">
                <a:solidFill>
                  <a:srgbClr val="00cc00"/>
                </a:solidFill>
                <a:latin typeface="Times New Roman"/>
              </a:rPr>
              <a:t>(6,0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2: 175.000 (3,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92-5214-4153-923E-E98DE27ED5A3}" type="slidenum">
              <a:t>4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BAC-54CD-469D-B8EB-4A3984A6046E}" type="slidenum">
              <a:t>5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1143000"/>
          <a:ext cx="9144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83A-47DD-4493-B60B-A4994899364D}" type="slidenum">
              <a:t>6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2600"/>
          <a:ext cx="11963520" cy="681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00"/>
                    <a:ext cx="11963520" cy="68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80C-2375-4DF9-AAE6-04985402B886}" type="slidenum">
              <a:t>7</a:t>
            </a:fld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26360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como se aprecia  el índice  de conflictividad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226-373A-45F0-82CB-A4077C2C45DE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y las huelgas, cuánto duran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4B4-F2CC-4EC0-9D8E-6346064D766F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2:17:55Z</dcterms:created>
  <dc:creator>Computador Personal</dc:creator>
  <dc:description/>
  <dc:language>en-US</dc:language>
  <cp:lastModifiedBy>Héctor Humeres</cp:lastModifiedBy>
  <dcterms:modified xsi:type="dcterms:W3CDTF">2005-05-26T21:08:10Z</dcterms:modified>
  <cp:revision>93</cp:revision>
  <dc:subject/>
  <dc:title>La negociación colectiva</dc:title>
</cp:coreProperties>
</file>