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40555-41BF-4087-A1EF-7878254E4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82E16-4FD8-4A0D-87CA-E892A8E34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241C6-B8C6-4249-A50E-ABF0122C8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E728F-15C9-42B2-A05A-4FCCD96EB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C7A03-B297-40D3-8475-2271E3495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ED449-E9AB-43F7-9DFB-B1408E8A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1AAB4-04E0-4DDE-9246-88100AC98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AFEE5-9495-4B82-8AC3-5847A63E1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A5B85-1438-486F-9815-E1303FE1C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5C5C-16C5-471C-832F-232A04D9F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C25FF-1012-43E3-ADAA-0E836B4F0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F74C3-1D33-4DBF-B0B7-07FACDEC2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8C26-AFCB-4CD3-AC25-7DA6042A1E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6200" y="568440"/>
            <a:ext cx="8299440" cy="5031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tuto de la Corte Internacional de Justic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ículo 3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rte, cuya función es decidir conforme al derecho internacional las controversias que le sean sometidas, deberá aplicar:</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venciones internacionales, sean generales o particulares, que establecen las reglas expresamente reconocidas por los Estados litigantes;</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costumbre internacional como prueba de una práctica generalmente aceptada como derecho;</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principios generales de derecho reconocidos por las naciones civilizadas;</a:t>
            </a:r>
            <a:endParaRPr b="0" lang="en-US" sz="1800" spc="-1" strike="noStrike">
              <a:solidFill>
                <a:srgbClr val="000000"/>
              </a:solidFill>
              <a:latin typeface="Arial"/>
            </a:endParaRPr>
          </a:p>
          <a:p>
            <a:pPr marL="343080" indent="-343080">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decisiones judiciales y las doctrinas de los publicistas de mayor competencia de las distintas naciones, como medio auxiliar para la determinación de las reglas de derecho, sin perjuicio de lo dispuesto en el Artículo 59.</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La presente disposición no restringe la facultad de la Corte para decidir un litigio ex aequo et bono, si las partes así lo conviniere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00" y="836640"/>
            <a:ext cx="8300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sper We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teoría clásica del derecho internacional descansa en un delicado, por cierto, precario equilibrio entre dos preocupaciones opuestas: por un lado, el permitir que emerjan normas de derecho consuetudinario sin requerir el consentimiento individual de cada Estado; por el otro lado, el permitir a Estados individuales una vía de evitar resultar obligados por reglas que ellos no reconocen como tales” (‘Towards Relative Normativity in International Law’, 77 AJIL (1983) pp. 433-43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190600" y="0"/>
            <a:ext cx="4762800" cy="666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19120" y="712800"/>
            <a:ext cx="786924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del Derecho de Asilo (CIJ 19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Finalmente el gobierno de Colombia se ha referido a un gran número de casos en que el asilo diplomático en los hechos se otorgó y se respetó. Pero no ha demostrado que esa supuesta regla de la calificación unilateral y definitiva haya sido invocada −si es que fue invocada − o que fue aplicada, más allá de la estipulación convencional, por los Estados que otorgaban el asilo como un derecho perteneciente a ellos y respetado por los Estados del territorio como una obligación que pesaba sobre ellos y no solamente por razones de conveniencia política. Los hechos que se han traido al conocimiento de la Corte demuestran tal incertidumbre y contradicción, tal fluctuación y discrepancia en el ejercicio del asilo diplomático y en las opiniones oficiales vertidas en ciertas ocasiones, ha habido tanta inconsistencia en la rápida sucesión de convenciones sobre el asilo, las que han sido ratificadas por algunos Estados y rechazadas por otros, y la práctica ha sido tan influida por consideraciones de conveniencia política en los diferentes casos, que no es posible discernir en todos ellos algún uso constante y uniforme, aceptado como derecho, en relación a la supuesta regla de la calificación unilateral y definitiva del del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17:58:14Z</dcterms:created>
  <dc:creator>Centro de Informatica</dc:creator>
  <dc:description/>
  <dc:language>en-US</dc:language>
  <cp:lastModifiedBy>Centro de Informatica</cp:lastModifiedBy>
  <dcterms:modified xsi:type="dcterms:W3CDTF">2005-03-11T18:11:07Z</dcterms:modified>
  <cp:revision>2</cp:revision>
  <dc:subject/>
  <dc:title>Diapositiva 1</dc:title>
</cp:coreProperties>
</file>