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F6198-A5A0-4A3C-BADD-62F4758D5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728BD-F14B-4309-8741-F2C584315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31562-0D8C-4816-AF95-8B0BC34F1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B24D4-B851-4ACB-BD5D-C235E9458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399770-5560-48D6-85CD-B7A1D1AD02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F1E10-D047-4046-8C55-A0DA1020E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B5247-CE64-461A-9C46-F1134526C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85524-9B4F-41ED-878E-BD43D8329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1213F-F4A5-4848-B425-5303AAD09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05737-147D-404C-8C1D-DBE938AD7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81024-6664-4DF1-93BB-E589CD9AF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77EE2-84E1-4536-BB39-B52BF85E0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05413-5530-4002-8244-99ED239C4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B4123-1D77-4E99-AC57-37AA011F6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8D7A9-8593-4291-B17C-D3013D4D0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C24507-AF05-43A0-872D-41A26544FA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B05009-84EA-4C2C-BEB3-2577E173B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86944-E518-490D-A094-E2B57F1AC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1D15D-A29C-4552-8D14-90088199E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9C29A-CEC7-4E90-9D91-33CB53F3E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0061B-5699-4D85-A42B-1C83053CB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F62D6-42B7-47A3-A471-68457FD05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14E13-1038-48C5-A139-1262BBCDE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07FBE-B87A-498B-B645-3681FC694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2032-4219-4136-8476-0F231BCFBD4D}"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0440D-8251-43CF-9CF2-4F8E59EEDA04}"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La relación entre el derecho internacional y el derecho interno</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iv) Discusión en torno a las competencias de los órganos del Estado en el proceso de incorporación de los tratado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v) Discusión en torno al control de constitucionalidad de los tratado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Times New Roman"/>
              </a:rPr>
              <a:t>Mayorías necesariaspara la aprobación de los tratados</a:t>
            </a:r>
            <a:endParaRPr b="0" lang="en-US" sz="36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   </a:t>
            </a:r>
            <a:r>
              <a:rPr b="0" lang="es-ES_tradnl" sz="2400" spc="-1" strike="noStrike">
                <a:solidFill>
                  <a:srgbClr val="ffffcc"/>
                </a:solidFill>
                <a:latin typeface="Times New Roman"/>
              </a:rPr>
              <a:t>Fallo del Tribunal Constitucional sobre la constitucionalidad del Convenio 169 de la OI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Considerando 24: “. . . nos encontramos ante una situación en que, aparentemente, existiría una contradicción entre dos normas de la Constitución.  En efecto, por una parte, el artículo 50 No. 1) de la Carta Fundamental, estatuye que al Congreso sólo le corresponde aprobar o rechazar el tratado como un todo y, en cambio, el artículo 63, por la otra, obliga a que las disposiciones del tratado se voten con distintos quórum. .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Considerando No. 25:  Que, sin embargo tal contradicción es más aparente que real, ya que interpretando ambas normas en forma armónica y teniendo en vista la finalidad perseguida por ambos preceptos, es perfectamente conciliable el propósito pretendido por el artículo 50 No.1), con la obligación que deriva del artículo 63. … las disposiciones del tratado - en el caso que este contemple normas de distinta naturaleza- se aprobarán o rechazarán aplicando el quórum que corresponde a los distintos grupos de ellas; pero el proyecto de acuerdo de aprobación del tratado sólo se entenderá sancionado por la respectiva Cámara Legislativa cuando todas las disposiciones del tratado hubiesen sido aprobadas en ell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Times New Roman"/>
              </a:rPr>
              <a:t>Artículo 50 de la Constitución:</a:t>
            </a:r>
            <a:endParaRPr b="0" lang="en-US" sz="4000" spc="-1" strike="noStrike">
              <a:solidFill>
                <a:srgbClr val="ffcc00"/>
              </a:solidFill>
              <a:latin typeface="Times New Roman"/>
            </a:endParaRPr>
          </a:p>
        </p:txBody>
      </p:sp>
      <p:sp>
        <p:nvSpPr>
          <p:cNvPr id="12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Son atribuciones exclusivas del Congreso:</a:t>
            </a:r>
            <a:endParaRPr b="0" lang="en-US" sz="28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 Aprobar o desechar los tratados internacionales que le presentare el Presidente de la República antes de su ratificación. La aprobación de un tratado se someterá a los trámites de una ley.</a:t>
            </a:r>
            <a:endParaRPr b="0" lang="en-US" sz="28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    </a:t>
            </a:r>
            <a:r>
              <a:rPr b="0" lang="es-ES_tradnl" sz="2800" spc="-1" strike="noStrike">
                <a:solidFill>
                  <a:srgbClr val="ffffcc"/>
                </a:solidFill>
                <a:latin typeface="Times New Roman"/>
              </a:rPr>
              <a:t>Las medidas que el Presidente de la República adopte o los acuerdos que celebre para el cumplimiento de un tratado en vigor no requerirán nueva aprobación del Congreso, a menos que se trate de materias propias de ley.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imes New Roman"/>
              </a:rPr>
              <a:t>El problema de la jerarquía normativa de los tratados incorporados al derecho chileno</a:t>
            </a:r>
            <a:endParaRPr b="0" lang="en-US" sz="3200" spc="-1" strike="noStrike">
              <a:solidFill>
                <a:srgbClr val="ffcc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   </a:t>
            </a:r>
            <a:r>
              <a:rPr b="0" lang="es-ES_tradnl" sz="3200" spc="-1" strike="noStrike">
                <a:solidFill>
                  <a:srgbClr val="ffffcc"/>
                </a:solidFill>
                <a:latin typeface="Times New Roman"/>
              </a:rPr>
              <a:t>¿Cuáles son los argumentos más poderosos para dar jerarquía suprelegal a los tratados o a cierto tipo de tratados?</a:t>
            </a:r>
            <a:endParaRPr b="0" lang="en-US" sz="3200" spc="-1" strike="noStrike">
              <a:solidFill>
                <a:srgbClr val="ffffcc"/>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   </a:t>
            </a:r>
            <a:r>
              <a:rPr b="0" lang="es-ES_tradnl" sz="3200" spc="-1" strike="noStrike">
                <a:solidFill>
                  <a:srgbClr val="ffffcc"/>
                </a:solidFill>
                <a:latin typeface="Times New Roman"/>
              </a:rPr>
              <a:t>¿Cuáles son las ventajas y desventajas de asignar jerarquía supralegal a los tratados?</a:t>
            </a:r>
            <a:endParaRPr b="0" lang="en-US" sz="3200" spc="-1" strike="noStrike">
              <a:solidFill>
                <a:srgbClr val="ffffcc"/>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   </a:t>
            </a:r>
            <a:r>
              <a:rPr b="0" lang="es-ES_tradnl" sz="3200" spc="-1" strike="noStrike">
                <a:solidFill>
                  <a:srgbClr val="ffffcc"/>
                </a:solidFill>
                <a:latin typeface="Times New Roman"/>
              </a:rPr>
              <a:t>¿Qué relación existe entre el problema de la jerarquía de los tratados y el funcionamiento de la democraci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cc00"/>
                </a:solidFill>
                <a:uFillTx/>
                <a:latin typeface="Times New Roman"/>
                <a:ea typeface="Times New Roman"/>
              </a:rPr>
              <a:t>Godoy y otros con Fisco</a:t>
            </a:r>
            <a:r>
              <a:rPr b="0" lang="es-CL" sz="2400" spc="-1" strike="noStrike">
                <a:solidFill>
                  <a:srgbClr val="ffcc00"/>
                </a:solidFill>
                <a:latin typeface="Times New Roman"/>
                <a:ea typeface="Times New Roman"/>
              </a:rPr>
              <a:t> (1913) Revista de Derecho y Jurisprudencia, tomo XII, 2a. parte, sección 1a, p. 104:</a:t>
            </a:r>
            <a:br>
              <a:rPr sz="2400"/>
            </a:br>
            <a:endParaRPr b="0" lang="en-US" sz="2400" spc="-1" strike="noStrike">
              <a:solidFill>
                <a:srgbClr val="ffcc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 “</a:t>
            </a:r>
            <a:r>
              <a:rPr b="0" lang="es-CL" sz="2800" spc="-1" strike="noStrike">
                <a:solidFill>
                  <a:srgbClr val="ffffcc"/>
                </a:solidFill>
                <a:latin typeface="Times New Roman"/>
                <a:ea typeface="Times New Roman"/>
              </a:rPr>
              <a:t>la estructura jurídica de los tratados internacionales, principalmente la exigencia constitucional de que intervengan en su aprobación los cuerpos legisladores, hace que ellos sean verdaderas leyes, ya que en su génesis, desarrollo y promulgación oficial, se reúnen todos y cada uno de los requisitos y elementos constitutivos de la ley, tal como la define el artículo primero del Código Civil”.</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cc00"/>
                </a:solidFill>
                <a:uFillTx/>
                <a:latin typeface="Times New Roman"/>
                <a:ea typeface="Times New Roman"/>
              </a:rPr>
              <a:t>Sucesión Juan Gardaix con Fisco</a:t>
            </a:r>
            <a:r>
              <a:rPr b="0" lang="es-CL" sz="2400" spc="-1" strike="noStrike">
                <a:solidFill>
                  <a:srgbClr val="ffcc00"/>
                </a:solidFill>
                <a:latin typeface="Times New Roman"/>
                <a:ea typeface="Times New Roman"/>
              </a:rPr>
              <a:t> (1921), Revista de Derecho y Gaceta de los Tribunales, 1921, primer semestre p 22:</a:t>
            </a:r>
            <a:endParaRPr b="0" lang="en-US" sz="24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Considerando 3o.:</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      “ </a:t>
            </a:r>
            <a:r>
              <a:rPr b="0" lang="es-CL" sz="2800" spc="-1" strike="noStrike">
                <a:solidFill>
                  <a:srgbClr val="ffffcc"/>
                </a:solidFill>
                <a:latin typeface="Times New Roman"/>
                <a:ea typeface="Times New Roman"/>
              </a:rPr>
              <a:t>Que los tratados internacionales, si bien son concluidos y firmados por el Presidente de la República, en ejercicio de sus atribuciones especiales, revisten, sin embargo, los caracteres jurídicos de verdaderas leyes, porque para que tengan fuerza obligatoria deben ser sometidos a la aprobación del Congreso y promulgados en la misma forma que leye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Fallo Embajada Alemana 1988 (Corte Suprema):</a:t>
            </a:r>
            <a:endParaRPr b="0" lang="en-US" sz="2400" spc="-1" strike="noStrike">
              <a:solidFill>
                <a:srgbClr val="ffcc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3o. Que tratándose de garantías constitucionales, cuyo ejercicio están expresamente amparadas con un recurso establecido en la propia Constitución, forzoso es concluir que las normas de ésta última prevalecen en función de los que disponga una Convención de carácter internacional que jurídicamente tiene valor de ley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cc00"/>
                </a:solidFill>
                <a:uFillTx/>
                <a:latin typeface="Times New Roman"/>
                <a:ea typeface="Times New Roman"/>
              </a:rPr>
              <a:t>Artículo 27 de la Convención de Viena. sobre el Derecho de los Tratados-</a:t>
            </a:r>
            <a:br>
              <a:rPr sz="2800"/>
            </a:br>
            <a:endParaRPr b="0" lang="en-US" sz="2800" spc="-1" strike="noStrike">
              <a:solidFill>
                <a:srgbClr val="ffcc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cc"/>
                </a:solidFill>
                <a:latin typeface="Times New Roman"/>
                <a:ea typeface="Times New Roman"/>
              </a:rPr>
              <a:t>El derecho interno y la observancia de los tratados</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 </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    </a:t>
            </a:r>
            <a:r>
              <a:rPr b="0" lang="es-CL" sz="2800" spc="-1" strike="noStrike">
                <a:solidFill>
                  <a:srgbClr val="ffffcc"/>
                </a:solidFill>
                <a:latin typeface="Times New Roman"/>
                <a:ea typeface="Times New Roman"/>
              </a:rPr>
              <a:t>Una parte no podrá invocar las disposiciones de su derecho interno como justificación del incumplimiento de un tratado.  Esta norma se entenderá sin perjuicio de lo dispuesto en el artículo 46.</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cc00"/>
                </a:solidFill>
                <a:uFillTx/>
                <a:latin typeface="Times New Roman"/>
                <a:ea typeface="Times New Roman"/>
              </a:rPr>
              <a:t>Artículo 46 de la Convención de Viena</a:t>
            </a:r>
            <a:r>
              <a:rPr b="0" lang="es-CL" sz="2800" spc="-1" strike="noStrike">
                <a:solidFill>
                  <a:srgbClr val="ffcc00"/>
                </a:solidFill>
                <a:latin typeface="Times New Roman"/>
                <a:ea typeface="Times New Roman"/>
              </a:rPr>
              <a:t>:</a:t>
            </a:r>
            <a:endParaRPr b="0" lang="en-US" sz="2800" spc="-1" strike="noStrike">
              <a:solidFill>
                <a:srgbClr val="ffcc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cc"/>
                </a:solidFill>
                <a:latin typeface="Times New Roman"/>
                <a:ea typeface="Times New Roman"/>
              </a:rPr>
              <a:t>Disposiciones de derecho interno concernientes a la competencia para celebrar tratados</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ea typeface="Times New Roman"/>
              </a:rPr>
              <a:t>        </a:t>
            </a:r>
            <a:r>
              <a:rPr b="0" lang="es-CL" sz="2000" spc="-1" strike="noStrike">
                <a:solidFill>
                  <a:srgbClr val="ffffcc"/>
                </a:solidFill>
                <a:latin typeface="Times New Roman"/>
                <a:ea typeface="Times New Roman"/>
              </a:rPr>
              <a:t>1.      El hecho de que el consentimiento de un Estado en obligarse por un tratado haya sido manifestado en violación de una disposición de su derecho interno concerniente a la competencia para celebrar tratados no podrá ser alegado por dicho Estado como vicio de su consentimiento, a menos que esa violación se manifiesta y afecte a una norma de importancia fundamental de su derecho interno.</a:t>
            </a:r>
            <a:endParaRPr b="0" lang="en-US" sz="2000" spc="-1" strike="noStrike">
              <a:solidFill>
                <a:srgbClr val="ffffcc"/>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ea typeface="Times New Roman"/>
              </a:rPr>
              <a:t>2.      Una violación es manifiesta si resulta objetivamente evidente para cualquier Estado que proceda en la materia conforme a la práctica usual y de buena f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Times New Roman"/>
              </a:rPr>
              <a:t>Cuestiones previas:</a:t>
            </a:r>
            <a:endParaRPr b="0" lang="en-US" sz="3600" spc="-1" strike="noStrike">
              <a:solidFill>
                <a:srgbClr val="ffcc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Monismo y dualismo: 2 teorías que no ofrecen gran ayuda práctica a la hora de resolver conflictos entre las normas del derecho internacional y las del derecho nacional.</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El llamado ‘déficit democrático’ del sistema jurídico internacional</a:t>
            </a:r>
            <a:r>
              <a:rPr b="0" lang="es-ES_tradnl"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Times New Roman"/>
              </a:rPr>
              <a:t>Constitución Holandesa:</a:t>
            </a:r>
            <a:endParaRPr b="0" lang="en-US" sz="32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cc"/>
                </a:solidFill>
                <a:latin typeface="Times New Roman"/>
                <a:ea typeface="Times New Roman"/>
              </a:rPr>
              <a:t>Las disposiciones legales vigentes dentro del Reino no se aplicarán si su aplicación está en conflicto con las diposiciones de los tratados que obliguen a todas las personas o de resoluciones de organizaciones internacionales</a:t>
            </a:r>
            <a:r>
              <a:rPr b="0" lang="es-MX"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Times New Roman"/>
              </a:rPr>
              <a:t>Constitución de Francia:</a:t>
            </a:r>
            <a:endParaRPr b="0" lang="en-US" sz="2800" spc="-1" strike="noStrike">
              <a:solidFill>
                <a:srgbClr val="ffcc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ea typeface="Times New Roman"/>
              </a:rPr>
              <a:t>“</a:t>
            </a:r>
            <a:r>
              <a:rPr b="0" lang="es-CL" sz="3200" spc="-1" strike="noStrike">
                <a:solidFill>
                  <a:srgbClr val="ffffcc"/>
                </a:solidFill>
                <a:latin typeface="Times New Roman"/>
                <a:ea typeface="Times New Roman"/>
              </a:rPr>
              <a:t>los tratados o acuerdos debidamente ratificados o aprobados tendrán desde el momento de su publicación, una autoridad superior a la de las leyes, a reserva, para cada acuerdo o tratado, de su aplicación por la otr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Times New Roman"/>
              </a:rPr>
              <a:t>Constitución española:</a:t>
            </a:r>
            <a:endParaRPr b="0" lang="en-US" sz="2800" spc="-1" strike="noStrike">
              <a:solidFill>
                <a:srgbClr val="ffcc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cc"/>
                </a:solidFill>
                <a:latin typeface="Times New Roman"/>
                <a:ea typeface="Times New Roman"/>
              </a:rPr>
              <a:t>Artículo 96(1)</a:t>
            </a:r>
            <a:r>
              <a:rPr b="0" lang="es-MX" sz="2800" spc="-1" strike="noStrike">
                <a:solidFill>
                  <a:srgbClr val="ffffcc"/>
                </a:solidFill>
                <a:latin typeface="Times New Roman"/>
                <a:ea typeface="Times New Roman"/>
              </a:rPr>
              <a:t>:  </a:t>
            </a:r>
            <a:r>
              <a:rPr b="0" lang="he-IL" sz="2800" spc="-1" strike="noStrike">
                <a:solidFill>
                  <a:srgbClr val="ffffcc"/>
                </a:solidFill>
                <a:latin typeface="Times New Roman"/>
                <a:ea typeface="Times New Roman"/>
              </a:rPr>
              <a:t>Los tratados internacionales válidamente celebrados, una vez publicados oficialmente en España, formarán parte del ordenamiento interno.  Sus disposiciones sólo podrán ser derogadas, modificadas o suspendidas en la forma prevista en los propios tratados o de acuerdo con las normas generales del derecho internacional</a:t>
            </a:r>
            <a:r>
              <a:rPr b="0" lang="es-MX" sz="2800" spc="-1" strike="noStrike">
                <a:solidFill>
                  <a:srgbClr val="ffffcc"/>
                </a:solidFill>
                <a:latin typeface="Times New Roman"/>
              </a:rPr>
              <a:t>.</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Times New Roman"/>
              </a:rPr>
              <a:t>Constitución española:</a:t>
            </a:r>
            <a:endParaRPr b="0" lang="en-US" sz="28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ea typeface="Times New Roman"/>
              </a:rPr>
              <a:t>Artículo 95(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ea typeface="Times New Roman"/>
              </a:rPr>
              <a:t>   </a:t>
            </a:r>
            <a:r>
              <a:rPr b="0" lang="es-CL" sz="3200" spc="-1" strike="noStrike">
                <a:solidFill>
                  <a:srgbClr val="ffffcc"/>
                </a:solidFill>
                <a:latin typeface="Times New Roman"/>
                <a:ea typeface="Times New Roman"/>
              </a:rPr>
              <a:t>La celebración de un tratado internacional que contenga estipulaciones contrarias a la Constitución exigirá la previa revisión constitucion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cc00"/>
                </a:solidFill>
                <a:latin typeface="Times New Roman"/>
                <a:ea typeface="Times New Roman"/>
              </a:rPr>
              <a:t>Artículo 5 inciso segundo</a:t>
            </a:r>
            <a:endParaRPr b="0" lang="en-US" sz="3200" spc="-1" strike="noStrike">
              <a:solidFill>
                <a:srgbClr val="ffcc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    </a:t>
            </a:r>
            <a:r>
              <a:rPr b="0" lang="es-CL" sz="2800" spc="-1" strike="noStrike">
                <a:solidFill>
                  <a:srgbClr val="ffffcc"/>
                </a:solidFill>
                <a:latin typeface="Times New Roman"/>
                <a:ea typeface="Times New Roman"/>
              </a:rPr>
              <a:t>El ejercicio de la soberanía reconoce como limitación el respeto a los derechos esenciales que emanan de la naturaleza humana. Es deber de los órganos del Estado respetar y promover tales derechos, garantizado por esta Constitución, así como por los tratados internacionales ratificados por Chile y que se encuentren vigentes.</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Times New Roman"/>
              </a:rPr>
              <a:t>Artículo 5 inciso segundo hipotético</a:t>
            </a:r>
            <a:endParaRPr b="0" lang="en-US" sz="2800" spc="-1" strike="noStrike">
              <a:solidFill>
                <a:srgbClr val="ffcc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Times New Roman"/>
                <a:ea typeface="Times New Roman"/>
              </a:rPr>
              <a:t>    </a:t>
            </a:r>
            <a:r>
              <a:rPr b="0" lang="he-IL" sz="3200" spc="-1" strike="noStrike">
                <a:solidFill>
                  <a:srgbClr val="ffffcc"/>
                </a:solidFill>
                <a:latin typeface="Times New Roman"/>
                <a:ea typeface="Times New Roman"/>
              </a:rPr>
              <a:t>El ejercicio de la soberanía reconoce como limitación el respecto a los derechos esenciales que emanan de la naturaleza humana.  Es deber de los órganos del Estado respetar y promover tales derechos, garantizados por esta Constitución, así como por las leyes</a:t>
            </a:r>
            <a:r>
              <a:rPr b="0" lang="es-MX" sz="3200" spc="-1" strike="noStrike">
                <a:solidFill>
                  <a:srgbClr val="ffffcc"/>
                </a:solidFill>
                <a:latin typeface="Times New Roman"/>
                <a:ea typeface="Times New Roman"/>
              </a:rPr>
              <a:t>.</a:t>
            </a:r>
            <a:r>
              <a:rPr b="0" lang="es-E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es siempre negativo incumplir el derecho?</a:t>
            </a:r>
            <a:endParaRPr b="0" lang="en-US" sz="2400" spc="-1" strike="noStrike">
              <a:solidFill>
                <a:srgbClr val="ffcc00"/>
              </a:solidFill>
              <a:latin typeface="Times New Roman"/>
            </a:endParaRPr>
          </a:p>
        </p:txBody>
      </p:sp>
      <p:sp>
        <p:nvSpPr>
          <p:cNvPr id="14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ea typeface="Times New Roman"/>
              </a:rPr>
              <a:t>Los conflictos no están desprovistos de todo beneficio; tampoco lo están las disputas. La existencia del conflicto internacional es invariablemente una señal de que el orden existente no está acomodando satisfactoriamente los intereses de todos y cada uno de los miembros de la comunidad internacional.  El conflicto persigue lograr ajustes a ese orden.  En ese sentido, el conflicto es necesario para el desarrollo de cualquier sociedad. Las disputas se refieren a aspectos particulares de ese orden; y su solución exitosa lleva, o bien a la confirmación y reforzamiento de las antiguas reglas, o al debilitamiento y reemplazo de las viejas reglas por nuevas reglas.  El conflicto internacional, por ejemplo, llevó a la formulación de normas más elaboradas o de nuevas reglas sobre expropiación de la propiedad de los extranjeros y sobre zonas marítimas, o sobre crímenes de guerra e inmunidad soberana. . . (Lowe y Collier, 2000).</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imes New Roman"/>
              </a:rPr>
              <a:t>Hans Kelsen:</a:t>
            </a:r>
            <a:endParaRPr b="0" lang="en-US" sz="3200" spc="-1" strike="noStrike">
              <a:solidFill>
                <a:srgbClr val="ff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ea typeface="Times New Roman"/>
              </a:rPr>
              <a:t>“</a:t>
            </a:r>
            <a:r>
              <a:rPr b="0" lang="es-CL" sz="2000" spc="-1" strike="noStrike">
                <a:solidFill>
                  <a:srgbClr val="ffffcc"/>
                </a:solidFill>
                <a:latin typeface="Times New Roman"/>
                <a:ea typeface="Times New Roman"/>
              </a:rPr>
              <a:t>No existe ninguna materia que, por su sola naturaleza, caiga en forma exclusiva dentro de la jurisdicción doméstica del Estado, materias que por su sola naturaleza no pudieran ser reguladas por una norma general o especial de derecho internacional.  El derecho internacional puede regular todas las materias, incluso aquellas que normalmente son reguladas por el derecho nacional solamente y consideradas, por lo tanto, como materias “domésticas”; por ejemplo, cuestiones constitucionales tales como la forma de gobierno, la adquisición y pérdida de la nacionalidad, problemas laborales, todos el campo de las políticas sociales, los problemas religiosos, cuestiones de inmigración y aranceles, problemas de derecho penal y de procedimiento penal, problemas de derecho civil y de procedimiento civil”.</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Times New Roman"/>
              </a:rPr>
              <a:t>Hans Kelsen:</a:t>
            </a:r>
            <a:endParaRPr b="0" lang="en-US" sz="2800" spc="-1" strike="noStrike">
              <a:solidFill>
                <a:srgbClr val="ffcc00"/>
              </a:solidFill>
              <a:latin typeface="Times New Roman"/>
            </a:endParaRPr>
          </a:p>
        </p:txBody>
      </p:sp>
      <p:sp>
        <p:nvSpPr>
          <p:cNvPr id="10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Times New Roman"/>
                <a:ea typeface="Times New Roman"/>
              </a:rPr>
              <a:t> “</a:t>
            </a:r>
            <a:r>
              <a:rPr b="0" lang="es-CL" sz="1600" spc="-1" strike="noStrike">
                <a:solidFill>
                  <a:srgbClr val="ffffcc"/>
                </a:solidFill>
                <a:latin typeface="Times New Roman"/>
                <a:ea typeface="Times New Roman"/>
              </a:rPr>
              <a:t>En caso de conflicto entre una norma establecida de derecho internacional y una ley más reciente del derecho internacional, los órganos del Estado no necesariamente deben considerar a la ley como norma válida.  Es perfectamente posible que los tribunales estén facultados para rechazar la aplicación de la ley, del mismo modo que ellos a veces tienen competencia para rechazar la aplicación de una ley inconstitucional. Y lo mismo puede decirse en el caso en el caso de conflicto entre una ley y un tratado posterior. Podría ser que según la constitución del Estado respectivo, el tratado, y no la ley, deba ser aplicado. La pregunta sobre si en caso de conflicto entre el derecho nacional y el derecho internacional, uno o el otro deben primar sólo se puede responder sobre la base del derecho nacional respectivo; la respuesta no se puede deducir de la relación que se asume que existe entre el derecho internacional y el derecho nacional.  En la medida que, de acuerdo al derecho nacional positivo, no se excluya que en caso de conflicto entre este derecho y el derecho internacional sea el primero el que deba considerarse como válido, tenemos que asumir aquí, que los órganos del Estado estarían obligados a aplicar el derecho nacional, aún cuando éste fuera contrario al derecho internacional”. (</a:t>
            </a:r>
            <a:r>
              <a:rPr b="0" i="1" lang="en-US" sz="1600" spc="-1" strike="noStrike">
                <a:solidFill>
                  <a:srgbClr val="ffffcc"/>
                </a:solidFill>
                <a:latin typeface="Times New Roman"/>
                <a:ea typeface="Times New Roman"/>
              </a:rPr>
              <a:t>Principles of International Law</a:t>
            </a:r>
            <a:r>
              <a:rPr b="0" lang="en-US" sz="1600" spc="-1" strike="noStrike">
                <a:solidFill>
                  <a:srgbClr val="ffffcc"/>
                </a:solidFill>
                <a:latin typeface="Times New Roman"/>
                <a:ea typeface="Times New Roman"/>
              </a:rPr>
              <a:t> (2</a:t>
            </a:r>
            <a:r>
              <a:rPr b="0" lang="en-US" sz="1600" spc="-1" strike="noStrike" baseline="30000">
                <a:solidFill>
                  <a:srgbClr val="ffffcc"/>
                </a:solidFill>
                <a:latin typeface="Times New Roman"/>
                <a:ea typeface="Times New Roman"/>
              </a:rPr>
              <a:t>nd</a:t>
            </a:r>
            <a:r>
              <a:rPr b="0" lang="en-US" sz="1600" spc="-1" strike="noStrike">
                <a:solidFill>
                  <a:srgbClr val="ffffcc"/>
                </a:solidFill>
                <a:latin typeface="Times New Roman"/>
                <a:ea typeface="Times New Roman"/>
              </a:rPr>
              <a:t>. ed. revised and edited by R. Tucker), new York, 1966, pp. 565-566.)</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Monismo y dualismo puro no tienen aplicación en la práctica de los Estados:</a:t>
            </a:r>
            <a:endParaRPr b="0" lang="en-US" sz="2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En general, los sistemas jurídicos nacionales contienen alguna norma que se refiere a la forma en que el derecho internacional puede ingresar al sistema jurídico interno.</a:t>
            </a:r>
            <a:endParaRPr b="0" lang="en-US" sz="2000" spc="-1" strike="noStrike">
              <a:solidFill>
                <a:srgbClr val="ffffcc"/>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spcBef>
                <a:spcPts val="499"/>
              </a:spcBef>
              <a:spcAft>
                <a:spcPts val="499"/>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Los sistemas jurídicos nacionales adoptan diversas posiciones respecto de la jerarquía que ocupan las normas derivadas del derecho internacional cuando éstas ingresan al derecho interno. No todos los sistemas nacionales otorgan mayor jerarquía al derecho derivado del derecho internacional sobre el derecho nacional.</a:t>
            </a:r>
            <a:endParaRPr b="0" lang="en-US" sz="2000" spc="-1" strike="noStrike">
              <a:solidFill>
                <a:srgbClr val="ffffcc"/>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cc00"/>
                </a:solidFill>
                <a:uFillTx/>
                <a:latin typeface="Times New Roman"/>
              </a:rPr>
              <a:t>Una conclusión preliminar</a:t>
            </a:r>
            <a:r>
              <a:rPr b="0" lang="es-ES_tradnl" sz="3200" spc="-1" strike="noStrike">
                <a:solidFill>
                  <a:srgbClr val="ffcc00"/>
                </a:solidFill>
                <a:latin typeface="Times New Roman"/>
              </a:rPr>
              <a:t>:</a:t>
            </a:r>
            <a:endParaRPr b="0" lang="en-US" sz="3200" spc="-1" strike="noStrike">
              <a:solidFill>
                <a:srgbClr val="ffcc00"/>
              </a:solidFill>
              <a:latin typeface="Times New Roman"/>
            </a:endParaRPr>
          </a:p>
        </p:txBody>
      </p:sp>
      <p:sp>
        <p:nvSpPr>
          <p:cNvPr id="10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El sistema jurídico internacional y los diversos sistemas jurídicos nacionales tienen su propio ámbito de aplicació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Se pueden dar conflictos entre el sistema internacional y los sistemas nacionales y el conflicto se solucionará por la norma que corresponda, dependiendo si el conflicto surge en el ámbito internacional o nacio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1"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Si el conflicto tiene lugar en el ámbito internacional, tendrá primacía el derecho internacional. Ej: Art. 27 de la Conv. De Viena sobre Derecho de los Ttdo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Si el conflicto tiene lugar en el ámbito nacional, una norma del respectivo sistema interno determinará si triunfa la norma nacional o la derivada del derecho internacio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imes New Roman"/>
              </a:rPr>
              <a:t>El déficit democrático en el sistema jurídico internacional</a:t>
            </a:r>
            <a:endParaRPr b="0" lang="en-US" sz="32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ea typeface="Times New Roman"/>
              </a:rPr>
              <a:t>1)   El principio de la igualdad jurídica de los Estados.</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ea typeface="Times New Roman"/>
              </a:rPr>
              <a:t>2)  Diferencias de poder político y económico entre los Estados.</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ea typeface="Times New Roman"/>
              </a:rPr>
              <a:t>3)  Creación de organizaciones internacionales y traspaso de facultades.</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ea typeface="Times New Roman"/>
              </a:rPr>
              <a:t>4)  Uso creciente del consenso como técnica de adopción de tratados.</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ea typeface="Times New Roman"/>
              </a:rPr>
              <a:t>5) El preponderante rol del ejecutivo en la negociación de los tratados.</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imes New Roman"/>
              </a:rPr>
              <a:t>El procedimiento de recepción de los tratados en el derecho chileno. </a:t>
            </a:r>
            <a:r>
              <a:rPr b="0" lang="es-ES_tradnl" sz="3200" spc="-1" strike="noStrike" u="sng">
                <a:solidFill>
                  <a:srgbClr val="ffcc00"/>
                </a:solidFill>
                <a:uFillTx/>
                <a:latin typeface="Times New Roman"/>
              </a:rPr>
              <a:t>Problemas</a:t>
            </a:r>
            <a:r>
              <a:rPr b="0" lang="es-ES_tradnl" sz="3200" spc="-1" strike="noStrike">
                <a:solidFill>
                  <a:srgbClr val="ffcc00"/>
                </a:solidFill>
                <a:latin typeface="Times New Roman"/>
              </a:rPr>
              <a:t>:</a:t>
            </a:r>
            <a:endParaRPr b="0" lang="en-US" sz="32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i) </a:t>
            </a:r>
            <a:r>
              <a:rPr b="0" lang="es-ES_tradnl" sz="3000" spc="-1" strike="noStrike">
                <a:solidFill>
                  <a:srgbClr val="ffffcc"/>
                </a:solidFill>
                <a:latin typeface="Times New Roman"/>
              </a:rPr>
              <a:t>Discusión en torno a la mayoría necesaria para la aprobación parlamentaria del tratado.</a:t>
            </a:r>
            <a:endParaRPr b="0" lang="en-US" sz="3000" spc="-1" strike="noStrike">
              <a:solidFill>
                <a:srgbClr val="ffffcc"/>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cc"/>
                </a:solidFill>
                <a:latin typeface="Times New Roman"/>
              </a:rPr>
              <a:t>(ii) Discusión en torno a las reservas que pueden introducirse por el Presidente de la República a los tratados.</a:t>
            </a:r>
            <a:endParaRPr b="0" lang="en-US" sz="3000" spc="-1" strike="noStrike">
              <a:solidFill>
                <a:srgbClr val="ffffcc"/>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cc"/>
                </a:solidFill>
                <a:latin typeface="Times New Roman"/>
              </a:rPr>
              <a:t>(iii) Discusión en torno al hecho de que la denuncia de un tratado no requiere aprobación parlamentaria.</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8T21:28:58Z</dcterms:created>
  <dc:creator>Centro de Informática</dc:creator>
  <dc:description/>
  <dc:language>en-US</dc:language>
  <cp:lastModifiedBy>Centro de Informática</cp:lastModifiedBy>
  <cp:lastPrinted>2003-05-09T12:56:54Z</cp:lastPrinted>
  <dcterms:modified xsi:type="dcterms:W3CDTF">2003-05-16T14:01:07Z</dcterms:modified>
  <cp:revision>9</cp:revision>
  <dc:subject/>
  <dc:title>La relación entre el derecho internacional y el derecho interno</dc:title>
</cp:coreProperties>
</file>