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FA2D-7A03-4C96-8CC6-E1121566A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6CD0-0E4C-4DAE-88DA-10DD829D8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307C-F4B3-42EC-97CB-8001C8A1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0F8F-A227-47DD-BAE7-020303F88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5CBD-26B2-4E43-99FC-97F71C26A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E632-5175-46BF-860F-2DF8FF2A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CE79-CF8D-4C1C-9C78-B7AD0D9D1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F54C-CE11-4A10-BCF8-5321F214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2B57-4D32-4E67-8AD5-2770FA215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A75E-AC71-417A-875D-BB37B34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1886-E57B-4F35-99F4-44420DBC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55A9-13A9-47CC-AB16-5F4487B4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3CCAD-2259-4ECF-90C3-DCCC7ECD82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90160" y="3068640"/>
            <a:ext cx="37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territorio de l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519120" y="1144440"/>
            <a:ext cx="8013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lta m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Artículo 89 Convem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ingún Estado podrá pretender legítimamente someter cualquier parte de la alta mar a su soberan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19120" y="711360"/>
            <a:ext cx="8085240" cy="30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claración sobre los Principios de Derecho Internacional relativos a las relaciones de Amistad y Cooperación entre los Estados (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territorio de una colonia o de cualquier otro territorio no autónomo tiene de acuerdo a la Carta un status separado y distinto de aquel del territorio de Estado que lo administra y que tal status existiría hasta que los pueblos de esos territorios ejercieran su derecho de auto determinación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19:12:18Z</dcterms:created>
  <dc:creator>Centro de Informatica</dc:creator>
  <dc:description/>
  <dc:language>en-US</dc:language>
  <cp:lastModifiedBy>Centro de Informatica</cp:lastModifiedBy>
  <dcterms:modified xsi:type="dcterms:W3CDTF">2005-04-22T19:32:39Z</dcterms:modified>
  <cp:revision>2</cp:revision>
  <dc:subject/>
  <dc:title>Diapositiva 1</dc:title>
</cp:coreProperties>
</file>