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0239E-CDB5-4B3E-9B72-6115B08D3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0EDF9-3F66-4FFA-900A-04AB175DA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D8995-487F-42B1-8DA2-F5545AE88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C21DE-0252-4816-B21B-E10850C0C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D8F12-7E51-4C57-8FB9-837B1FF2A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F04FA-8EDB-44EA-809C-4C73397E3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26BB6-2A38-46A2-BA65-8831ADBFE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88270-0E9A-47FF-802E-D748FA77B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40487-3741-439D-A7A9-A369A3AB0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8E9E2-B08E-4BD2-B964-D904337B5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5540E-2BF0-4453-911B-1DF8942D2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B38DD-A2F7-4A5C-952C-42529F261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3BA9-EF5C-41CD-8C93-CE52714E45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5120" y="2513160"/>
            <a:ext cx="7508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LUCION PACIFICA DE LAS CONTROVERS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47840" y="568440"/>
            <a:ext cx="80118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utas para el éxito de la mediación entregadas por el Cardenal Samoré:</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Amplitud en la discusión, sin que ello implique aceptar la posición del contra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Flexibilización de las posiciones in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Analizar las propuestas del mediador con criterio abier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Usar lenguaje claro y unívoc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No hay imposición de una solu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Los entendimientos logrados en cada tema sólo tendrán valor cuando formen parte de un acuerdo formal ampl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 Reserva y discre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8) Evitar actos inamisto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7840" y="784080"/>
            <a:ext cx="81565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ciliación en el Tratado de 1984 entre Chile y Argent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Artículo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 caso que las Partes, dentro del plazo de cuatro meses a partir de la invitación a que se refiere el Artículo anterior, no se pudieren de acuerdo sobre otro medio de arreglo pacífico y sobre el plazo y demás modalidades de su aplicación, o que obtenido dicho acuerdo la solución no se alcanzare por cualquier causa, se aplicará el procedimiento de conciliación que se estipula en el Capítulo I del anexo No.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76200" y="568440"/>
            <a:ext cx="8299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Procedimiento de conciliación previsto en el tratado de paz y amist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Dentro del plazo de seis meses desde la entrada en vigor del tratado las partes deben constituir una Comisión Permanente de Concili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Composición: 3 miembros (1 por cada Parte, que puede ser nacional, y el tercero es elegido por ambas partes entre nacionales de terceros Es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Si no se puede acordar el nombre del tercer miembro, cualquiera de las partes puede solicitar la designación a la Santa Se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inú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47840" y="352440"/>
            <a:ext cx="808488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Sometida una controversia a la comisión, cada parte puede designar, de común acuerdo, 2 miembros má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as decisiones se toman por mayoría de sus miemb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a propuesta de la comisión sólo tiene el carácter de recomen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El plazo para el trabajo de la comisión es de 6 me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Confidencia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92200" y="784080"/>
            <a:ext cx="7867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l Arbitra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rbitraje es un medio de solución de las controversias internacionales en que la decisión se entrega a un tercero imparcial cuya decisión es jurídicamente vinculante para las par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92200" y="566640"/>
            <a:ext cx="81565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se somete una controversia a arbitra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Convenio general para someter las controversias que surjan entre ell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 Convenio especial (ad-hoc).</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76200" y="566640"/>
            <a:ext cx="837252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Formas de Arbitra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Comisión se árbitros compuesta por un número igual de árbitros nacionales y un empire que decide la cuestión si los nacionales no logran ponerse de acuerd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Árbitro individu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Comisión de árbitros de número imp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 Comisiones permanentes de arbitr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63480" y="568440"/>
            <a:ext cx="808524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uestiones procedimentales que deben acordarse por las par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se desarrollará el arbitraj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cedimiento a seguirse: plazos para los memoriales, plazos para replicar, si se oirán o no alegatos, plazo para el pronunciamiento del laud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se pagarán los gastos del arbitraje? Pago de árbitros, abogados, personal de secretarí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r claramente cuáles son las cuestiones sometidas a la decisión del tribu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63480" y="423720"/>
            <a:ext cx="79408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Derecho Aplic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rmalmente las partes señalan que el derecho aplicable es el derecho internacion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podrían también acordar aplicar el derecho interno de una de las partes o de un tercer paí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bién está la opción de una autorización para fallar </a:t>
            </a:r>
            <a:r>
              <a:rPr b="0" i="1" lang="es-CL" sz="2400" spc="-1" strike="noStrike">
                <a:solidFill>
                  <a:srgbClr val="000000"/>
                </a:solidFill>
                <a:latin typeface="Arial"/>
              </a:rPr>
              <a:t>ex aequo et bono</a:t>
            </a:r>
            <a:r>
              <a:rPr b="0" lang="es-CL"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08200" y="639720"/>
            <a:ext cx="765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Efectos del laudo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laudo arbitral es obligatorio para las partes, sin perjuicio de los recursos que puedan ser procedentes. Res iudicata</a:t>
            </a:r>
            <a:r>
              <a:rPr b="0" i="1" lang="es-CL"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hay doctrina de </a:t>
            </a:r>
            <a:r>
              <a:rPr b="0" i="1" lang="es-CL" sz="2400" spc="-1" strike="noStrike">
                <a:solidFill>
                  <a:srgbClr val="000000"/>
                </a:solidFill>
                <a:latin typeface="Arial"/>
              </a:rPr>
              <a:t>stare decis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erecho internacional público no hay, en general, una autoridad dotada de imperio para hacer cumplir los fall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uanto al arbitraje privado existen mecanismos para hacer valer esos fallos en el derecho nacion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19120" y="857160"/>
            <a:ext cx="786924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tículo 2.3 Carta de las Naciones Unid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miembros de la Organización arreglarán sus controversias internacionales por medios pacíficos de tal manera que se pongan en peligro ni la paz y la seguridad internacionales ni la justi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tículo 33 Carta de las Naciones Unidas_</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partes en una controversia cuya continuación sea susceptible de poner en peligro e mantenimiento de la paz y la seguridad internacionales tratarán de buscarle solución, ante todo, mediante la negociación, la investigación, la mediación, la conciliación, el arbitraje, el arreglo judicial, el recurso a organismos o acuerdos regionales u otros medios pacíficos de su elección.</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sejo de Seguridad, si lo estimare necesario, instará a las partes a que arreglen sus controversias por dichos med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50760" y="568440"/>
            <a:ext cx="77248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Tratado de Paz y Amistad entre Chile y Argentina (198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ículo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 ambas partes o no una de ellas no hubieran aceptado los términos de arreglo propuestos por la Comisión de Conciliación dentro del plazo fijado por su Presidente, o si el procedimiento de conciliación fracasare por cualquier causa, ambas Partes o cualquiera de ellas podrá someter la controversia al procedimiento arbitral establecido en el Capítulo II del Anexo No.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 mismo procedimiento se aplicará cuando las Partes, en conformidad con el Artículo 4, elijan el arbitraje como medio de solución de la controversia, a menos que ellas convengan en otras regl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08200" y="784080"/>
            <a:ext cx="743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del Tribunal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alvo acuerdo en contrario de las Partes, el Tribunal se compondrá de cinco miembros designados a título personal. Cada una de las Partes nombrará un miembro, que podrá ser nacional suyo. Los otros tres miembros, uno de los cuales será Presidente del Tribunal, serán elegidos de común acuerdo entre nacionales de terceros Estados. Estos tres árbitros deberán ser de nacionalidad diferente, no tener residencia habitual en el territorio de las Partes ni encontrarse a su servic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76200" y="784080"/>
            <a:ext cx="7940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mposición del Tribunal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i todos los miembros del Tribunal no hubieren sido nombrados dentro del plazo de 3 meses a contar de la recepción de la comunicación prevista en el Art. 23, el nombramiento de los miembros que falten será hecho por el Gobierno de la Confederación Suiza a solicitud de cualquiera de las Partes.  . .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55640" y="1268280"/>
            <a:ext cx="7488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Procedimien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Tribunal adoptará sus propias reglas de procedimiento, sin perjuicio de aquellas que las Partes pudieran haber convenido en el compromi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9120" y="639720"/>
            <a:ext cx="8229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 de la “competencia de la compet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Tribunal tendrá facultades para interpretar el compromiso y pronunciarse sobre su propia compet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9120" y="784080"/>
            <a:ext cx="83008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RECHO APLIC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Tribunal decidirá conforme al Derecho Internacional, a menos que las Partes hubieren dispuesto otra cosa en el compromi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63480" y="566640"/>
            <a:ext cx="8480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udo Arbit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ículo 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decisiones del Tribunal se adoptarán por mayoría de sus miembros. La ausencia o abstención de uno o dos de sus miembros no será impedimento para que el Tribunal sesione o llegue a una decisión. En caso de empate decidirá el voto de su Presid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23840" y="784080"/>
            <a:ext cx="76518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udo Arbitral (recur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3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 menos que las Partes convinieran otra cosa, los desacuerdos que surjan entre las Partes acerca de la interpretación o el modo de ejecución de la sentencia arbitral podrán ser sometidos por cualquiera de las Partes a la decisión del Tribunal que la haya dict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92200" y="855720"/>
            <a:ext cx="81565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udo Arbitral (recurs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4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ualquiera de las partes podrá pedir la revisión de la sentencia ante el Tribunal que la dictó siempre que se deduzca antes de vencido el plazo señalado para su ejecución, y en los siguientes cas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ha dictado sentencia en virtud de un documento falso o adulterad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 sentencia ha sido en todo o en parte consecuencia de un error de hecho, que resulte de las actuaciones o documentos de l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11280" y="1413000"/>
            <a:ext cx="8064360" cy="4608360"/>
          </a:xfrm>
          <a:prstGeom prst="rect">
            <a:avLst/>
          </a:prstGeom>
          <a:ln w="0">
            <a:noFill/>
          </a:ln>
        </p:spPr>
      </p:pic>
      <p:sp>
        <p:nvSpPr>
          <p:cNvPr id="70" name=""/>
          <p:cNvSpPr/>
          <p:nvPr/>
        </p:nvSpPr>
        <p:spPr>
          <a:xfrm>
            <a:off x="525600" y="639720"/>
            <a:ext cx="652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rte Internacional de Justicia (Palacio de la Paz, La Hay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12680" y="928800"/>
            <a:ext cx="7953480" cy="36601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asificación de los Medios de Solución Pacífica de las Controversi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os Políticos o Diplomátic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1 Negociación Direct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2 Buenos Ofici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3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4. Medi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5 Concili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Medios Jurisdiccion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1 Arbitraj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2 Arreglo Judici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47840" y="712800"/>
            <a:ext cx="7653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a:t>
            </a:r>
            <a:r>
              <a:rPr b="0" lang="es-CL" sz="1800" spc="-1" strike="noStrike" u="sng">
                <a:solidFill>
                  <a:srgbClr val="000000"/>
                </a:solidFill>
                <a:uFillTx/>
                <a:latin typeface="Arial"/>
              </a:rPr>
              <a:t>ículo 92</a:t>
            </a:r>
            <a:r>
              <a:rPr b="0" lang="es-CL" sz="1800" spc="-1" strike="noStrike">
                <a:solidFill>
                  <a:srgbClr val="000000"/>
                </a:solidFill>
                <a:latin typeface="Arial"/>
              </a:rPr>
              <a:t> (Carta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rte Internacional de Justicia será el órgano judicial principal de las Naciones Unidas; funcionará de conformidad con el Estatuto Anexo, que está basado en el de la Corte Permanente de Justicia Internacional, y que forma parte integrante de esta Car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rtículo 1</a:t>
            </a:r>
            <a:r>
              <a:rPr b="0" lang="es-CL" sz="1800" spc="-1" strike="noStrike">
                <a:solidFill>
                  <a:srgbClr val="000000"/>
                </a:solidFill>
                <a:latin typeface="Arial"/>
              </a:rPr>
              <a:t> (Estatuto de la C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rte Internacional de Justicia establecida por la Carta de las Naciones Unidas como órgano judicial principal de las Naciones Unidas, quedará constituida y funcionará conforme a las disposiciones del presente Estat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47840" y="712800"/>
            <a:ext cx="808488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pos de competencia que ejerce la CI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enciosa</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ntenciosa</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Contenciosa (entre Est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36(1) (Estatuto de la Cort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ompetencia de la Corte se extiende a todos los litigios que las partes le someta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 No Contenci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ículo 65 Estatuto de la Cor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La Corte podrá emitir opiniones consultivas respecto de cualquier cuestión jurídica, a solicitud de cualquier organismo autorizado para ello por la Carta de las Naciones Unidas, o de acuerdo con las disposiciones de la mism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40" y="568440"/>
            <a:ext cx="851292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Competencia Contenciosa</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Mecanismos a través de los cuáles se puede otorgar jurisdicción a la Cort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 tratado (cláusula compromisoria)</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áusula opcional del artículo 36</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uerdo especial (</a:t>
            </a:r>
            <a:r>
              <a:rPr b="0" i="1" lang="es-CL" sz="1800" spc="-1" strike="noStrike">
                <a:solidFill>
                  <a:srgbClr val="000000"/>
                </a:solidFill>
                <a:latin typeface="Arial"/>
              </a:rPr>
              <a:t>compromis</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Forum prorrogatum</a:t>
            </a:r>
            <a:r>
              <a:rPr b="0" lang="es-CL" sz="1800" spc="-1" strike="noStrike">
                <a:solidFill>
                  <a:srgbClr val="000000"/>
                </a:solidFill>
                <a:latin typeface="Arial"/>
              </a:rPr>
              <a:t> (prórroga de competencia)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47840" y="639720"/>
            <a:ext cx="8227800" cy="3934440"/>
          </a:xfrm>
          <a:prstGeom prst="rect">
            <a:avLst/>
          </a:prstGeom>
          <a:noFill/>
          <a:ln w="0">
            <a:noFill/>
          </a:ln>
        </p:spPr>
        <p:style>
          <a:lnRef idx="0"/>
          <a:fillRef idx="0"/>
          <a:effectRef idx="0"/>
          <a:fontRef idx="minor"/>
        </p:style>
        <p:txBody>
          <a:bodyPr lIns="90000" rIns="90000" tIns="46800" bIns="46800" anchor="t">
            <a:spAutoFit/>
          </a:bodyPr>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rtículo 36</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La competencia de la Corte se extiende a todos los litigios que las partes le sometan y a todos los asuntos especialmente previstos en la Carta de las Naciones Unidas o en los tratados o convenciones vigentes.</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os Estados partes en el presente Estatuto podrán declarar en cualquier momento que reconocen como obligatoria </a:t>
            </a:r>
            <a:r>
              <a:rPr b="0" i="1" lang="es-CL" sz="1800" spc="-1" strike="noStrike">
                <a:solidFill>
                  <a:srgbClr val="000000"/>
                </a:solidFill>
                <a:latin typeface="Arial"/>
              </a:rPr>
              <a:t>ipso facto</a:t>
            </a:r>
            <a:r>
              <a:rPr b="0" lang="es-CL" sz="1800" spc="-1" strike="noStrike">
                <a:solidFill>
                  <a:srgbClr val="000000"/>
                </a:solidFill>
                <a:latin typeface="Arial"/>
              </a:rPr>
              <a:t> y sin convenio especial, respecto a cualquier otro Estado que acepte la misma obligación, la jurisdicción de la Corte en todas las controversias de orden jurídico . . .</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declaración a que se refiere este Artículo podrá hacerse incondicionalmente o bajo condición de reciprocidad por parte de varios o determinados Estados, o por determinado tiempo.</a:t>
            </a:r>
            <a:endParaRPr b="0" lang="en-US" sz="1800" spc="-1" strike="noStrike">
              <a:solidFill>
                <a:srgbClr val="000000"/>
              </a:solidFill>
              <a:latin typeface="Arial"/>
            </a:endParaRPr>
          </a:p>
          <a:p>
            <a:pPr marL="716040" indent="-71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55640" y="2637000"/>
            <a:ext cx="772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ículo 59 Estatuto de la CI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cisión de la Corte no es obligatoria sino para las partes en litigio y respecto del caso que ha sido decid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92200" y="639720"/>
            <a:ext cx="765180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Intervención de Terceros Est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ículo 63 del Estatu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Cuando se trate de la interpretación de una convención en la cual sean partes otros Estados además de las partes en litigio, el Secretario notificará inmediatamente a todos los Estados interes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Todo Estado así notificado tendrá derecho a intervenir en el proceso; pero si ejerce ese derecho, la interpretación contenida en el fallo será igualmente obligatoria para é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92200" y="496800"/>
            <a:ext cx="794052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Intervención de Terceros Estad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ículo 62 del Estatu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Si un Estado considerare que tiene un interés de orden jurídico  que puede ser afectado por la decisión del litigio, podrá pedir a la Corte que le permita interveni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Corte decidirá con respecto a dicha peti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35120" y="1000080"/>
            <a:ext cx="7940520" cy="36601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Competencia No Contenci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rtículo 96 de la Carta de las Naciones Unid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La Asamblea General o el Consejo de Seguridad podrán solicitar de la Corte Internacional de Justicia que emita una opinión consultiva sobre cualquier cuestión jurídic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os otros órganos de las Naciones Unidas y los organismos especializados que en cualquier momento sean autorizados para ello por la Asamblea General, podrán igualmente solicitar de la Corte opiniones consultivas sobre cuestiones jurídicas que surjan dentro de la esfera de sus activida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360" y="585720"/>
            <a:ext cx="9125280" cy="568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66760" y="1216080"/>
            <a:ext cx="71503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edi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Definición</a:t>
            </a:r>
            <a:r>
              <a:rPr b="0" lang="es-ES" sz="2800" spc="-1" strike="noStrike">
                <a:solidFill>
                  <a:srgbClr val="000000"/>
                </a:solidFill>
                <a:latin typeface="Arial"/>
              </a:rPr>
              <a:t>: La mediación consiste en la intervención de un tercero cuya función es acercar a las partes y sugerirles, de modo informal, proposiciones que pueden llevar a una solu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92200" y="826920"/>
            <a:ext cx="7508880" cy="399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os requisitos básicos para que se lleve a cabo una mediació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a:solidFill>
                  <a:srgbClr val="000000"/>
                </a:solidFill>
                <a:latin typeface="Arial"/>
              </a:rPr>
              <a:t>Debe existir un mediador</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Consentimiento de los países interesad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00320" y="2781360"/>
            <a:ext cx="835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EDIACION ENTRE ARGENTINA Y CHILE (1978-19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95280" y="620640"/>
            <a:ext cx="8280360" cy="48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La declaración de nulidad del laudo de 1977 por parte de Argentina:</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ta de 25 de enero de 1978, del Ministro de Relaciones Exteriores de Argent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República Argentina no se considera por lo tanto obligada al cumplimiento de la decisión arbitral y desea, en consecuencia, informar a Vuestra Excelencia que no reconoce ni reconocerá la validez de ningún título que invoque la República de Chile sobre la base del Laudo Arbitral para arrogarse derechos de soberanía sobre territorio o área marítima algu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92200" y="614520"/>
            <a:ext cx="7940520" cy="41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es la mediación? Palabras del Cardenal Samor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mediación es la acción que solicitan generalmente las Partes en controversia, las cuales acuden a una tercera persona, amigo de ambas, para que actúe en medio de ellas; el mediador ejerce su actividad entre las dos Partes, deseando e intentando aproximarlas, procurando llevar sus posturas iniciales hacia una convergencia; conciliando hasta alcanzar un entendi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19120" y="828720"/>
            <a:ext cx="7797960" cy="367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inuación) “La mediación, por lo tanto, no se tipifica como una forma de imposición, sino como una forma de sugerencia, de consejo, de exhortación y de propuestas dirigidas a eliminar las divergencias, a superar los obstáculos, a descubrir puntos de concordia, que se presenten a las Partes, invitándolas a que los hagan propios, con la finalidad de conseguir –al término de la mediación- el mayor bien general que, por lo mismo, representará también el bien de cada una de las Partes. Al término de la mediación, en efecto, no se puede jamás hablar de vencederores ni venci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7:06:06Z</dcterms:created>
  <dc:creator>Centro de Informatica</dc:creator>
  <dc:description/>
  <dc:language>en-US</dc:language>
  <cp:lastModifiedBy>Centro de Informatica</cp:lastModifiedBy>
  <dcterms:modified xsi:type="dcterms:W3CDTF">2005-06-15T19:01:07Z</dcterms:modified>
  <cp:revision>3</cp:revision>
  <dc:subject/>
  <dc:title>Diapositiva 1</dc:title>
</cp:coreProperties>
</file>