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54C6-067E-4EBB-9C6B-96B64ED16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F66E4-725E-4018-8211-E62DE4767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B98CD-69C6-4C38-A6BA-6410064AE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532C2-5981-4ABB-9D21-0CE6FC071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958F4-61BF-40D6-8C60-A4CBF60501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A768E-44A1-4089-9D62-1E4D5CD2B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50E47-9AEF-415E-AEEE-F4776D9BF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86B1F-F467-45E2-A641-A4AC95FB7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E1175-D5A2-4124-A9A5-29C78AF68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C1542-C7F4-47FE-A34E-80A419BF2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FEEC1-9771-48A3-9C31-506158C4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7012-70B9-46D7-A850-04CF1BB8F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FBE05-E954-42EE-B17F-3C57648A1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40954-3354-4A96-B265-41CF1105F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F59A8-38A2-4771-9E7D-621E9E83F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735C2-7850-43CA-9609-2D5789F12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1ED72-B77E-4A71-8181-EC371F382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7809B-AA94-43D0-8BC6-4A797262D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A06B-E839-4BE7-9DEC-A463921B3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B2A6C-D2FA-43E8-AFEE-47EB434A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F19DF-6F20-43CB-9C1B-979F6327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E84BC-EEA2-4D32-9714-037CF963E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517F-7E73-4DAD-8EB7-0314E4836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30E35-49D6-4269-BC63-35611968F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C209-126B-4D05-B1F8-5B5570DE7E4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CFD3-55C6-4AF2-99B9-3672DF55E9E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Rol y Funciones de los Jueces de Familia</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eces de familia conocerán conjuntamente, en un solo proceso, los distintos asuntos que una o ambas partes sometan a su consideración. La sentencia deberá pronunciarse sobre todas las cuestiones debatidas en el proceso.</a:t>
            </a:r>
            <a:endParaRPr b="0" lang="en-US" sz="20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11-29T18:56:47Z</dcterms:modified>
  <cp:revision>232</cp:revision>
  <dc:subject/>
  <dc:title>MECESUP PROJECT</dc:title>
</cp:coreProperties>
</file>