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ED2D1-259B-415B-A853-2E48B3AFD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6E809-28CD-48D0-973F-F5DF3ED5E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C5515-76C9-459E-8322-5EAF51A3E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11E2E-B7CC-4840-A506-6A597669B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DB152C-EE1D-451C-8076-4DCD2705B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EED6D-9FBA-4E2D-90BE-2D651471E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BD9EA-B5BB-4A84-B800-6DC6D4A97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812B0-4321-4EA8-92BB-297775D75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3E51C-31DB-4973-AC09-8DF121105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F761E-2BE8-4EEE-AB54-7788DBA26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CE550-ED1E-4851-8F4F-67B9CB20C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62E33-ED5C-4042-B25F-A779AC745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51EA8-26D7-435D-97D2-0A9369033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86AC8-CCC0-412F-8DB2-7155093E2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4D5A8-02A3-432F-965C-AF85C2DEF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5EB8E-2E81-40A6-9CCC-CB816AA72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64570-2FC4-4372-95D9-8935F613F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14318-8953-496D-8808-9F6DD5B68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DFEFF-D71D-474B-A2F1-4653B40B1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E403F-A059-44F5-BB52-B6B8EC766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81FD-64C5-49EF-B9A5-E9206116E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015C-530B-4033-B855-4BED3599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287BF-834A-4D60-B050-63D083D0E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4D316-9046-436C-87C6-E9055CE80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E2A7-6E05-4424-85A4-08E9C7751CF4}"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645B-ECFF-454E-BC6B-3CE2E49034A3}"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María Nora Gonzál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Paulina Velo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Jorge Ugarte</a:t>
            </a: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juez se pronunciará inmediatamente de evacuado el traslado respecto de las siguientes excepcione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Verdana"/>
              </a:rPr>
              <a:t>incompetencia</a:t>
            </a:r>
            <a:r>
              <a:rPr b="1" lang="es-ES" sz="2800" spc="-1" strike="noStrike">
                <a:solidFill>
                  <a:srgbClr val="ffffff"/>
                </a:solidFill>
                <a:latin typeface="Verdana"/>
              </a:rPr>
              <a:t>,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alta de capacidad o de personería,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de las que se refieran a la corrección del procedimiento y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escripción, siempre que ellas aparezcan manifiestamente admisible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5-11-29T19:47:02Z</dcterms:modified>
  <cp:revision>94</cp:revision>
  <dc:subject/>
  <dc:title>Diapositiva 1</dc:title>
</cp:coreProperties>
</file>