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0EA-9039-42E8-82C1-6B8F4D81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30A-4DDC-491A-9125-25B59796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F91-742A-4159-83D1-066D0EA0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2EB-9103-4C94-8A43-28905210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7A4F2-A316-4AC8-A3D4-D0C7B1FB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8A73F-AD77-4D95-89CC-F9406618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260EA-B1AB-4F18-8AF2-5BA0BFBE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41B63-AB57-4647-BE53-C25EE3A2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2A51E-AA06-4C5D-9554-DF52A9D7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381A1-FF11-4427-97E4-7220D6E5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38735-219A-483C-B94D-E9859FF5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075-3DBA-4D4B-A615-D15F8D11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115AF-1376-4E99-8463-E6949AB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12D88-E0A2-4E52-A61F-6F6D6FF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96F09-7EB2-44A9-805A-917DFC89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A68A7-6A43-4F49-BD7D-C829F47D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7100F-7588-48F4-8080-4E343EE8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4F5-60FA-4C3D-8F92-E4FA14C1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F50-2671-48F2-9BC4-79C20325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84B-E122-4C2B-AEB5-C9355723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3CE-EB3B-4943-B3FD-63025C7D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060-AA45-428A-8534-ACE7E5F6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250-88B8-44B0-A7E1-30B2535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3BA-838A-49F0-852F-6F3FC87E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1AE9-BD6B-4E39-9FBB-22D9F56D45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7609-48F5-41CF-920C-ED9C5A7835F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JEFATURA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DE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FAMILI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umn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aren Arévalo 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olina Saez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átedra: Género y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fesora: Patsilí Tole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forma en que se recolectan los datos es más que nada práctica, y  no limita en análisis posterior que pueda hacer el analis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perfectamente posible reclasificar la jefatura de hogar de la forma que se estime conveni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encuesta no fomenta una visión discriminatoria de la parej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o se podría concluir de una interpretación errada de la información, lo cual es responsabilidad de cada analista al ser una encuesta de manejo relativamente público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scarta que los encuestado respondan que el hogar se puede componer de dos jef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bjetivo ambiguo de la formulación de una pregunta uni-parental. Al parecer busca un enfoque subjetivista del hog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legitimidad como reflejo de la sociedad que se le otorga a esta encuesta puede producir efectos nega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162920" y="380880"/>
            <a:ext cx="1447560" cy="106704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0" h="21600">
                <a:moveTo>
                  <a:pt x="0" y="0"/>
                </a:moveTo>
                <a:lnTo>
                  <a:pt x="29300" y="0"/>
                </a:lnTo>
                <a:lnTo>
                  <a:pt x="29300" y="21600"/>
                </a:lnTo>
                <a:lnTo>
                  <a:pt x="0" y="21600"/>
                </a:lnTo>
                <a:close/>
              </a:path>
              <a:path fill="lightenLess" w="29300" h="21600">
                <a:moveTo>
                  <a:pt x="0" y="0"/>
                </a:moveTo>
                <a:lnTo>
                  <a:pt x="29300" y="0"/>
                </a:lnTo>
                <a:lnTo>
                  <a:pt x="27900" y="1400"/>
                </a:lnTo>
                <a:lnTo>
                  <a:pt x="1400" y="1400"/>
                </a:lnTo>
                <a:close/>
              </a:path>
              <a:path fill="darken" w="29300" h="21600">
                <a:moveTo>
                  <a:pt x="29300" y="0"/>
                </a:moveTo>
                <a:lnTo>
                  <a:pt x="29300" y="21600"/>
                </a:lnTo>
                <a:lnTo>
                  <a:pt x="27900" y="20200"/>
                </a:lnTo>
                <a:lnTo>
                  <a:pt x="27900" y="1400"/>
                </a:lnTo>
                <a:close/>
              </a:path>
              <a:path fill="darkenLess" w="29300" h="21600">
                <a:moveTo>
                  <a:pt x="29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0" y="20200"/>
                </a:lnTo>
                <a:close/>
              </a:path>
              <a:path fill="lighten" w="29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0" h="21600">
                <a:moveTo>
                  <a:pt x="1465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00" h="21600">
                <a:moveTo>
                  <a:pt x="1465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00" h="21600">
                <a:moveTo>
                  <a:pt x="12074" y="8224"/>
                </a:moveTo>
                <a:lnTo>
                  <a:pt x="15938" y="8224"/>
                </a:lnTo>
                <a:lnTo>
                  <a:pt x="15938" y="15221"/>
                </a:lnTo>
                <a:lnTo>
                  <a:pt x="17226" y="15221"/>
                </a:lnTo>
                <a:lnTo>
                  <a:pt x="17226" y="16144"/>
                </a:lnTo>
                <a:lnTo>
                  <a:pt x="12074" y="16144"/>
                </a:lnTo>
                <a:lnTo>
                  <a:pt x="12074" y="15221"/>
                </a:lnTo>
                <a:lnTo>
                  <a:pt x="13362" y="15221"/>
                </a:lnTo>
                <a:lnTo>
                  <a:pt x="13362" y="9129"/>
                </a:lnTo>
                <a:lnTo>
                  <a:pt x="12074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077320" y="4191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cc00"/>
                </a:solidFill>
                <a:latin typeface="Tahoma"/>
              </a:rPr>
              <a:t>MIDEPL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do por la Ley N° 18.989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Diseñar y aplicar políticas, planes y programas de desarrollo nacional y regional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- Proponer las metas de inversión pública y evaluar los proyectos de inversión financiados por el Estado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- Implementar y ejecutar las políticas y programas orientados hacia grupos prioritarios: infancia, juventud, adulto mayor, discapacitados, mujeres e indígenas, a través de sus servicios relacionados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cc00"/>
                </a:solidFill>
                <a:latin typeface="Tahoma"/>
              </a:rPr>
              <a:t>ENCUESTA CAS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SEN: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“Encuesta de Caracterización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Socioeconómica Nacion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agnóstico y evaluación del impacto de la política social en los hogares y programas más importantes que componen el gasto so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porciona información acerca de las condiciones socioeconómicas de los diferentes sectores sociales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09440"/>
            <a:ext cx="868680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295280" y="685800"/>
          <a:ext cx="6758280" cy="51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685800"/>
                    <a:ext cx="675828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JEFATURAS DE FAMIL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ent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ncuesta CASEN se trabaja a nivel de “hogar” y no de “famili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milia: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 un grupo numeroso de personas. Se pueden considerar como familiares a personas que no posean un vínculo sanguíneo comú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gar: aquel construido por una persona o un grupo de personas, con o sin vínculos de parentesco, que comparten de los ingresos de los hogares.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uente: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ahoma"/>
              </a:rPr>
              <a:t> www.mideplan.c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efe o Jefa de Hogar: "Miembro del hogar (hombre o mujer) considerado como tal por las otras personas del hogar, ya sea por razones de dependencia económica, parentesco, edad, autoridad o respeto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08660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146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17" h="21600">
                <a:moveTo>
                  <a:pt x="146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17" h="21600">
                <a:moveTo>
                  <a:pt x="12082" y="8224"/>
                </a:moveTo>
                <a:lnTo>
                  <a:pt x="15947" y="8224"/>
                </a:lnTo>
                <a:lnTo>
                  <a:pt x="15947" y="15221"/>
                </a:lnTo>
                <a:lnTo>
                  <a:pt x="17235" y="15221"/>
                </a:lnTo>
                <a:lnTo>
                  <a:pt x="17235" y="16144"/>
                </a:lnTo>
                <a:lnTo>
                  <a:pt x="12082" y="16144"/>
                </a:lnTo>
                <a:lnTo>
                  <a:pt x="12082" y="15221"/>
                </a:lnTo>
                <a:lnTo>
                  <a:pt x="13371" y="15221"/>
                </a:lnTo>
                <a:lnTo>
                  <a:pt x="13371" y="9129"/>
                </a:lnTo>
                <a:lnTo>
                  <a:pt x="12082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imera encuesta CASEN se realizó en el año 1985, contándose con dicha información desde 1987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egunta por la jefatura de hogar siempre se ha incluido en la caracterización de los residentes del hog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Por qué sólo un jefe o jefa de hog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sociolo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prac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Qué se busca determinar con dicha pregun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respuesta generalmente se encamina en forma autodeclarativa, lo que nos permite determinar un nivel de parentesco entre las personas del hogar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orma en que se recolectan y almacenan los datos permite una gran flexibilidad en la interpretación de ésto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nalista puede analizar cuántos son los hogares uniparentales, donde sólo hay presencia de una mujer adulta a cargo del hogar, o bien hogares donde sólo "la" mujer es la proveedora, o la principal proveedora, etc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9:31:08Z</dcterms:created>
  <dc:creator>referencia03</dc:creator>
  <dc:description/>
  <dc:language>en-US</dc:language>
  <cp:lastModifiedBy>Telefónica CTC Chile</cp:lastModifiedBy>
  <dcterms:modified xsi:type="dcterms:W3CDTF">2005-08-23T04:12:24Z</dcterms:modified>
  <cp:revision>17</cp:revision>
  <dc:subject/>
  <dc:title>JEFATURA DE FAMIL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