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2EC-C9A1-4CEB-AE3C-0CEF0636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442-4429-42D0-9C39-BC33658F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9CB-A1D1-4D90-948E-8B868D56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7D6-8CDE-4670-BF58-EC08F630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E43-1F0B-48CA-9D12-9C1A809D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B7D-96BC-4CCF-B065-63F1AD4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912-1786-4C7E-BE19-0B0D61F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768B-BA6F-47A2-8D75-B989AD32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092-E113-44CF-B036-58A7C96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988-AD95-44A7-9254-AD251D62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E74-9DD0-451C-BF6F-15D06306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B95-F14D-4C17-9C7D-7946F1D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1345-7B85-4A42-90E9-868E7DD1E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81200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8000" y="595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2200" y="6021360"/>
            <a:ext cx="1311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acado de Bascuñán R.Anton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Modos de Creación de Norm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en el Derecho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Ch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(1998, separata, Escuela de Derecho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Universidad de Chile)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Derechos y garantí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Se respetará el derecho que los ciudadanos tienen a la seguridad de sus personas, casa, efectos y pape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X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La imprenta gozará de una libertad legal; y para que esta no degenere en licencia nociva a la Religión, costumbres y honor de los ciudadanos y del pais; se prescribirán reglas por el Gobierno y Se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testades norm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abrá un Senado compuesto de siete individuos… Sin su dictamen no podrá el Gobierno resolver en los grandes negocios que interesen la seguridad de la Pat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r negocios graves se entiende: imponer contribuciones; declarar la guerra; hacer la paz; acuñar moneda; establecer alianzas y tratados de comercio; nombrar Enviados; trasladar tropas, levantarlas de nuevo; decidir las desavenencias de las Provincias entre s, ó con las que estan fuera del territorio; proveer los empleos de Gobernadores y Gefes de todas clases; dar patentes de corso; emprehender obras; crear nuevas Autoridades; entablar relaciones exteriores, y alterar ese reglamento: y las facultades que no le estan expresamente declaradas en ésta Constitución, quedan reservadas al Pueblo Sober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836640"/>
          <a:ext cx="560088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836640"/>
                    <a:ext cx="56008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520" y="301680"/>
          <a:ext cx="7802280" cy="96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1680"/>
                    <a:ext cx="7802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Lucas Sierra</cp:lastModifiedBy>
  <dcterms:modified xsi:type="dcterms:W3CDTF">2005-09-03T18:13:22Z</dcterms:modified>
  <cp:revision>9</cp:revision>
  <dc:subject/>
  <dc:title>Sin título de diapositiva</dc:title>
</cp:coreProperties>
</file>