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D7B19-CD25-4527-8661-14EA56891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6E236-2014-44FE-95C9-EB44FFFFB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CE33F-5E85-4556-8A62-CF1FDE65A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DEACC-4377-4A27-8E80-3140AA23B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24C389-1A95-41EE-AB72-0125BB3C93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FEB66-82DC-447B-A09B-A92F4AFE1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256D5-AFBE-4195-A5F0-C80336431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A35D3-8BD5-40E0-BA07-32194D9D1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8068B-63F3-46CF-910E-4C21E39F5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0BA76-F426-485F-B591-0950BE9A0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5F210-C729-4B8D-8BD8-5BDFE99CC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D6188-1CA5-4888-9DD4-FFE9FAAC2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B6215-41F5-4F93-93C5-B2E26E840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AED5E-5A21-49F6-AF20-7F35264A4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8E126-233E-4CBA-8AB7-2E2983E65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806AE-6F29-4209-917C-C54782BA05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40DB0C-5108-4EE2-8B17-0FA689E47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00588-A831-42A9-8C15-BF77BC18C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81E6E-FFAA-46ED-974F-3FD471C63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2BDEB-67B3-42D0-B43B-C00B19EF1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519AD-F657-4780-AC89-6B2188F7A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C5A05-01F7-481B-B922-DA75114E5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E8849-D48F-4F73-8356-0B8D9C0C3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4B3BF-B329-45F1-86ED-4F856BDAE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E249-A939-442E-A493-AB3FDF07BC45}"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0E29-EF77-4715-AB50-3DA97C8D2400}"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untes de Clases preparados por la profesora Carola Canelo para el Curso Derecho Procesal I utilizando como base bibliográfica  los Apuntes del profesor Cristián Maturana M. “Derecho Procesal Orgánico”, de fecha Marzo de 2003</a:t>
            </a:r>
            <a:endParaRPr b="0" lang="en-US" sz="2400" spc="-1" strike="noStrike">
              <a:solidFill>
                <a:srgbClr val="ffffcc"/>
              </a:solidFill>
              <a:latin typeface="Times New Roman"/>
            </a:endParaRPr>
          </a:p>
        </p:txBody>
      </p:sp>
      <p:sp>
        <p:nvSpPr>
          <p:cNvPr id="101" name="PlaceHolder 2"/>
          <p:cNvSpPr>
            <a:spLocks noGrp="1"/>
          </p:cNvSpPr>
          <p:nvPr>
            <p:ph type="title"/>
          </p:nvPr>
        </p:nvSpPr>
        <p:spPr>
          <a:xfrm>
            <a:off x="685800" y="114300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Los Autos Acordados</a:t>
            </a:r>
            <a:endParaRPr b="0" lang="en-US" sz="4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dictados en virtud de un mandato contenido en la CPR o en la ley:</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sobre la forma de las sentencias definitivas de 1920 dictado por mandato de la ley N 3390.</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sobre el procedimiento del recurso de protección , dictado por la C. Suprema en virtud del artículo 2 del  Acta Constitucional N 3.   Este Auto Acordado se encuentra actualmente derogado. El recurso de protección está actualmente regulado en el Art. 20 de la CPR y por el Auto Acordado de 27 de Junio de 1992.</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sobre las materias que deberán ser conocidas por las salas de la Corte Suprema en su funcionamiento ordinario como extraordinario, en virtud del mandato del Art. 99 del COT. Auto Acordado del 1 de abril de 1998, publicado en el D. Oficial el 9 de abril de 1998.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dictados por la Corte Suprema en virtud de sus facultades discrecionales.</a:t>
            </a:r>
            <a:endParaRPr b="0" lang="en-US" sz="3200" spc="-1" strike="noStrike">
              <a:solidFill>
                <a:srgbClr val="ffffcc"/>
              </a:solidFill>
              <a:latin typeface="Times New Roman"/>
            </a:endParaRPr>
          </a:p>
          <a:p>
            <a:pPr lvl="1" marL="698400" indent="-2685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meramente internos: tienen por objeto señalar los modos de actuar a los funcionarios del orden judicial y cuyas materias son solo de administración, destinados a lograr la mejor atención de los asuntos judiciales. Son instruccion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externos: aquellas disposiciones que afectan no sólo a los funcionarios judiciales sino a terceros ajenos en sus relaciones entre ellos y con el Poder Judicial. Son normas de procedimiento. Ej.:</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Auto Acordado sobre tramitación y fallo del recurso de amparo de 19 de diciembre de 1932;</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sobre sustanciación del recurso de inaplicabilidad de las leyes de 22 de marzo de 1932.</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de la C. Suprema sobre la vista de la causa de 2 de septiembre de 1994, publicado en el D. Oficial el 16 de Septiembre de 1994.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cuanto a su extensión o amplitud:</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emanados de la C. Suprema: cuya aplicación abarca normalmente todo el territorio nacional.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utos Acordados emanados de las Cortes de Apelaciones.: alcanza al territorio jurisdiccional de cada Corte de Apelacion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de la Corte de Apelaciones de Stgo. sobre distribución de trabajo entre sus fiscales.</a:t>
            </a:r>
            <a:endParaRPr b="0" lang="en-US" sz="3200" spc="-1" strike="noStrike">
              <a:solidFill>
                <a:srgbClr val="ffffcc"/>
              </a:solidFill>
              <a:latin typeface="Times New Roman"/>
            </a:endParaRPr>
          </a:p>
          <a:p>
            <a:pPr marL="315360" indent="-3153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 Acordado de la C.A. de Stgo. de 19 de diciembre de 1988 y sus modificaciones sobre las menciones que deben contener las demandas y gestiones judiciales que se presenten a la Corte para su distribución a los juzgados civiles y del trabajo de su jurisdic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erza obligatoria y limitación</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 entiende que los Autos Acordados tienen fuerza obligatoria porque son dictados dentro de la esfera de competencia de los tribunales superiores de justicia y su fundamentación se encuentra radicada en las facultades económicas que la CPR le otorga a la Corte Suprem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Autos Acordados</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Normas jurídicas dictadas por los tribunales superiores de justicia en el ejercicio de sus facultades económicas, para regular ciertas materias que no han sido suficientemente reguladas por la ley o cuya regulación es necesaria para velar por el cumplimiento y el buen funcionamiento del servicio judici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erza obligatoria y limitación</a:t>
            </a:r>
            <a:endParaRPr b="0" lang="en-US" sz="4400" spc="-1" strike="noStrike">
              <a:solidFill>
                <a:srgbClr val="ffcc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se trata de AA internos, el funcionario judicial puede reclamar de su ilegalidad mediante un recurso de gracia ante el mismo tribunal que dictó el AA.</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se trata de AA externos, los terceros pueden reclamar ante el mismo tribunal o bien mediante acusación constitucional por notable abandono de deberes de los integrantes de la C.A o C.Suprem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ublicidad de los </a:t>
            </a:r>
            <a:br>
              <a:rPr sz="4400"/>
            </a:br>
            <a:r>
              <a:rPr b="0" lang="en-US" sz="4400" spc="-1" strike="noStrike">
                <a:solidFill>
                  <a:srgbClr val="ffcc00"/>
                </a:solidFill>
                <a:latin typeface="Times New Roman"/>
              </a:rPr>
              <a:t>AA</a:t>
            </a:r>
            <a:endParaRPr b="0" lang="en-US" sz="44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Por los medios más apropiados.</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i se trata de AA de carácter y aplicación general dictados por la Corte Suprema deben ser publicados en el Diario Oficial. Art. 96 COT.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utos Acordados más importantes</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A sobre sustanciación del recurso de inaplicabilidad por inconstitucionalidad de las leyes de 1932. Art. 80 CPR.</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A sobre tramitación y fallo del recurso de amparo, 1932.</a:t>
            </a: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utos Acordados más importantes</a:t>
            </a:r>
            <a:endParaRPr b="0" lang="en-US" sz="4400" spc="-1" strike="noStrike">
              <a:solidFill>
                <a:srgbClr val="ffcc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A sobre la forma de las sentencias de 1920:  Art. 170 y 785 del CPC.</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A sobre ajustes de cuantías. </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A sobre recurso de protección.</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A sobre las materias que deberán ser conocidas por las salas de la C.Suprema en su funcionamiento ordinario y extraordinario. </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A sobre la vista de la causa. 1994.</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utos Acordados más importantes</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A sobre sustanciación del recurso de inaplicabilidad por inconstitucionalidad de las leyes de 1932. Art. 80 CPR.</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A sobre tramitación y fallo del recurso de amparo, 1932.</a:t>
            </a: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ndamento jurídico</a:t>
            </a:r>
            <a:endParaRPr b="0" lang="en-US" sz="44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la organización jerárquica de los tribunales ordinarios de justicia en cuyo grado inferior se encuentran los jueces de letras y en la cúspide la Corte Suprema la que además de sus facultades jurisdiccionales, tiene la superintendencia directiva, correcional y económica sobre todos los tribunales de la nación. Art. 79 CP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ndamento jurídico</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Exma. Corte Suprema debe velar por el adecuado desempeño de los tribunales de justicia que forman parte del Poder Judici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l fundamento de los Autos Acordados, son las facultades económicas que deben cumplir los tribunales superiores bajo el principio de la economía proces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aracterísticas</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n normas destinadas a señalar normas de comportamient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eneralmente son obligatoria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rmalmente son de aplicación general, dirigido a todos o a toda una categoría de funcionarios del propio Poder Judicial o a personas extrañas a é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aracterísticas</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ffffcc"/>
                </a:solidFill>
                <a:latin typeface="Times New Roman"/>
              </a:rPr>
              <a:t>Emanan de los tribunales superiores de justicia. La Corte Suprema puede dictarlos para tener vigencia en todo el territorio nacional y las Cortes de Apelaciones dentro de su respectivo territorio jurisdiccion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on manifestación de la potestad reglamentaria de la Corte Suprema y las Cortes de Apelacion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aracterísticas</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án sujetos a la CPR y a la Ley. No puede ir más allá de la ley. Ej. de ilegalidad: sanciones que se encontraban en el Auto Acordado sobre el recurso de quej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dictados en virtud de un mandato contenido en la CPR o en la le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s Acordados dictados por la Corte Suprema en virtud de sus facultades discrecionale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utos Acordados meramente internos.</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utos Acordados externo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asificación</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cuanto a su extensión o amplitu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utos Acordados emanados de la C. Suprem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utos Acordados emanados de las Cortes de Apelaciones.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35:07Z</dcterms:modified>
  <cp:revision>196</cp:revision>
  <dc:subject/>
  <dc:title>Inter-American Convention: Dead or Alive?</dc:title>
</cp:coreProperties>
</file>