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D15C-9B28-4971-B24E-1E1470E36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131E-AA58-4567-A61C-563A01EB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0805-5A2C-40DB-9D3A-AE38F5630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3E56-8830-4D0D-AE4E-FBF0830D2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D8E7-A40E-414C-B1A2-5DC9D7841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A28B-EF68-4754-97D6-EAF18791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E24FA-5880-4227-AB9A-6FC23C92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5A48B-4627-4566-B1E3-0D3334F7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445F-99A6-4BB1-9E0B-942D09DE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FCF7-05F7-4187-A2EE-A170F27E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10FA-B9FF-429C-A48E-1401081A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385E-03B7-49F8-B362-0AA7EAFD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69172-C03F-4EAB-A3AA-E90CF582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064D-1E4D-4675-935E-100BC51A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FE8B-9127-4833-AC74-A1B6FDC2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6DBFD-F7D2-4E9D-A34C-806467104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6EE9-BBB0-4D21-A874-48A9D9945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E853-B4CA-452F-8817-AEB862C4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C17C-51CF-4184-B7B3-BCF80D6C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9EE4-A414-4E61-A0E3-BF6E3933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C352-B8AE-427F-9506-939E3689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7FCB-B610-474E-A337-7983E448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B16E-D5C5-4CAB-8B69-AEE7A422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6B0F-1BCD-444B-9D1F-0ACCE2CD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4C06-BBF8-42EA-BAF4-500D292D1DD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1B23-4B56-4F14-8296-DEB14EADA15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puntes de Clases preparados por la profesora Carola Canelo para el Curso Derecho Procesal I utilizando como base bibliográfica  los Apuntes del profesor Cristián Maturana M. “Derecho Procesal Orgánico”, de fecha Marzo de 200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imes New Roman"/>
              </a:rPr>
              <a:t>Los Tratados Internacionales como fuentes del Derecho Procesal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roblemas de interpreta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flicto entre derechos consagrados en los Tratados sobre DDHH y la CP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ben ser resueltos por el tribunal del fond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tros tratad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Convención de Derecho Internacional Privado, o Código de Bustamante, publicado en el D. Oficial el 25 de Abril de 1934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t. 242 CPC, los tratados son la primera fuente a aplicar para la aplicación de las sentencias extranjeras en Chile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Times New Roman"/>
              </a:rPr>
              <a:t>Concepto Tratado Internaciona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n acuerdos o pactos entre Estados para regular sus relaciones entre sí, tanto políticas como económica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incipio Pacta Sunt Servanda opera a su respecto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ejercicio de la soberanía reconoce como limitación el respeto a los derechos esenciales que emanan de la persona humana. Es deber de los órganos del Estado respetar y promover tales derechos, garantizados por esta Constitución, así como los tratados internacionales ratificados por Chile y que se encuentren vigentes”. Inc 2 Art. 5 CPR.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Jerarquía de los Tratados Interna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Jerarquía de los Tratados Interna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Rango Constitucional: los que se refieren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a los derechos esenciales que emanan de la persona humana. Art. 5 CPR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Rango legal: los que se refieran a otras materias.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quisitos para que produzca efecto un Tratado en Chil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Suscrito y ratificado por Chile; 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Que se encuentre vigent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Además, según la jurisprudencia de la C.Suprema se requiere que el tratado haya sido publicado en el Diario Oficial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ratados que reconocen derechos esenci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cto Internacional sobre Derechos Civiles y Políticos, publicado en el D. Oficial el 29 de Abril de 1989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Protocolo Facultativo del Pacto Internacional de Derechos Civiles y Políticos, publicado en el D. Oficial el 20 de Agosto de 1992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ratados que reconocen derechos esenci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vención Americana de Derechos Humanos o Pacto de San José de Costa Rica, publicada en el D.Oficial el 5 de Enero de 1991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Convención contra la Tortura, publicada en el D.Oficial el 13 de marzo de 1991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Convención Interamericana  contra la Tortura, publicada en el D.Oficial el 26 de Noviembre de 1988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ratados que reconocen derechos esenci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El retiro de reservas fue publicado en el D. Oficial el 13 de enero de 1991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La Convención sobre Eliminación de todas las Formas de Discriminación contra la Mujer, publicado en el D. Oficial el 9 de diciembre de 1989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ratados que reconocen derechos esenci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Convención sobre los Derechos del Niño publicada en el D. Oficial el 27 de Septiembre de 1990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1T06:10:07Z</dcterms:created>
  <dc:creator>Alvaro Orellana Torres</dc:creator>
  <dc:description/>
  <dc:language>en-US</dc:language>
  <cp:lastModifiedBy>lucarna21</cp:lastModifiedBy>
  <dcterms:modified xsi:type="dcterms:W3CDTF">2005-09-21T16:37:51Z</dcterms:modified>
  <cp:revision>198</cp:revision>
  <dc:subject/>
  <dc:title>Inter-American Convention: Dead or Alive?</dc:title>
</cp:coreProperties>
</file>