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E18D0-0463-418C-BFF0-CB2CAFFF1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7874-E39A-4D33-9DDC-BB2D9173A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292DF-0AC3-478C-A3FE-4E09DABF0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F6918-8E24-4EA0-BDB7-974B5B28E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0F035-5CB5-4EA6-A6E7-6B897BBF4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B55B7-B52A-4531-93AF-BA9D9CF36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35F87-1B5A-4910-9A44-A631BCBEF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BA0EA-1C99-4C9E-BE82-A065BF2ED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33D74-4CEB-4911-8726-1061E9599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F1331-8171-4B30-87DA-97F40B5B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D8AC-8B19-4C31-938A-62A55A07B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73A37-06BD-41F4-9FF5-B7D0C565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60AFD-CC77-4665-B572-C9157C074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63910-D58F-4DE8-9578-E48946891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3146D-3384-44FE-8489-5876520E8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62941-3135-43A6-A2ED-4ACDAAE66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A8ED2-33A0-4CAB-A5AC-BF76CE8DF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11D6-3607-4CDF-8B5C-2B2BFB8F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EF71-C91A-42A7-8F7E-F03A2A1F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C288-DDBE-48A1-80A9-D54B62415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EF30-FF05-4DC9-9C90-23B0AB47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7F3E-A6CC-4A43-949B-74B7E726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C6F2-4231-4116-AC96-B67695AF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542F-6D26-417E-B42D-45E407347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CA93-7767-4334-A5CB-CC1AD5F7EA5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F31C-FF5C-46FB-8E80-8628CDB1DEB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conflictos jurídicos que se generan entre un particular y la Administración del Estado en cuanto ella actúa realizando actos de poder o de autoridad y no de carácter patrimonial regido por las normas gener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Los Asuntos Contenciosos Administrativos generales son de la competencia de los tribunales ordinarios de justicia, los que aplican el procedimiento civil ordinari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suntos Contencioso Administrativos especiales son resueltos por el órgano jurisdiccional y bajo el procedimiento que la ley especial seña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Ejemplos de Asuntos Contenciosos Administrativos especiales:</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recurso de reclamación por privación o desconocimiento de la nacionalidad (Art. 12 CPR).</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icio de cuentas fiscales ante el Subcontralor Gral. de la República en primera instancia y ante el Contralor en segun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o contencioso tributario ante el Director del Servicio de Impuestos Internos y en segunda instancia ante la C. de Apelaciones respectiva.</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clamo de ilegalidad contra los actos de los alcaldes. (Art. 136 LOC Municipalidad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 Contencioso sanitario (Art. 171 C. Sanit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leg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que según la ley requieren la intervención del juez y en que no se promueve contienda alguna entre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817 CP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lementos: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Que la ley requiera la intervención del juez. Los Actos Judiciales No Contenciosos no son de la esencia de la función jurisdiccional. Art. 73 CPR, Art. 10 inc. 2 COT.</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no se promueva contienda alguna entre partes. </a:t>
            </a:r>
            <a:endParaRPr b="0" lang="en-US" sz="3200" spc="-1" strike="noStrike">
              <a:solidFill>
                <a:srgbClr val="ffffcc"/>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gula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Libro IV del CPC regula diversos procedimientos para la tramitación de los Asuntos Judiciales No Contencios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 se deben utilizar las expres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Volutaria, n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No Contenciosa.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onceptos doctrinarios: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el Prof. Mario Mosquera: Son aquella actividad del Estado, radicada en los tribunales en virtud de expresa disposición de ley, siempre que no surta conflicto por oposición de legítimo contradictor, para que éstos emitan un dictamen a petición de un interesado para cumplir con los diversos fines perseguidos con su establecimient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Couture: son procedimientos de carácter unilateral cumplidos ante los jueces con el objeto de  determinar auténticamente ciertas situaciones jurídicas o cumplir determinados requisitos impuestos por la ley, mediante declaraciones que no adquieren autoridad de cosa juzagada ni pueden causar perjuicio a tercer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lasificación: </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Destinados a proteger incapaces y/o completar la capacidad. Ej. Designación de tutores y curadores, autorización judicial para celebrar actos y contratos; tasación e inventario solemne.</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Destinados a declarar solemnemente ciertos hechos o derechos (Posesión efectiva).</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 </a:t>
            </a:r>
            <a:r>
              <a:rPr b="0" lang="es-CL" sz="3200" spc="-1" strike="noStrike">
                <a:solidFill>
                  <a:srgbClr val="ffffcc"/>
                </a:solidFill>
                <a:latin typeface="Times New Roman"/>
              </a:rPr>
              <a:t>La Administración del Estado en el desempeño de sus funciones realiz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Actos de autoridad  o de poder respecto de los ciudadan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Actos equivalentes a los de un particular, ejemplo, arrendamiento o compra de una propiedad raí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600" spc="-1" strike="noStrike">
                <a:solidFill>
                  <a:srgbClr val="ffffcc"/>
                </a:solidFill>
                <a:latin typeface="Times New Roman"/>
              </a:rPr>
              <a:t>c) Destinados a autentificar ciertos actos o situaciones jurídicas (inventario solemne y tasación).</a:t>
            </a:r>
            <a:r>
              <a:rPr b="0" lang="es-CL" sz="3600" spc="-1" strike="noStrike">
                <a:solidFill>
                  <a:srgbClr val="ffffcc"/>
                </a:solidFill>
                <a:latin typeface="Times New Roman"/>
              </a:rPr>
              <a:t>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d) Destinados a evitar fraudes. (insinuación de dona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aracterística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No se promueve conflic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Su conocimiento corresponde a los tribunales solo cuando hay texto expreso de ley que requiera su interven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 No se considera el fuero personal de los interesados para determinar la competencia del tribunal. (Art. 827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d) Conocen en primera instancia los jueces de letras (salvo caso Art. 45 N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 Se aplica regla especial y a falta de ley se aplica la regla general del domicilio del interesado (Art. 134 COT) No es procedente la prórroga de la competenci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f) Se aplica el procedimiento especial, y a falta de éste el procedimiento gener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de plano si la ley no dice que se debe obrar con conocimiento de causa. (Art. 824 y 818 CPC), o bi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con conocimiento de causa si así lo ordena la ley. En este caso los antecedentes son proporcionados al tribunal mediante informaciones sumari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Información sumaria es la prueba de cualquier especie rendida:</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notificación e intervención de contradictor.</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previo señalamiento de término probatorio (Art. 817 CPC). </a:t>
            </a: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puede decretar todas las diligencias informativas que estime convenientes (Art. 820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aprecia las pruebas prudencialmente conforme a un sistema de apreciación judicial y no de prueba legal o tasada. (Art. 819 CPC). </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a:t>
            </a:r>
            <a:r>
              <a:rPr b="0" lang="es-CL" sz="3200" spc="-1" strike="noStrike">
                <a:solidFill>
                  <a:srgbClr val="ffffcc"/>
                </a:solidFill>
                <a:latin typeface="Times New Roman"/>
              </a:rPr>
              <a:t>	</a:t>
            </a:r>
            <a:r>
              <a:rPr b="0" lang="es-CL" sz="3200" spc="-1" strike="noStrike">
                <a:solidFill>
                  <a:srgbClr val="ffffcc"/>
                </a:solidFill>
                <a:latin typeface="Times New Roman"/>
              </a:rPr>
              <a:t>La sentencia debe reunir las menciones del Art. 826 CPC, y proceden los recusos de apelación y ca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sentencia definitiva no produce el efecto de cosa juzgada, sino el desasimiento del tribunal. El tribunal no puede modificar la sentencia dentro del procedimiento.</a:t>
            </a:r>
            <a:endParaRPr b="0" lang="en-US" sz="3200" spc="-1" strike="noStrike">
              <a:solidFill>
                <a:srgbClr val="ffffcc"/>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s resoluciones afirmativas pueden revocarse o modificarse con tal que hayan veriado las circunstancias y con tal que esté pendiente su ejecución.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Las resoluciones negativas pueden revocarse o modificarse si varían las circunstancias. (Art. 821 CPC).</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lementos de los Asuntos Contencioso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dministrativos s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La existencia de un conflicto jurídico entre la Administración del Estado y un particular.</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el conflicto se genere con motivo de un acto de poder o autoridad de la Administr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El acto de poder de la autoridad puede dar origen a un conflicto cuando:</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1.- Es contrario a la CPR o a la ley.</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2.- Es ejercido fuera de la competencia de la Administración.</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3.-Es ejercido dentro de la competencia de la Administración, pero en forma abusiva.</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4.- Consiste en la falta de servicio de la Administración Pública.</a:t>
            </a:r>
            <a:r>
              <a:rPr b="0" lang="es-CL" sz="3200" spc="-1" strike="noStrike">
                <a:solidFill>
                  <a:srgbClr val="ffffcc"/>
                </a:solidFill>
                <a:latin typeface="Times New Roman"/>
              </a:rPr>
              <a:t>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3600" spc="-1" strike="noStrike">
                <a:solidFill>
                  <a:srgbClr val="ffffcc"/>
                </a:solidFill>
                <a:latin typeface="Times New Roman"/>
              </a:rPr>
              <a:t>3.- Que deba resolverse mediante la actividad jurisdiccional</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Mecanismos de solución de estos conflict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Por la propia Administración;</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Por los tribunales ordinarios de justicia; o</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Por Tribunales Contencioso Administrativos que sean independientes de la Administración y del Poder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Sistema en Chile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CPR 1925 ordenaba crear los Tribunales Administrativos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unca fueron creados y los tribunales ordinarios interpretaron que no existiendo estos tribunales, ellos no podían inmiscuirse en estos asuntos.</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Ver art. 4 COT, Repertorio de Legislación y Jurisprudencia.</a:t>
            </a:r>
            <a:endParaRPr b="0" lang="en-US" sz="3200" spc="-1" strike="noStrike">
              <a:solidFill>
                <a:srgbClr val="ffffcc"/>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CPR 1980. Art. 38 y 79, ordenaban crear los tribunales contencioso administrativos mediante ley. Además estableció claramente la responsabilidad del Estado por actos que causen daño.Varió la interpretación de los tribunales ordinarios, los que pasaron a conocer estos asunt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Reforma de la CPR, mediante Ley 18.825 del 17 de Agosto de 1989, eliminó las palabras contencioso administrativos en los arts. 38 y 79 de la CPR. Hoy no cabe duda que le corresponde a los tribunales ordinarios conocer y resolver los asuntos contenciosos administrativ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8:41Z</dcterms:modified>
  <cp:revision>355</cp:revision>
  <dc:subject/>
  <dc:title>Inter-American Convention: Dead or Alive?</dc:title>
</cp:coreProperties>
</file>