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3D9-D446-4721-AED7-779D97B2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EB3-6E1D-420D-B3FA-E5D3BD90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F84-F336-46C3-82B7-423392E4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110-FC39-481A-A243-D358AAE3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167F-FBF3-4EDA-B4B9-EE12D5A4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13A7-EA15-4DED-BAC3-DBC4FE56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D103-9E97-4054-8FAF-4E8809BD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893B-641B-46DB-9C57-0C6F4829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389F-032B-4720-8E5D-1C80108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B9ED-E7C8-495F-87DD-FA8C24CD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E71A-7824-48DF-B800-4CDA42E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7C1-1DCA-4469-B3E4-5922DAF3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963B-029E-4627-846B-28CC365F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BA4C-29E5-4BF2-A0E1-E50437A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1172-3920-4F29-9C8D-75785167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C2D3-257A-4799-BBF6-77054D27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1643-1949-4AD0-A0EF-29BD0438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F9E-6BB3-4762-BC59-10104B9E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111-4955-4A63-9D78-282A05C1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502-2A3E-4E87-8EEA-1146E2C7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175-27C3-49A0-A32D-9BE1A615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B2D-C803-453E-AA3D-C82E7231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0A3-C1AE-4D18-A91F-6BC4CAE1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887-4507-4A9E-9451-0E9A5695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3635-E6D4-4E8B-A75A-70DDE87519C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A60-9BAD-40DC-8B48-609FF14C7AD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5544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76892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Monotype Corsiva"/>
              </a:rPr>
              <a:t>René Luis Núñez Áv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139920"/>
            <a:ext cx="2819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Monotype Corsiva"/>
              </a:rPr>
              <a:t>Tribunales de Fami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ble a la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iez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iez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1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c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doce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el primero, el segundo y el tercer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y el cuart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0"/>
            <a:ext cx="792504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NUEVOS JUZ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95280" y="259092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los juzgados de garantía en los que sirvan tres o más jueces y en cada tribunal de jui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al en lo penal, habrá un comité de jue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763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Norma del Código Procesal Penal aplicable en materia de Tribunales de Fami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FUNCIONES DEL 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Aprobar el procedimiento objetivo y general a que se refieren los artículos 15 y 17, en su caso;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) Calificar anualmente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Resolver acerca de la remoción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Designar al personal del juzgado o tribunal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Juez presiden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Al juez presidente del comité de jueces le corresponderá velar por el adecuado funcionamiento del juzgado o tribuna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El Juez Presidente tendrá los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siguientes deberes y atribuciones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76320"/>
            <a:ext cx="7925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Relacionarse con la Corporación Administrativa del Poder Judicial en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das las materias relativas a l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etencia de ésta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c) Proponer al comité de jueces el procedimiento objetivo y general a que se refieren los artículos 15 y 17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j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ff"/>
                </a:solidFill>
                <a:uFillTx/>
                <a:latin typeface="Tahoma"/>
              </a:rPr>
              <a:t>ESTRUCTURA ORGÁNICA DE LOS TRIBUNALES DE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5400" spc="-1" strike="noStrike">
                <a:solidFill>
                  <a:srgbClr val="ffff00"/>
                </a:solidFill>
                <a:latin typeface="Tahoma"/>
              </a:rPr>
              <a:t>Consejo Técnic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94920" y="2742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858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FINALIDA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19368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Consejo Técnico y el tratamiento multidisciplinario del conflict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191120"/>
            <a:ext cx="81532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Asesorar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individual o colectivamente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468760"/>
            <a:ext cx="800100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cada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</a:t>
            </a: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es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specializados en asuntos de familia e inf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rtículo 7 de la Ley Nº 19.968 exige poseer título profesional de una carrera que tenga al menos ocho semestres de duración, otorgado por alguna universidad o instituto profesional del Estado o reconocido por éste, debiendo además acreditarse experiencia profesional y formación especializada en materia de familia e infancia de, al menos, dos semestres de duración, impartida por alguna de las instituciones antes señal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8600"/>
            <a:ext cx="76964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REQUISITOS PARA SER MIEMBRO DEL CONSEJO TÉC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istir a las audiencias de juicio a que sean citados con el objetivo de emitir las opiniones técnicas que le sean solicitadas (artículo 5 letra b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valuar la pertinenci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de derivar a mediación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o aconsejar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ciliación entre las partes, y sugerir los términos en que esta última pudiere llevarse a cabo (artículo 5 letra c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esorar al juez par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la adecuada comparecencia y declaración del niño, niña o adolescente (artículo 5 letra b) de la Ley Nº 19.968);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para la procedencia o no de la suspensión condicional de la dictación de la sentencia en materia de violencia intrafamiliar (artículo 96 de la Ley Nº 19.968); para decidir si pone término al proceso de violencia intrafamiliar por requerimiento de la víctima, cuando quien denunció fue un tercero (artículo 100 de la Ley Nº 19.968); para evaluar idoneidad de informes periciales en la audiencia de juicio tratándose de un procedimiento de protección (artículo 73 de la Ley Nº 19.968); para ponderar informes sobre cumplimiento de medidas de protección (artículo 76 de la Ley Nº 19.968), o para cualquier otra materia relacionada con su especialidad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artículo 5 letra d) de la Ley Nº 19.9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609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Tahoma"/>
              </a:rPr>
              <a:t>Funcion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un miembro del Consejo Técnico no pudiere intervenir en una determinada causa, o se imposibilitare para el ejercicio de su cargo, será subrogado por los demás miembros del Consejo Técnico del tribunal a que perteneciere, según el orden de sus nombramientos y la especialidad requer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todos los miembros del consejo técnico de un tribunal estuvieren afectados por una implicancia o recusación, el juez designará un profesional que cumpla con los requisitos para integrar un Consejo Técnico de cualquier servicio público, el que estará obligado a desempeñar el car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80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Normas de implicancia o recus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Administra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 elimina el cargo de secretario del tribu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0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mbio Trascendental en la Reforma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En cada tribunal de familia habrá un administrador, auxiliar de la administración de justicia </a:t>
            </a:r>
            <a:r>
              <a:rPr b="1" i="1" lang="es-MX" sz="2800" spc="-1" strike="noStrike">
                <a:solidFill>
                  <a:srgbClr val="ffff00"/>
                </a:solidFill>
                <a:latin typeface="Tahoma"/>
              </a:rPr>
              <a:t>encargado de organizar y controlar la gestión administrativa y financiera del tribunal</a:t>
            </a:r>
            <a:r>
              <a:rPr b="0" i="1" lang="es-MX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 de acuerdo a las reglas contempladas en 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árrafo 4 bis de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s administradores de tribunales con </a:t>
            </a:r>
            <a:r>
              <a:rPr b="1" i="1" lang="es-ES" sz="2800" spc="-1" strike="noStrike" u="sng">
                <a:solidFill>
                  <a:srgbClr val="ffff00"/>
                </a:solidFill>
                <a:uFillTx/>
                <a:latin typeface="Tahoma"/>
              </a:rPr>
              <a:t>competencia en lo criminal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”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del Título XI del Código Orgánico de Tribun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6699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21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95280" y="3333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La estructura orgánica de los nuevos Juzgados de Familia 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Requisitos </a:t>
            </a: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ara el cargo de Administrador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tículo 389 C del Código Orgánico de Tribu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seer un título profesional relacionado con las áreas de administración y gest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orgado por una universidad o por un instituto profesional, de una carrera de ocho semestres de duración a lo men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Funcio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Dirigir las labores administrativas propias del funcionamiento del tribunal, bajo la supervisión del juez presidente del comité de juec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comité de jueces la designación de los jefes de unidades y de los empleados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juez presidente la distribución del perso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valuar al personal a su carg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distribuir las causas a los juece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mover a los jefes de unidades y al personal de empleado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Llevar la contabilidad y administrar la cuenta corriente del tribunal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ar cuenta al juez presidente acerca de la gestión administrativa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aborar el presupuesto anu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dquirir y abastecer de materiales de trabajo al tribunal; y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jercer la demás tareas que le hayan sido asignadas por el comité de jueces, el juez presidente o que determinen las ley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berá sujetarse a las políticas generales de selección de personal, de evaluación, de administración de recursos materiales y de personal, de diseño y análisis de la información estadística y demás que dicte el Consejo de la Corporación Administrativa del Poder Judic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3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43000" y="30477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ahoma"/>
              </a:rPr>
              <a:t>EMPLEADOS DE SECRETARÍ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s Tribunales de Familia contarán con una planta de 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organizarán en unidades administrativas para el cumplimiento eficaz y eficiente de las siguientes funciones, conforme lo dispone el artículo 2 de la Ley Nº 19.968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SALAS Y FUNCIONES: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1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ala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consistirá en la organización y asistencia 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2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tención de público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3º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ervicios</a:t>
            </a:r>
            <a:r>
              <a:rPr b="1" i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4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dministración de causa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ISPOSICIONES V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án aplicables a las causas de competencia de los juzgados de familia que sean conocidas por los juzgados de letras, los procedimientos establecidos en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ítulos III, IV y V de esta ley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réase un cargo de miembro de consejo técnico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formarán parte del Poder Jud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drán la estructura, organización y competencia que la ley estable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abrá juzgados unipersonales de composición múlt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gnifica: Juzgados compuestos por un número variable de ju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da uno de los cuales detentará la plenitud jurisdiccional en forma independ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número de jueces será var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eterminará de acuerdo a la carga de trabajo estimada para cada jurisdi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rtículo 118 de la Ley Nº 19.96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4. Organización administrativa de los juzg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n lo relativo a la subrogación de los jueces de familia, se aplicarán las normas de los juzgados de garant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un juez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tre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r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uatro administrativos 1º, dos administrativos 2º, un administrativo 3º y un auxiliar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0"/>
            <a:ext cx="79250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</a:t>
            </a: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lanta De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uatr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uatr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inc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inc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inco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eis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is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ei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0"/>
            <a:ext cx="79250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7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iet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ete jueces, un administrador, siete miembros del consejo técnico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och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ocho jueces, un administrador, ocho miembros del consejo técnico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nueve jueces: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ueve jueces, un administrador, nueve miembros del consejo técnico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5-08-15T14:08:04Z</dcterms:modified>
  <cp:revision>220</cp:revision>
  <dc:subject/>
  <dc:title>MECESUP PROJECT</dc:title>
</cp:coreProperties>
</file>