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742-ABF9-4F84-B396-7FDA1184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71AC-60AA-454A-AE37-3C12F4D8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0F2-EA66-49B1-BB1A-D98BF6F9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EBA-4A46-44C0-8684-F4BEBF65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656F-4A0B-4871-B9D3-0624D2A7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96E6-AF02-49FF-A491-C41C0221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DB26-7E7E-4190-9884-E27C976C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0449-C476-4967-908A-75D4CF68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CABE-AC05-4BE8-ABEF-FC2559B3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3285-F2E1-41CC-ADA8-89F745BA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0966-061C-4F52-828A-510CD9EA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D44-B359-4F6D-B611-BE81AEB7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6F25-9843-4240-B1EC-C6B628B3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3EC3-92FF-4A03-82B4-3BD0A487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2283-96E9-4441-8F00-F7FE0663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DC10-DB2E-4A1C-B851-76E5BBA7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9461-E150-4DF9-A3FC-66660724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B3F0-F64B-4468-A43B-FA72121D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415-0FD4-4316-8E3A-5BD2A936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5E3-EAAD-45AD-8904-7EF2FBB2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E6E-131C-469D-9F2D-F0A0B929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3E5-B371-420F-8562-5147A854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EFF-F136-463A-AE06-6AAD6C90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988-5480-484C-94AB-014F94C2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3AD3-1D94-48B0-96AB-3EACBF739A4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1819-D99C-4C9B-8AB6-29F464CBC88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828800" y="650880"/>
          <a:ext cx="5486400" cy="5253120"/>
        </p:xfrm>
        <a:graphic>
          <a:graphicData uri="http://schemas.openxmlformats.org/drawingml/2006/table">
            <a:tbl>
              <a:tblPr/>
              <a:tblGrid>
                <a:gridCol w="1096920"/>
                <a:gridCol w="1096920"/>
                <a:gridCol w="1096920"/>
                <a:gridCol w="1254240"/>
                <a:gridCol w="94140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s y Estim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58.208 (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00.000 (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4.0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8.385 (c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00.000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76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du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789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82.347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arag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010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m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.2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ezu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.772 (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835280" y="2509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blación indígena America Latina, Cepal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900000" y="260280"/>
          <a:ext cx="7993080" cy="616608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616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ción comunidades, pueblos y naciones indígena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s que tienen continuidad histórica con las sociedades anteriores a la invasión y precoloniales que se desarrollaron en sus territo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 consideran distintos de otros sectores de las sociedades que ahora prevalecen en esos territorios, o en parte de ello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ituyen ahora sectores no dominantes de la socie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tienen la determinación de preservar, desarrollar y transmitir a futuras generaciones sus territorios ancestrales y su identidad étnica como base de su existencia continuada como pueblo. (Martínez Cobo 1986/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6633"/>
                </a:solidFill>
                <a:latin typeface="Arial"/>
              </a:rPr>
              <a:t>Los “estados-nación” y los pueblos indígenas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gación y asimilación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oj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indige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ormas agr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828800" y="2806560"/>
          <a:ext cx="5486400" cy="1704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íg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Indíg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1835280" y="836640"/>
            <a:ext cx="532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OBREZA INDÍG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N AMÉRICA L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(Porcentaje de la población por debajo de la línea de pobreza) Cepal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Arial"/>
              </a:rPr>
              <a:t>Movimientos y demandas indígen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mergen a contar de los 60 y 70 del siglo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mandas centrales de los pueblos indíge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derecho a la autodefinición  y a un status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El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recho a la tierra y a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El derecho a la identidad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El derecho a la organización social y costumbre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El derecho a la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icipación política (Stavenhagen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Estrategias de movimientos indígena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nuncias y movilizaciones a ni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nuncias ante instancia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icipación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s de desobediencia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33"/>
                </a:solidFill>
                <a:latin typeface="Garamond"/>
              </a:rPr>
              <a:t>Derecho internacional de derechos humanos y pueblos indígena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6216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Carta y Declaración Universal de DH ON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- Foco en derechos individua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- No se refieren a los pueblos indígen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PIDCP y PIDESC (ONU, 196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Derecho a la libre determinación (Art 1 comú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Derechos de quienes integran minorías (art. 27 PIDCP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Comité de Derechos Humanos (PIDCP) recibe comunicaciones individuales en virtud del Protocolo Faculta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Creación del Grupo de Trabajo sobre Poblaciones Indígenas (198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Examen de acontecimientos relativos a derechos de poblaciones indígen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Elaborar standards internacionales sobre derechos indígenas (en 1993 aprobó Proyecto de Declaración de Derechos de las Poblaciones Indígenas: en 1994 la Subcomisión Prevención Discriminaciones y Protección Minorí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6947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upervisión de asuntos indígenas derivados de la Carta de Naciones Unid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 Comisión de Derechos Humanos ONU y la Sub Comisión Protección y Promoción de Derechos Humanos (analizan asuntos de derechos indígenas en sesiones anuales y reciben alegaciones de violació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La Relatoría Especial para derechos humanos y libertades fundamentales de los indígenas (2000, la CDH nombra a Rodolfo Stavenhage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 Informes temáticos (General, justicia, desarrollo, educació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 Informes de país (Colombia, Guatemala, México, Chile,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ilipinas, Canadá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Sistema Interamericano de Derechos Humano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ta OEA, Declaración (1948) y Convención Americana sobre DHs (196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yecto de Declaración de la OEA sobre los Derechos de los Pueblos Indígenas (1997-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ctrina y jurisprudencia de la Comisión y la Corte Interamericana de Derechos Humanos relativa a pueblos indíg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46:14Z</dcterms:created>
  <dc:creator>Cliente</dc:creator>
  <dc:description/>
  <dc:language>en-US</dc:language>
  <cp:lastModifiedBy>mjeva</cp:lastModifiedBy>
  <dcterms:modified xsi:type="dcterms:W3CDTF">2005-11-02T15:41:15Z</dcterms:modified>
  <cp:revision>44</cp:revision>
  <dc:subject/>
  <dc:title>INDIGENOUS PEOPLES´ RIGHTS IN CHILE: PROGRESS AND CONTRADICTION IN A CONTEXT OF GLOBALIZATION</dc:title>
</cp:coreProperties>
</file>