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46AC0D-E9ED-42E0-93D3-3F75ECF03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692131-C5A9-45FB-8E31-165B1FF61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2B3B8E2-A713-4E1C-BEB7-A1837DAF3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2C167F-619D-4C02-8384-9C1F89401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DF19B-6582-4F3E-8A3C-27C4B88F4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AA0C9-6602-4328-B37A-49CCCB1A0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004FC-FC03-44F8-8218-A788FFA2B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BD99A-CA6C-4A62-9A95-01DA7223A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D49F8-DED3-4256-8316-B44141B50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4EF4F-9FC7-49E6-ADBC-E3346C22D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A4339-A689-42E6-9C11-0B29C8F2A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EAA646-6C6C-4B72-B62C-A95E4BF6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49C3F-EE69-4752-8743-50F12B9F6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BBC5B-19B2-4BB9-8806-C2A626919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E506B-FDF1-4F61-9F41-706E8142E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B22E0-62E3-41F0-B55E-7F30EB132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6B128-911E-4478-816D-30FA090BE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2F53BB-91ED-4174-916C-2370B765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1B5E99-211C-4358-8036-FF4858DCC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2EA317-2770-40CF-919F-EE002286F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E22FA13-7AF9-4F58-9EBC-A93F9712C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3C97DF-D0AF-4B86-9D06-7DF0ED163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271F26-A9FE-4D94-B50D-B3AA5BC70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0EDBC9-75E6-432A-911E-528CD389B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7BB2-8995-41CB-980F-C62834AF1B92}"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8ED5-A29F-4C6C-9408-8222A1CA9F9A}"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1280" y="549360"/>
            <a:ext cx="8229600" cy="568944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discriminación de mujeres casadas.</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79 Airey v Irlanda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Aumeeruddy Cziffra v. Islas Mauricio (Comité de DDHH)</a:t>
            </a:r>
            <a:endParaRPr b="0" lang="en-US" sz="2000" spc="-1" strike="noStrike">
              <a:solidFill>
                <a:srgbClr val="ffffff"/>
              </a:solidFill>
              <a:latin typeface="Garamond"/>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Lovelace v. Canadá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4  Opinión Consultiva Nº4 “Propuesta de Modificación a la Constitución Política de Costa Rica Relacionada con la Naturalización” (Corte Interamericana de Derechos Humano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5 Abdulaziz, Cabales y Balkandali v. Reino Unido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7 Broeks v. Los Países Bajos (Comité de DDHH) y Zwaan de Vries v. los Países Bajos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8 Ato del Avellanal v. Perú (Comité de DDHH)</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hombres (y mujer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992 Pauger v. Austr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Balaguer Santacana v. Españ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Müller y Engelhardt v. Namibia (Comité de DDHH)</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minorías sexu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Toonen v. Austral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Joslin et al v. Nueva Zeland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4 Young v. Australia (Comité de DDH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Violencia contra la mujer.</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7  Aydin v. Turquía (Corte Europe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1 MZ v. Bolivia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002 Caso María da Penha Maia Fernández v. Brasil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3 MC v Bulgaria (Corte Europea de DDH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640" y="404280"/>
            <a:ext cx="8229600" cy="5977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erechos Sexuales y Reproductivos</a:t>
            </a: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77 Bruggeman y Scheuten v. Alemania (Comisión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0 Paton v. Reino Unido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1 Baby Boy v. EEUU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Vo v. Francia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Ana Victoria Sánchez Villalobos v. Costa Rica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mjeva</cp:lastModifiedBy>
  <dcterms:modified xsi:type="dcterms:W3CDTF">2005-11-02T15:58:12Z</dcterms:modified>
  <cp:revision>7</cp:revision>
  <dc:subject/>
  <dc:title>Diapositiva 1</dc:title>
</cp:coreProperties>
</file>