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355-1AAA-4E70-A502-BD887F13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0A4-008A-49F7-9BEE-00B42BC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972-5D69-446E-929E-EDD3F6B2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724-9D58-4514-A0A0-8035FFF6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33A-B1AC-4D83-89C8-A446AFA9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DA5-B484-46A1-A3B7-DFC68868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9D1-C1D5-41C0-987B-B40F455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B59-1072-4ABC-AA3F-FB512321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251-56B5-4C6A-A99E-43DB2036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C86-814F-4341-A3CD-2F1CD82F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729-6858-42D1-A87B-949B4E3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763-41BB-46AB-8811-64563B16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D21-ADAD-476B-AECF-35020EADD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4-10T02:21:31Z</dcterms:modified>
  <cp:revision>81</cp:revision>
  <dc:subject/>
  <dc:title>Sin título de diapositiva</dc:title>
</cp:coreProperties>
</file>