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E07-D4D8-48DE-86FC-A5E45E98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967-6924-4CC5-B404-CC3EB20B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D3E-FE36-42E8-BB4C-190EC64B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98F-E563-4782-8C27-AB3A5993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7C9-5D07-4D16-9B54-35BC8348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B2D-1664-43B8-B144-18E0AB6F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8A5-F6FB-4D68-8B86-66A8A99C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22A-434B-4754-81D3-E55F90CA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3D0-6724-4977-8831-C4D0E060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1B8-1B05-49EE-8799-A388F63F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3D8-BACF-419C-B63C-652D6023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B2A-EF38-40ED-AC68-23F89BD6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7FDD-342D-43B2-B8DE-D3033338A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457200"/>
            <a:ext cx="57150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00400" y="1981080"/>
            <a:ext cx="57150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304920"/>
            <a:ext cx="53352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315200" y="1752480"/>
            <a:ext cx="14479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69520" y="99072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PECTOS LEGALES DE LA SECURI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30360" y="2924280"/>
            <a:ext cx="6613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MINARIO SOBRE FUNDAMENTOS Y APLIC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 LA SECURIT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81040" y="4437000"/>
            <a:ext cx="3019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avio Bofill Genz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77280" y="76500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2421000"/>
            <a:ext cx="80010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FECT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OFF BAL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¿RECONOCIMIENTO DE OBLIGACIONES DE HACER QUE ASUME EL ORIGIN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DEL SOBRECOLATERAL QUE ENTREGA EL ORIGINADOR, VAL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EL FINANCIAMIENTO DEL ACOPIO POR EL MERCADO DE CAPI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4797360"/>
            <a:ext cx="475308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6080" y="990720"/>
            <a:ext cx="79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PECTOS LEGALES DE LA TIT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20500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A ENTENDERNOS MEJ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TITULARIZAR = SECURIT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SECURITIZACIONES: FÓRMULAS DE SOLUCION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RUCTURAS FIDUCI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pio de Jurisdicciones del Common La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RUCTURAS PROPIE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pio de Jurisidicciones herederas del Derech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uropeo Contin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09840" y="838080"/>
            <a:ext cx="63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RUCTURA DE SECURITIZACIÓN DE ACTIVOS [Estructura Propietari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1082880" cy="142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1916280"/>
            <a:ext cx="1355760" cy="136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tular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endCxn id="52" idx="1"/>
          </p:cNvCxnSpPr>
          <p:nvPr/>
        </p:nvCxnSpPr>
        <p:spPr>
          <a:xfrm>
            <a:off x="1676520" y="2590920"/>
            <a:ext cx="13114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00200" y="2200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DE ACTIVOS SECURITIZA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2286000"/>
            <a:ext cx="99072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13372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SUME OBLIGACIÓN PAGO VALORES TITULARIZADOS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20000" y="4187880"/>
            <a:ext cx="165564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intend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S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/>
          <p:nvPr/>
        </p:nvCxnSpPr>
        <p:spPr>
          <a:xfrm>
            <a:off x="6705720" y="25905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61" idx="0"/>
          </p:cNvCxnSpPr>
          <p:nvPr/>
        </p:nvCxnSpPr>
        <p:spPr>
          <a:xfrm flipH="1" flipV="1">
            <a:off x="4809600" y="5446800"/>
            <a:ext cx="6184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821720" y="2963880"/>
            <a:ext cx="114300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2200" y="36399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Solicitud de inscrip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en registro de val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5516640"/>
            <a:ext cx="9903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crip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5805360"/>
            <a:ext cx="990720" cy="6098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lo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6059520"/>
            <a:ext cx="137160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auda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olo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endCxn id="61" idx="6"/>
          </p:cNvCxnSpPr>
          <p:nvPr/>
        </p:nvCxnSpPr>
        <p:spPr>
          <a:xfrm flipH="1">
            <a:off x="5922720" y="61099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 rot="10800000">
            <a:off x="1042200" y="5589000"/>
            <a:ext cx="83916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556000" y="4365720"/>
            <a:ext cx="1434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arado (P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906800"/>
            <a:ext cx="121932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ú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/>
          <p:nvPr/>
        </p:nvCxnSpPr>
        <p:spPr>
          <a:xfrm flipH="1">
            <a:off x="4066920" y="3428640"/>
            <a:ext cx="2181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4"/>
            <a:endCxn id="57" idx="0"/>
          </p:cNvCxnSpPr>
          <p:nvPr/>
        </p:nvCxnSpPr>
        <p:spPr>
          <a:xfrm rot="5400000">
            <a:off x="7813080" y="3608280"/>
            <a:ext cx="615240" cy="545040"/>
          </a:xfrm>
          <a:prstGeom prst="bentConnector3">
            <a:avLst>
              <a:gd name="adj1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 rot="5400000">
            <a:off x="7906320" y="4846320"/>
            <a:ext cx="1394640" cy="14364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573440" y="3139920"/>
            <a:ext cx="172728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te. Ten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RT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5229360"/>
            <a:ext cx="136836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c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08440" y="3855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PORTA ACTIVOS SECURITIZA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08000" y="429588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 PRECIO CES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E AC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9" idx="0"/>
            <a:endCxn id="51" idx="2"/>
          </p:cNvCxnSpPr>
          <p:nvPr/>
        </p:nvCxnSpPr>
        <p:spPr>
          <a:xfrm flipV="1">
            <a:off x="1077480" y="3789360"/>
            <a:ext cx="73800" cy="11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76000" y="3357720"/>
            <a:ext cx="151200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500720" y="4292640"/>
            <a:ext cx="122364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ero 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endCxn id="79" idx="1"/>
          </p:cNvCxnSpPr>
          <p:nvPr/>
        </p:nvCxnSpPr>
        <p:spPr>
          <a:xfrm flipH="1">
            <a:off x="4679280" y="3645000"/>
            <a:ext cx="253080" cy="73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9" idx="6"/>
          </p:cNvCxnSpPr>
          <p:nvPr/>
        </p:nvCxnSpPr>
        <p:spPr>
          <a:xfrm>
            <a:off x="5724360" y="4597200"/>
            <a:ext cx="2161080" cy="632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9" idx="3"/>
          </p:cNvCxnSpPr>
          <p:nvPr/>
        </p:nvCxnSpPr>
        <p:spPr>
          <a:xfrm flipH="1">
            <a:off x="1331640" y="4812840"/>
            <a:ext cx="3348720" cy="1064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237440" y="2347920"/>
            <a:ext cx="172728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ler R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2"/>
            <a:endCxn id="62" idx="1"/>
          </p:cNvCxnSpPr>
          <p:nvPr/>
        </p:nvCxnSpPr>
        <p:spPr>
          <a:xfrm flipH="1">
            <a:off x="7987680" y="2781360"/>
            <a:ext cx="1134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V="1">
            <a:off x="6372000" y="292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348000" y="5373720"/>
            <a:ext cx="1440000" cy="71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1"/>
          </p:cNvCxnSpPr>
          <p:nvPr/>
        </p:nvCxnSpPr>
        <p:spPr>
          <a:xfrm flipH="1">
            <a:off x="2555640" y="5734080"/>
            <a:ext cx="7927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2908440" y="6167520"/>
            <a:ext cx="144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N PRECIO COLOCACIÓN VAL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242100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ente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to de cesión: entrega activo y percibe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ser titular de valores junior (sobrecolate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parte: Titular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1337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4760" y="537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61080" y="514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65240" y="95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27360" y="1230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4360" y="990720"/>
            <a:ext cx="84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PERSPECTIVAS DE LAS PARTES INVOLUC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4581360"/>
            <a:ext cx="8964720" cy="7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18772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422100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primario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716280"/>
            <a:ext cx="433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el activo, puede tener que asumir obligaciones que aseguren la existencia y solvencia del a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9920" y="213372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TULARIZ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242100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esionaria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cesión: recibe activo y paga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jeto activo de obligaciones que asume 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parte: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3284640"/>
            <a:ext cx="47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misor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Emisión: recibe producto de la colocación y se obliga al pago de los valores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393372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rma patrimonio sepa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os activos y otr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a obligación de pago de lo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479736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ntiene su patrimonio común para su g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456408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maestro de la titu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46530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920" y="5013360"/>
            <a:ext cx="4335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presenta a los inversionistas en el ctto. de e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s “contraparte” de la Titularizadora en el ctt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 emisión, exige cumplimiento de sus oblig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ertifica el debido entero del activo del patrimonio sepa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[Libera los fondos de la recaudació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514044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4520" y="53737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ran valores, pagan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erciben pago de los valores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n [casi] los únicos acreedores del patrimonio separado [éste no tiene patrimonio net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n la verdadera contraparte de la Titulariz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7400" y="765000"/>
            <a:ext cx="61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OBJETIVO DE LA ESTRUCTURA LE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N LA TIT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13372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BLINDAR UN PATRIMONIO: SUS ACTIVOS, SUS FLUJOS Y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33760" y="2421000"/>
            <a:ext cx="61862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dos y determinados desde un comienzo (¿sustituciones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piedad del patrimonio separado (venta verdadera / acciones paulian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bres de gravám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 reconozcan derechos en favor de terceros (venta verdade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os flujos sólo se perciban por el patrimonio separ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inversión de los excedentes de c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os mejoramientos credit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dos y avaluados desde un comien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astos por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es emitidos (preferentes / subordin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ción de otros pasivos de otros patrimonios separado de la mi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itularizadora y de su patrimonio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abilidades extracontract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tributar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erte del Originador no repercuta en patrimonio separado  (ej.: su quieb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1825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219400"/>
            <a:ext cx="800100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TIPOS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 ACTIVOS,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DESDE UN PUNTO DE VISTA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TRATOS RE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UNIDAD DEL CONTRATO Y SUS CAU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TIVOS QUE NO SE INDEPENDIZAN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ESIONES DE CRÉDI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E EMANAN DE CONTRATOS BILATER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EJECUCION DIFERIDA O TRACTO SUC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L PATRIMONIO SEPARADO Y SU CONTROL SOBR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REACION DE ACTIVOS ESPECIALES: FLUJOS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GULACIÓN TEMÁTICA DE SU PROP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L CONTROL D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UJECIÓN AL EVENTO DE INSOLVENCIA DEL DEUDOR DE LOS FLUJOS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20500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ESIONES DE ACTIVOS AL PATRIMONIO SEPA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ÉGIMEN SIMPLIFICADO DE C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entr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stos y plaz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OPONIBLE AL DEUDOR Y SUS ACR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Activos se restan de la prenda general de los acreedor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ÉGIMEN EXTENSIBLE A DERECHOS, CRÉDITOS Y TÍTULOS </a:t>
            </a:r>
            <a:r>
              <a:rPr b="1" i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NOMINA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Aplicación del endoso de los títulos de crédito como méto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LA CLÁUSULA ANTI – CESIÓN, OBLIGACIÓN DE NO H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 entorpecimiento general a la circulación de los créditos de contrato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LA SECRECÍA DEL CLIENTE DE LOS CRÉDI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La fricción entre la publicidad de los valores y la secrecía de los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27664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FECTOS TRIBUT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NTA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STO TRIBUTARIO DEL ACTIVO (SI AUN NO CONTABILIZ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SPONSABILIDADES QUE ASUME: ¿EFECTO DE PASIV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VENTA POR ANTICIPADO: COSTO FUTURO DE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IMPUESTOS DE SELLOS (TIMB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Qué si el activo subyacente ya pagó el impuesto? ¿Y si está exent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IVA EN LOS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Cómo lo descarga el patrimonio separado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Lo puede trasladar a los inversionistas (si ellos pueden descargarlo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Es costo para el patrimonio separa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ERO EFECTO TRIBUTARIO PARA EL PATRIMONIO SEPARADO (O RECONOCIMIENTO DE CRÉDITOS A TENEDORES DE 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33720"/>
            <a:ext cx="8577000" cy="35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EGULACION ESTRUCTURAL QUE HACE VIABLE A LA SECURIT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IDAD SEPARADA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GIRO ÚNICO, EMISOR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 FISCALIZACIÓN GUBERNAMENTAL (PERSPECTIVA DE LOS 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EPARACIÓN DE PATRIMON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RMAS ESPECIALES DE LIQUIDACIÓN Y QUIEBRAS DE LA SECURIT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ERFECCIONAMIENTO DE LEGISLACIÓN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IMULACIÓN DE CONTR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CIONES REVOCATORIAS O PAULIA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IEBRA DEL ORIGINADOR Y EL CRÉDITO DEL PATRIMONIO SEPARADO EN SU CONT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ULTIAGENTES DE GARANTÍASY SUS ACR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0:42:07Z</dcterms:created>
  <dc:creator>OBG</dc:creator>
  <dc:description/>
  <dc:language>en-US</dc:language>
  <cp:lastModifiedBy>Octavio Bofill</cp:lastModifiedBy>
  <dcterms:modified xsi:type="dcterms:W3CDTF">2006-05-02T22:37:58Z</dcterms:modified>
  <cp:revision>49</cp:revision>
  <dc:subject/>
  <dc:title>Aspectos Legales </dc:title>
</cp:coreProperties>
</file>