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E58-5ADB-4C1A-BAD7-EAA5D4F0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554-D9A2-4F5A-AA09-9840D0EB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01C-D44F-4685-B5F6-D0A5E985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A1D-E6D0-437A-8A8E-A5BC1FA1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D049-9D48-497E-959E-B577134D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D98C-1DEB-4412-B76F-B5694861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005C-D05A-4051-BE4D-E8E5A2C9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DC51-5783-4154-8C35-117E6CA8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4368-7948-4685-883D-271D539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4F5A-F471-4A7E-894A-64B263B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BCD8-FB56-418F-8AE0-0B8A621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C15-1739-4B40-A0BC-83C88D90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B581-EC27-469E-A4F8-CAFE14CE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E82A-A9B1-4EB7-BED8-3A3B725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AF9B-198A-4123-BF8C-1994DA09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8079-655A-453D-A245-48D68473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8424-1189-4645-B8B9-175F1AD0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60D-E5C1-462D-B136-5D01350D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F2F-0365-46C3-AB37-26AB3033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550-67FC-41B9-888A-1CE25CC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65F-DA79-408C-A58B-07ADDA9D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BC5-795C-4DB0-835B-F2B8522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38A-B4AC-4610-83F0-09CF0841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D10-B6BE-4C3E-BE53-7117A40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D77A-8BDD-4E32-8C7F-F352705AA771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C10C-6716-4EEF-A81C-66699D4CF1CC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Antisindicales y Desle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yo-Junio. 2006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200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Despido Antisindical. (Art. 215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295280"/>
          <a:ext cx="8381880" cy="5321520"/>
        </p:xfrm>
        <a:graphic>
          <a:graphicData uri="http://schemas.openxmlformats.org/drawingml/2006/table">
            <a:tbl>
              <a:tblPr/>
              <a:tblGrid>
                <a:gridCol w="1905120"/>
                <a:gridCol w="2895480"/>
                <a:gridCol w="358128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19.75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20.087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Afo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º resolución, orde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r reincorporación del trabaj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go de remuner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ones adeudad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ñalar día, hora y fun- cio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percibimiento de multa de 100-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ber de acreditar. (5d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no afor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Ordi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de Op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orpora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Op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 más alt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en la Negociación Colectiva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00200"/>
            <a:ext cx="820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cciones del empleador, de los trabajadores y/o organizaciones sindicales en su caso, que entorpezcan la negociación colectiva y sus procedimientos.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7. Practicas desleales del Emple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8. Prácticas desleales del Empleador, OS, Trabajad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: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ácticas Antisindicales.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deas Gener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Capítulo IX, Título I del Libro III. (Art. 289-294) y título VIII, Libro IV. (Art. 387-390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ienes Jurídicos protegid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ertad Sindical</a:t>
            </a:r>
            <a:r>
              <a:rPr b="0" lang="es-E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Negociación Colec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re Competencia. DL211. Sanción mas drást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981080"/>
          <a:ext cx="7353360" cy="4694400"/>
        </p:xfrm>
        <a:graphic>
          <a:graphicData uri="http://schemas.openxmlformats.org/drawingml/2006/table">
            <a:tbl>
              <a:tblPr/>
              <a:tblGrid>
                <a:gridCol w="3619440"/>
                <a:gridCol w="373392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90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5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601"/>
                        </a:spcBef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n Sujeto Calific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 en la Negociación Colectiva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Antisindicales o Desleales.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1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iertos hechos de autoría del empleador, o de los trabajadores, o de las organizaciones sindicales, en su caso, que tienen por objeto atentar en contra de la libertad sindical o de la autonomía de funcionamiento de aquell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 Antisindical del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89: “Las acciones que atenten contra la Libertad Sindic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2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ciones u Omisi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del Trabajador, OS o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0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 acciones que atenten contra la libertad sindic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sin Sujeto Activo Calificado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1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ser cualquier person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-2520"/>
            <a:ext cx="8650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95360" y="914400"/>
          <a:ext cx="8153280" cy="586728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.75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.087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Concent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b. Com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es Juzgados de Letr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s Juzgados de Letras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gitima-ción ac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v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Cualquier Interes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ganización Sindic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ólo Trabajador en caso de Despi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alor Prob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orm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presa presunción de veracidad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 Art. 292 no lo dice expresamente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95360" y="227160"/>
          <a:ext cx="8153280" cy="612936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lidad de las Actuacio-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2 inciso 10º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 Art. 49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ult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, consi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ando reiteracio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idencia: 100-150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n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3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 293. Se mantien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a-ción de E y Org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ractora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3:06:49Z</dcterms:created>
  <dc:creator>Veronica</dc:creator>
  <dc:description/>
  <dc:language>en-US</dc:language>
  <cp:lastModifiedBy>Universidad del Desarrollo</cp:lastModifiedBy>
  <dcterms:modified xsi:type="dcterms:W3CDTF">2006-06-16T19:52:18Z</dcterms:modified>
  <cp:revision>10</cp:revision>
  <dc:subject/>
  <dc:title>Prácticas Antisindicales y Desleales.</dc:title>
</cp:coreProperties>
</file>