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3EB-BA18-4B97-A4F5-23F42A5B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633-6F96-4BF8-8955-3CFB9E58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323-8708-440D-82F4-588CCA19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EF0-90BC-4619-A6E0-F12A6BBB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52CA-E70C-46A8-B2F4-DF26730B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ADED-CD89-4AA7-A7EA-EF090B3E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2432-06B8-405C-8D23-B7C3202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23CD-0D1D-4853-A164-8C4F5D3F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096D-49CA-4C4E-9744-EA4979F8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9978-BE14-48E6-9211-D990B2D3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CAD2-6498-45B4-80CF-C2B403D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020-1FCD-48E4-893D-B6994040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75C0-F4B4-4C76-AB82-FF6561E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46FD-DE97-40E7-A3D7-F0D558E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00CA-9886-47F9-B5B9-267966C2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C4AE-D77C-49A9-A6CC-7B63EE9F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C508-DD0B-4387-9291-FA08E789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B10-7594-451D-B7B3-D97C8D93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A099-AAB5-45CC-AF83-973684A8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830-55C1-472D-831E-57409067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6FF-DA46-4BFC-A90A-6C3328A8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71A-844B-4828-B9B6-D09698E5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8DE-A8D1-4AB6-B393-8B37DA0D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DAB-7EDC-4F3A-9EFE-4C82F1D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29A7-57FA-42CA-91D4-A0C18B217B5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8BBE-CF85-4B18-82AF-4EDD71C803A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s de la Difer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Reacciones: dos tend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evalorización de cualidades femeninas (largamente subvaloradas en la socieda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iesgo de restituir peligrosos estereotipos de género que, en definitiva, pueden conducir a separar aún más los géneros (esencialismo) y a devaluar las cualidades femeni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óxima clase: Feminismo Radical o de la Domin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3048120"/>
            <a:ext cx="820872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eer texto “Sexualidad” de Catharine MacKinnon (22 págs. U- Curso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xisten diferencias sociales, psicológicas y de comportamiento entre los varones y las mujeres (base: proceso de socialización / diferencia biológic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as diferencias de género son explicadas en base a la biología, la división del trabajo, la dinámica psicológica en la formación de la identidad, la estructura política de las relaciones de género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A diferencia de las feministas liberales (que intentan eliminar las diferencias de género) las partidarias de este enfoque buscan aprender de las diferencias de género, una vez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redefinidas: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ámbito público debe ser </a:t>
            </a: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reconstrui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on la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participación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de las mujeres y teniendo en cuenta sus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eces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Derecho debe ser puesto en cuestión desde una perspectiva feminista que surja de la experiencia misma de las mujeres en la sociedad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(reformas legales en materia de delitos sexual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2474640"/>
            <a:ext cx="82087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Valora la cultura femenina como un conjunto de valores desarrollados en la esfera privada de la sociedad </a:t>
            </a:r>
            <a:r>
              <a:rPr b="0" lang="es-MX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apacidades que deben ser llevadas a la esfera públ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ol Gilligan: (</a:t>
            </a: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In a different voice</a:t>
            </a: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. 198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Diferencias en la forma en que varones y mujer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e conciben a sí mismo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nciben a su entorno, y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la forma en que resuelven problemas moral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Teoría tradicional del desarrollo psicológico femenino está basado en estudios del desarrollo masculino </a:t>
            </a: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(Estadios de desarrollo moral de Kohlberg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.: que ambos géneros estuviesen representados como sujetos en las investigaciones sobre el desarroll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l cuidado / Ética de la justici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Propuesta de Gilligan: agregar la ética del cuidado a la ética de la justi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l cuida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nadie resulte dañ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 la justicia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todos sean tratados por ig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 la justicia / Ética del cuidad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personas como individuos, independientes (previo a rels. social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Imparcialismo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Formalismo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eto por los derecho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formales de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límite a la acc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reglas mínimas de convivencia (por procedimient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mundo como una red de relaciones en que se inserta el y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Contextualismo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sit. particular sujeto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onsabilidad por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importa tb. la omis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no sólo reglas sino también de cualquier cosa que se valore com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acterísticas del modelo masculino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bstrac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etiv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usencia de peso emo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ecuencias en el campo del Derech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Ley está impregnada de la perspectiva masculina: Reglas abstractas, ideas de autonomía y de derechos individuales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excluyen la perspectiva femeni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Sugiere numerosa incorporación de abogadas y juezas en el sistema jurídico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nueva perspectiva y cambi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3:11:51Z</dcterms:created>
  <dc:creator>Patsili Toledo</dc:creator>
  <dc:description/>
  <dc:language>en-US</dc:language>
  <cp:lastModifiedBy>Humanas</cp:lastModifiedBy>
  <dcterms:modified xsi:type="dcterms:W3CDTF">2006-08-25T15:37:00Z</dcterms:modified>
  <cp:revision>8</cp:revision>
  <dc:subject/>
  <dc:title>Feminismo de la Diferencia</dc:title>
</cp:coreProperties>
</file>