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EEB-7F3E-4585-90EE-A71FC22D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055-A4F4-4F94-9C41-1B6E1B9A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5ED-EBB1-4C1A-8D19-51E2414C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61E-D1BD-4BBA-A3FF-248E7C66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1283-4DAB-4DC3-A277-A5D98B62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3D6F-EF7D-4FE0-AF90-67E9C3D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F148-C1E0-4885-9831-395F3CE5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FB9F-4E52-4C99-BFD5-DE0E7DB5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853-122B-4B39-AC5D-3AF699F0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512E-F223-4077-954E-CAA66034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FB3E-30F5-4506-B850-BC0DD9FF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919-007E-4726-BEB6-6D036AB1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12E9-4CC8-4FF5-BC60-00FF74F7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F15-EC3C-4652-BC73-F806B17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670E-6019-4DC7-AB9A-E894C263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729-7C35-4644-B074-6E63B780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A35D-874F-4527-884D-81C6B4BF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3AE-C039-4CC2-8D98-E7BEC518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ED7-A3D9-4CE6-BE58-3C94999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921-E27E-49F5-950D-DC2079E0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607-9894-42B1-BA31-D82C742F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4E0-4BA2-4556-992D-6D0E162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D9F-08C2-49BA-BE01-7ADA07A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14F-3DB7-4906-A876-96C751B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1881-7C0D-4413-91DB-653F6292EB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70EA-2A47-4083-BB0A-03BBFA0147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Feminismos Radicales o de la Domin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nfoques de igualdad y diferencia no sirven para explicar el poder de los varones sobre las muje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je no es la igualdad/diferencia en relación a los varones, sino el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sistema de dominación en que los varones tienen el poder de oprimir a las mujeres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a través 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lengu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 instituciones culturales, sociales y leg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cuerpo de las mujeres 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 consideran “centros de dominación patriarcal” esferas que hasta entonces habían sido consideradas parte de la vida privada. </a:t>
            </a: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Lo personal es políti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icialmente, principales autoras: Millet y Firestone (década de 197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atharine MacKinn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locu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de la opresión femenina esta constituido por el cuerpo d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iferencias entre varones y mujeres se explican por la subordinación de las mujeres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origen: la alienación de su sexu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xualidad es el origen de la dominación de los varones sobr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poder total de los varones sobre las muje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 capacidad para reducirlas a la encarnación de sus deseos sexu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ley reproduce la sexualidad desde la perspectiva masculina y asegura el control masculino sobre los cuerpos de las muje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sobre prostit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relativas a la moralidad / obsc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recho es masculino y por lo tanto, no hay lugar para las mujeres en este paradigma legal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de el feminismo, debiera pensarse en un sistema jurídico que tomara a las mujeres como punto de part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consecuencia, MacKinnon está a favor de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un sistema de justicia separado para las mujer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y del desarrollo de una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radica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828440"/>
            <a:ext cx="8110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ropia situación de opresión de las mujeres posibilita una apreciación más completa y menos perversa de la realidad, lo que podría constituirse en la base de un sistema jurídico más deseab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ia en el Derecho: promulgación de leyes en áreas como violación, prostitución y pornografía (sexualidad femeni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de la diferencia: radical y cultur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mbas corrientes entienden que la vida de las mujeres es diferente de la de los varones desde el punto de vista físico, y comparten el interés y la preocupación por la carencia de poder de las mujeres. (Robin We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ítica a feminismos de la diferenc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de feminismos posteriores se ha criticado en particular la idea de l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o que intenta reemplazar una verdad por otra: al reemplazar las “grandes” teorías masculinas del Derecho, universales y abstractas, por teorí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enin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l derecho, igualmente totalizadora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30T14:53:35Z</dcterms:modified>
  <cp:revision>15</cp:revision>
  <dc:subject/>
  <dc:title>Feminismo de la Diferencia</dc:title>
</cp:coreProperties>
</file>