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1A4-8A42-49F8-BABF-1DD31768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73C-D0DA-441C-803C-2F55B1EF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934-F2FC-4EF0-94BB-8253D36B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C86-C47C-4C25-A6F3-BA274886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ED72-FEC2-4B41-82B3-B11A58E6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5E39-23A5-4104-A371-31661321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5A0E-F5E2-4320-AEC9-154CE74F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713A-6953-4C91-9205-1D8D5191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7AF3-74F7-4F4C-914B-C1DA419A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9607-751A-44CC-9703-35126440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F554-5019-4346-B2ED-20B95CD8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9BA-FB22-4629-BD92-0AB6BD89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4C8F-A285-4D47-9C16-F13A4A4B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44A0-BC8E-4764-92EB-E97ACD48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1107-01FB-466F-B27C-25C1C862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946B-A028-411C-9643-AFD44A35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05CB-123B-4D2A-AB0B-84184F6B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9EA-AA88-4246-8245-1DE88F69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A7F-564D-4AD4-895A-9B6F806F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335-AB4D-40DC-B93F-B12E5634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CE9-5EE7-4CB3-870E-C86E01E1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802-644B-4215-966C-8F11A451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726-63B4-4484-AE5E-3FC5AEBA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674-E077-46D2-807E-77975257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7723-5D09-4584-98A6-DD4B4BC2948F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9752-73AF-4F36-A5CC-CD9D3BAD44D2}" type="slidenum">
              <a:rPr b="0" lang="es-E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Feminismos y pensamientos postmodern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Pensadores postmodernos franceses: Foucault, Lyotard, Lacan, Derrid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Planteamiento fundamental: Cuestionamiento a las teorías y conceptos “modernos” que se presentan como totalizadoras y coherentes </a:t>
            </a:r>
            <a:r>
              <a:rPr b="0" lang="es-MX" sz="28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 deconstrucción</a:t>
            </a:r>
            <a:r>
              <a:rPr b="0" lang="es-MX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057400" y="4648320"/>
          <a:ext cx="5029200" cy="156996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oderno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ostmoderno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erteza 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herencia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ragmentación 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tingencia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iversidad 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ostmodernismo y feminis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Revisión de los conceptos tradicionalmente utilizados para explicar la subordinación de las mujeres: </a:t>
            </a:r>
            <a:r>
              <a:rPr b="0" i="1" lang="es-MX" sz="2400" spc="-1" strike="noStrike">
                <a:solidFill>
                  <a:srgbClr val="545472"/>
                </a:solidFill>
                <a:latin typeface="Tahoma"/>
              </a:rPr>
              <a:t>género y patriarcado; público y privado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Develar las maneras en que </a:t>
            </a:r>
            <a:r>
              <a:rPr b="0" i="1" lang="es-MX" sz="2400" spc="-1" strike="noStrike">
                <a:solidFill>
                  <a:srgbClr val="545472"/>
                </a:solidFill>
                <a:latin typeface="Tahoma"/>
              </a:rPr>
              <a:t>el lenguaje constituye la realidad: </a:t>
            </a: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poder e identidades construidas desde los discurso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uestionamiento de las categorías duales y opuestos binarios (totalizador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Crítica a feminismos tradicionales (70s y 80s): reduccionistas o esencialistas / mujeres blancas de clase medi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ostmodernismo y feminism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Feminismo postmoderno” </a:t>
            </a:r>
            <a:r>
              <a:rPr b="0" lang="es-MX" sz="24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contradicció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Más bien se trata de la influencia del pensamiento postmoderno en las teorías feministas: que continúan teniendo como referente a </a:t>
            </a:r>
            <a:r>
              <a:rPr b="0" i="1" lang="es-MX" sz="2800" spc="-1" strike="noStrike">
                <a:solidFill>
                  <a:srgbClr val="545472"/>
                </a:solidFill>
                <a:latin typeface="Tahoma"/>
              </a:rPr>
              <a:t>las mujeres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 y además se plantean un objetivo político de </a:t>
            </a:r>
            <a:r>
              <a:rPr b="0" i="1" lang="es-MX" sz="2800" spc="-1" strike="noStrike">
                <a:solidFill>
                  <a:srgbClr val="545472"/>
                </a:solidFill>
                <a:latin typeface="Tahoma"/>
              </a:rPr>
              <a:t>modificación del statu quo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 (cambios sociale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Análisis del Derech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Considerar que el “derecho es masculino” es demasiado simplist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La ley es a la vez racional, objetiva y abstracta como irracional, subjetiva y concreta </a:t>
            </a:r>
            <a:r>
              <a:rPr b="0" lang="es-MX" sz="24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tan contradictoria como la realida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Es necesario abandonar las “grandes” teorías </a:t>
            </a:r>
            <a:r>
              <a:rPr b="0" lang="es-MX" sz="28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545472"/>
                </a:solidFill>
                <a:latin typeface="Tahoma"/>
              </a:rPr>
              <a:t> estudio de instancias específica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arol Sma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La ley puede, a la vez, ayudar y perjudicar a las mujeres (el derecho</a:t>
            </a:r>
            <a:r>
              <a:rPr b="1" lang="es-E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545472"/>
                </a:solidFill>
                <a:latin typeface="Tahoma"/>
              </a:rPr>
              <a:t>no es 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masculino, el derecho </a:t>
            </a:r>
            <a:r>
              <a:rPr b="0" i="1" lang="es-ES" sz="2800" spc="-1" strike="noStrike">
                <a:solidFill>
                  <a:srgbClr val="545472"/>
                </a:solidFill>
                <a:latin typeface="Tahoma"/>
              </a:rPr>
              <a:t>tiene género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Es necesario considerar no sólo la ley escrita sino también la forma en que se aplica (operadore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El género actúa sobre la ley, y a la vez </a:t>
            </a:r>
            <a:r>
              <a:rPr b="0" i="1" lang="es-ES" sz="2800" spc="-1" strike="noStrike">
                <a:solidFill>
                  <a:srgbClr val="545472"/>
                </a:solidFill>
                <a:latin typeface="Tahoma"/>
              </a:rPr>
              <a:t>produce </a:t>
            </a: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género (tecnología del género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45472"/>
                </a:solidFill>
                <a:latin typeface="Tahoma"/>
              </a:rPr>
              <a:t>La ley debe ser considerada, por tanto, un espacio válido e importante para la lucha feminist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Ngaire Naff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45472"/>
                </a:solidFill>
                <a:latin typeface="Tahoma"/>
              </a:rPr>
              <a:t>Introduce a la teoría feminista elementos del marxismo: clase y géner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45472"/>
                </a:solidFill>
                <a:latin typeface="Tahoma"/>
              </a:rPr>
              <a:t>Derecho </a:t>
            </a:r>
            <a:r>
              <a:rPr b="0" lang="es-MX" sz="32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545472"/>
                </a:solidFill>
                <a:latin typeface="Tahoma"/>
              </a:rPr>
              <a:t> figura preferida: “el hombre de la ley” </a:t>
            </a:r>
            <a:r>
              <a:rPr b="0" lang="es-MX" sz="3200" spc="-1" strike="noStrike">
                <a:solidFill>
                  <a:srgbClr val="545472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545472"/>
                </a:solidFill>
                <a:latin typeface="Tahoma"/>
              </a:rPr>
              <a:t> las mujeres son construidas para reflejar su lugar tradicional en el orden social, como compañeras del hombre del derecho (discusión sobre el sujeto de derecho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02:27:09Z</dcterms:created>
  <dc:creator> Patsili Toledo</dc:creator>
  <dc:description/>
  <dc:language>en-US</dc:language>
  <cp:lastModifiedBy>Humanas</cp:lastModifiedBy>
  <dcterms:modified xsi:type="dcterms:W3CDTF">2006-09-01T14:53:41Z</dcterms:modified>
  <cp:revision>3</cp:revision>
  <dc:subject/>
  <dc:title>Feminismos y pensamientos postmodernos</dc:title>
</cp:coreProperties>
</file>