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2C3-1B8C-466A-91A0-B04783D9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279-850E-47E1-A263-22C4B086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8F8-4D95-494A-9137-7A1A8653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632-CB46-4B58-80E6-DBD9CA41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E066-30E6-4637-BB91-0395EEB0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B738-217A-41AB-8400-A7545317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9404-6AA0-4BA5-B17A-0E068505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C0D4-56EF-4A6C-9AA4-5971EC92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C13A-29D7-48A1-A4EC-20E4366C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7705-648C-4A3E-BECD-3594B140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7101-C3B0-4DF4-BAC8-FCB05402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088-504B-47C3-81AB-7F8A6D9B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EF2E-924B-4CE5-954D-DCF6758B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CE06-76DE-4C99-B450-0052FB4D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B40B-3F1C-4695-9ADD-4F3ECD6B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58F6-E6B2-4260-9C79-AEACE54A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27A1-8F86-4F76-B7C6-B162230C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9F96-C47F-4B25-AB66-CF28106B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FF1-6388-43F8-B5EE-A541B6F0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CAF0-C677-4A52-8BD9-B8C1FD15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268-14C7-42A7-A083-515BD391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6B0-6502-4784-B1D2-0DE5DB7F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761-CC77-4F47-95F5-65FBC65A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31F-3EC4-471D-A3C5-EE66DC65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0CF8-186E-4BA6-9ADA-7364703DD7B1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A7B4-BA46-4D2F-8D73-B59957E4E012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Violencia%20y%20G&#233;nero.pp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urso%202004/textos/Observaciones%20finales%20del%20Comit&#233;%20CEDAW.doc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Convención sobre la Eliminación de Todas las Formas de Discriminación contra la Mujer (CEDAW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aciones Unidas, 197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atificación por Chile, 198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Importanc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l Protocolo Facultativo a la CEDAW </a:t>
            </a:r>
            <a:r>
              <a:rPr b="0" lang="es-MX" sz="3200" spc="-1" strike="noStrike" u="sng">
                <a:solidFill>
                  <a:srgbClr val="eaeaea"/>
                </a:solidFill>
                <a:uFillTx/>
                <a:latin typeface="Arial"/>
              </a:rPr>
              <a:t>no consagra nuevos derecho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, sino que sólo establece mecanismos de protección para equipar a la CEDAW a otros tratados de derechos humano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Las </a:t>
            </a: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comunicaciones individu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El procedimiento de </a:t>
            </a: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investigación frente a violaciones graves o sistemátic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Comunicaciones individua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nuncia la víctima o su representa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Comunicación debe ser por escrito y no anóni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l mismo hecho no puede haber sido presentado ante otra instancia u órgano internacion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ben agotarse previamente los recursos de la jurisdicción inter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bd189"/>
                </a:solidFill>
                <a:latin typeface="Arial"/>
              </a:rPr>
              <a:t>Investigación sobre violaciones masivas o sistemáticas (*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Información fidedigna de una situación que revele violaciones graves o sistemátic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Designación de expertos/as para investig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Facultad de visita “in situ” (con consentimiento del paí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municación de resultados, comentarios y recomend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Seguimiento a las recomend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603576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Arial Narrow"/>
              </a:rPr>
              <a:t>(*) Estados pueden no aceptar la competencia del Comité para estas investigaciones, al momento de ratificar el Protocol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Discriminación contra la muj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848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toda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distinción, exclusión o restricción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basada en el sexo que tenga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por objeto o resultado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menoscabar el reconocimiento, goce o ejercicio por la mujer, independientemente de su estado civil, sobre la base de la igualdad del hombre y de la mujer, de los derechos humanos y las libertades fundamentales en las esferas política, económica, social, cultural y civil o en cualquier otra esfera.” (Art. 1°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>
            <a:hlinkClick r:id="rId1"/>
          </p:cNvPr>
          <p:cNvSpPr/>
          <p:nvPr/>
        </p:nvSpPr>
        <p:spPr>
          <a:xfrm>
            <a:off x="8077320" y="6248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Elementos relevant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La discriminación es entendida como resultado, no sólo como propósit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Una acción, ley o política sin intención de discriminar puede ser discriminatoria si ese es su efec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se plantea una división entre la discriminación que se produce en el ámbito público y privado (“en cualquier otra esfera”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Obligaciones para los Estad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especto de todos los instrumentos internacionales de derechos humano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Obligación de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respet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Abstenerse de violar los derech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Obligación de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garantiz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Generar las condiciones necesarias para el goce y ejercicio de los derech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Obligación de garantiz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 u="sng">
                <a:solidFill>
                  <a:srgbClr val="fcab40"/>
                </a:solidFill>
                <a:uFillTx/>
                <a:latin typeface="Arial"/>
              </a:rPr>
              <a:t>Acciones afirmativa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“Medidas de carácter temporal encaminadas a acelerar la igualdad de facto entre el hombre y la mujer (…) estas medidas cesarán cuando se hayan alcanzado los objetivos de igualdad de oportunidad y trato” (Art. 4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Obligación de garantiz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 u="sng">
                <a:solidFill>
                  <a:srgbClr val="fcab40"/>
                </a:solidFill>
                <a:uFillTx/>
                <a:latin typeface="Arial"/>
              </a:rPr>
              <a:t>Modificación de patrones socioculturale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 de conducta de hombres y mujeres, con miras a alcanzar la eliminación de los prejuicios y las prácticas consuetudinarias y de cualquier otra índole que estén basados en la idea de la inferioridad o superioridad de cualquiera de los sexos o en funciones estereotipadas de hombres y mujeres (Art. 5 CEDAW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bd189"/>
                </a:solidFill>
                <a:latin typeface="Arial"/>
              </a:rPr>
              <a:t>Derechos consagrados en la CEDAW de relevancia en Chil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Igual capacidad  jurídica civil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Participar sin discriminación en la vida política y pública del paí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discriminación en la esfera del emple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recho a decidir libre y responsablemente el número e intervalo de los hijos/as y acceso a la información, educación y medios que les permitan ejercer estos derech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Mecanismos de protec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mité para la Eliminación de la Discriminación contra la Mujer (Comité CEDAW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Arial"/>
              </a:rPr>
              <a:t>23 expertas/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Arial"/>
              </a:rPr>
              <a:t>Sistema de informes periódicos de los Estados Par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Arial"/>
              </a:rPr>
              <a:t>Informes sombra </a:t>
            </a:r>
            <a:r>
              <a:rPr b="0" i="1" lang="es-MX" sz="2000" spc="-1" strike="noStrike">
                <a:solidFill>
                  <a:srgbClr val="eaeaea"/>
                </a:solidFill>
                <a:latin typeface="Arial"/>
              </a:rPr>
              <a:t>(shadow report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Arial"/>
              </a:rPr>
              <a:t>Observaciones del Comité al Estado </a:t>
            </a:r>
            <a:r>
              <a:rPr b="0" lang="es-MX" sz="2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Curso 2004\textos\Observaciones finales del Comité CEDAW.d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Protocolo Facultativo a la CED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aciones Unidas, 199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ratificado por Ch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1:25:50Z</dcterms:created>
  <dc:creator>Peter</dc:creator>
  <dc:description/>
  <dc:language>en-US</dc:language>
  <cp:lastModifiedBy> Patsili Toledo</cp:lastModifiedBy>
  <dcterms:modified xsi:type="dcterms:W3CDTF">2006-10-11T03:38:12Z</dcterms:modified>
  <cp:revision>13</cp:revision>
  <dc:subject/>
  <dc:title>Proyecto de Ley que elimina la sociedad conyugal</dc:title>
</cp:coreProperties>
</file>