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629-B160-4044-997D-CFAAFBB7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0FE-A9E6-4EEB-87FE-FA7CC307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438-4D89-4E09-B740-3AABC64A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A71-A71C-486F-BB78-4BC38270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97CB-F848-476F-8843-1D318442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9D36-CC06-4960-9A53-C57E84AC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1188-36C5-4F82-9A9E-4A2A25E1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EE11-7992-48A4-8F5E-DC50CBEE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DAF9-64E9-4FED-AF2A-76B01D1F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ED68-BD1C-4051-BDEF-7A1CD960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150A-BB72-4B99-A92B-07088B58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1C0-B0A1-4298-B420-7CF6AA6C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6830-CE3F-4DA1-8673-D5EFAFED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9BFC-91E3-4AD6-87D0-EA3B9161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AA9B-0706-46E8-B220-73321B67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6E60-B1AE-427F-A923-03A0C062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3E36-99AF-40AF-BB28-B9A4D8CF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2B4-B0DA-4D17-B846-26034AE8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9CA-5BD1-48BC-B7E9-1561613B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FB7-EB5D-40D8-92FF-C9D20C17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7FD-66FD-4476-86AA-6CC3249D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186-A4E4-417F-8F84-2C2D2BD6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271-0047-4E2F-96FA-C9E7F2B8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467-B1AA-4127-8518-FC590DE7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0C03-8E84-4277-8C36-C2E0082452EF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55FB-C850-435F-A182-F7BF315CE584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iolencia%20y%20G&#233;nero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urso%202004/textos/Observaciones%20finales%20del%20Comit&#233;%20CEDAW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Convención sobre la Eliminación de Todas las Formas de Discriminación contra la Mujer (CEDAW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aciones Unidas, 197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atificación por Chile, 198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Importa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Protocolo Facultativo a la CEDAW </a:t>
            </a:r>
            <a:r>
              <a:rPr b="0" lang="es-MX" sz="3200" spc="-1" strike="noStrike" u="sng">
                <a:solidFill>
                  <a:srgbClr val="eaeaea"/>
                </a:solidFill>
                <a:uFillTx/>
                <a:latin typeface="Arial"/>
              </a:rPr>
              <a:t>no consagra nuevos derecho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, sino que sólo establece mecanismos de protección para equipar a la CEDAW a otros tratados de derechos humano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Las </a:t>
            </a: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comunicaciones individu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El procedimiento de </a:t>
            </a: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investigación frente a violaciones graves o sistemáti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Comunicaciones individua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nuncia la víctima o su representa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omunicación debe ser por escrito y no anóni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mismo hecho no puede haber sido presentado ante otra instancia u órgano internac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ben agotarse previamente los recursos de la jurisdicción inter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bd189"/>
                </a:solidFill>
                <a:latin typeface="Arial"/>
              </a:rPr>
              <a:t>Investigación sobre violaciones masivas o sistemáticas (*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nformación fidedigna de una situación que revele violaciones graves o sistemáti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esignación de expertos/as para investig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acultad de visita “in situ” (con consentimiento del paí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municación de resultados, comentarios y recomend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Seguimiento a las recomend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03576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 Narrow"/>
              </a:rPr>
              <a:t>(*) Estados pueden no aceptar la competencia del Comité para estas investigaciones, al momento de ratificar el Protoco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iscriminación contra la muj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toda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distinción, exclusión o restricción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basada en el sexo que tenga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por objeto o resultado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menoscabar el reconocimiento, goce o ejercicio por la mujer, independientemente de su estado civil, sobre la base de la igualdad del hombre y de la mujer, de los derechos humanos y las libertades fundamentales en las esferas política, económica, social, cultural y civil o en cualquier otra esfera.” (Art. 1°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80773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Elementos releva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La discriminación es entendida como resultado, no sólo como propósit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Una acción, ley o política sin intención de discriminar puede ser discriminatoria si ese es su efec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se plantea una división entre la discriminación que se produce en el ámbito público y privado (“en cualquier otra esfera”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ones para los Esta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specto de todos los instrumentos internacionales de derechos humano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ligación de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respet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Abstenerse de violar los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ligación de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garantiz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Generar las condiciones necesarias para el goce y ejercicio de los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ón de garantiz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fcab40"/>
                </a:solidFill>
                <a:uFillTx/>
                <a:latin typeface="Arial"/>
              </a:rPr>
              <a:t>Acciones afirmativa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“Medidas de carácter temporal encaminadas a acelerar la igualdad de facto entre el hombre y la mujer (…) estas medidas cesarán cuando se hayan alcanzado los objetivos de igualdad de oportunidad y trato” (Art. 4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ón de garantiz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fcab40"/>
                </a:solidFill>
                <a:uFillTx/>
                <a:latin typeface="Arial"/>
              </a:rPr>
              <a:t>Modificación de patrones socioculturale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 de conducta de hombres y mujeres, con miras a alcanzar la eliminación de los prejuicios y las prácticas consuetudinarias y de cualquier otra índole que estén basados en la idea de la inferioridad o superioridad de cualquiera de los sexos o en funciones estereotipadas de hombres y mujeres (Art. 5 CEDAW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bd189"/>
                </a:solidFill>
                <a:latin typeface="Arial"/>
              </a:rPr>
              <a:t>Derechos consagrados en la CEDAW de relevancia en Chil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gual capacidad  jurídica civil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articipar sin discriminación en la vida política y pública del paí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discriminación en la esfera del emple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recho a decidir libre y responsablemente el número e intervalo de los hijos/as y acceso a la información, educación y medios que les permitan ejercer estos derech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ecanismos de protec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mité para la Eliminación de la Discriminación contra la Mujer (Comité CEDAW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"/>
              </a:rPr>
              <a:t>23 expertas/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"/>
              </a:rPr>
              <a:t>Sistema de informes periódicos de los Estados Par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Informes sombra </a:t>
            </a:r>
            <a:r>
              <a:rPr b="0" i="1" lang="es-MX" sz="2000" spc="-1" strike="noStrike">
                <a:solidFill>
                  <a:srgbClr val="eaeaea"/>
                </a:solidFill>
                <a:latin typeface="Arial"/>
              </a:rPr>
              <a:t>(shadow report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Observaciones del Comité al Estado </a:t>
            </a:r>
            <a:r>
              <a:rPr b="0" lang="es-MX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Curso 2004\textos\Observaciones finales del Comité CEDAW.d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Protocolo Facultativo a la CED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aciones Unidas, 199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ratificado por Ch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1:25:50Z</dcterms:created>
  <dc:creator>Peter</dc:creator>
  <dc:description/>
  <dc:language>en-US</dc:language>
  <cp:lastModifiedBy> Patsili Toledo</cp:lastModifiedBy>
  <dcterms:modified xsi:type="dcterms:W3CDTF">2006-10-11T03:38:12Z</dcterms:modified>
  <cp:revision>13</cp:revision>
  <dc:subject/>
  <dc:title>Proyecto de Ley que elimina la sociedad conyugal</dc:title>
</cp:coreProperties>
</file>