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C5AB-EF6B-4CC7-9A57-A9F556AC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F8C6-50E6-4C47-97ED-D0285E3F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F76E-BE58-4B02-AC88-745123A1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AE39-E7BB-453D-9C82-DA259005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A727-1536-4A3E-80BC-7531CD0F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9F87-7CA5-46DF-A2CE-173A8EA2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75E0-E05D-475C-BBBC-5F6B6A08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214B-02AD-421C-94CB-ACCCF3EA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1B34-C3EB-47D2-B5CA-6C4A9CAA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C8D1-52BD-4FDC-8FFA-62C32DD7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9430-E815-4FC4-9677-3169E0F8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13A9-174F-48F7-8DCD-DFD49459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DFBB-01B6-4DB6-A8A0-5D1095E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D5FA-75F1-468B-B131-B8BA41A2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18CC-363F-4B2F-916F-D9790CDA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86B8-CADC-4AC2-8DA7-4217227F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B0EA-25DF-46A5-A049-2908B019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F04C-CB9E-491E-A7C0-16F7BC9B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D1B7-258C-4B68-9421-E6CBF2FB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A27D-EFDD-48A8-97BC-BF009288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39E0-A24D-45FC-B2A1-74D30F63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4FB2-7048-46EF-9FF4-566ED689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7731-BADC-4C0B-B19A-BCAD2F49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AFF8-FC9B-4307-851D-87609AEB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1169-A542-495C-A07D-BDD777421E0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6DDD-2AED-4E9D-BDB8-C6EBE84FAAE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DERECHO PROCESAL II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JUICIO ORDINARIO CIVIL Y LA PRUEB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A14BB-6B93-43B5-B012-06ED29EF15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04640"/>
            <a:ext cx="8893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JUICIO ORDINARIO CIVIL Y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I 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REGLAS COMUNES A TODO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Actua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Not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Resolu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os principios formativos d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 ASPECTOS GENERALES DE LA PRUEBA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epto y evolución histórica de la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grados de conocimiento y la prueba: la ignorancia, la credibilidad, la probabilidad, la certeza y la convi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Certeza: Naturaleza y e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erteza y convicción. Control de la convicción: motivación de la sen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incipios formativos del procedimiento en relación con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prueba y las resolu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I JUICIO ORDINARIO CIVIL DE MAYOR CUANT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eriodo de discu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eriodo de concil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eriodo de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44360" y="5084640"/>
            <a:ext cx="8893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V LOS PRINCIPIOS FORMATIVOS DEL PROCEDIMIENTO Y SU APLICACIÓN EN MATERIA PROBA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 OBJETO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Noción de hechos para efectos prob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ueba de los hechos y del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hechos notorios y ev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l hecho neg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9881-E009-4644-8605-577D94B1BB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74560"/>
            <a:ext cx="889308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VI LA CARGA DE LA PRUEBA Y SU DISTRIB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Sujetos procesales que soportan la carga de la prueba en el Derecho Proces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hechos presum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convicción en relación con la carga de la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VII LOS MEDIOS DE PRUEBA EN PARTICULAR, EN MAT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epto y clasificación de los medios de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Instr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os Testig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 Confe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 Peri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 Inspección Personal del Tribu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s Presun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Otros medios de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VII LOS SISTEMAS DE ADMISIBILIDAD Y VALORACIO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X LAS LIMITACIONES A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X   LA SEN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itación para oír sen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s medidas para mejor resol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8423-0F7B-4B59-9026-079503C920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333360"/>
            <a:ext cx="8893080" cy="61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: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: lunes 31 de julio – 10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: 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01 de sept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25 de septiembre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6 de noviembre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11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, verdadero y falso, preguntas abiertas y casos. Cada tipo de pregunta tiene un puntaje determinado a indicar en cada contro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. Las preguntas abiertas y los casos no descuentan puntaj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BAEE-A8B0-48CC-BC7B-024865F1E0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nws</cp:lastModifiedBy>
  <dcterms:modified xsi:type="dcterms:W3CDTF">2006-07-31T12:56:07Z</dcterms:modified>
  <cp:revision>747</cp:revision>
  <dc:subject/>
  <dc:title>PowerPoint Presentation</dc:title>
</cp:coreProperties>
</file>