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A87-E2A5-45A9-9BCB-ABA8E8E7C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9A6-9AF7-479C-9B41-8C804942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9A8-833D-46AE-AD35-3CD4C20B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05C-54FD-41AA-B296-EF43AFB1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A23C-ACD2-43EE-AF54-5B9A83B2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9C33-F3E3-4C1B-A56C-807E1387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79B2-77EA-4239-8728-97133494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2214-3CC5-474D-8C52-362648A7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6245-F518-4329-959F-EEF8796C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3CAB-180F-4BE2-8630-D4ED4DFF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522E-4708-4F47-B906-E6E1389A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FB7-7205-4B22-82B8-1DC9E08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C347-E827-4EE6-B34D-FF37C219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D437-139C-4735-8A67-40898560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D64D-55A6-486E-A824-0EA7BF4F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A1CD-3C69-4A91-A4F8-701DA55E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53F7-F38F-4960-B342-7820F0C0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9F9-D65B-492B-A46C-1BA41DB9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C77-1A68-4ACA-BE1D-E332EDBC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9CA-BB7B-4E7E-A25D-7E1FC074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4A9-27CA-47C9-BE54-D54958D4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664-868D-41CD-8E37-C3340C52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C1B-9952-47CE-AA19-0A915390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E22-940D-44B4-88C8-D203CE50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4350-2155-40D3-84C8-D8A92237A8F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D0AA-9617-4813-B4AF-B5B9F3EA7D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1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al menos, dos semestres de duración, impartida por alguna de las instituciones antes señal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02T19:38:07Z</dcterms:modified>
  <cp:revision>68</cp:revision>
  <dc:subject/>
  <dc:title>Diapositiva 1</dc:title>
</cp:coreProperties>
</file>