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A97-1EAD-4C1A-985B-1082D7FF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D54-BCB9-4351-8218-E0DD7FC8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A64-49CF-4901-B181-FB70869C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0C6-BFF0-4346-82D3-9F51A5C1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018F-86D9-47DC-BB6E-16F73DA7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D0CB-0AC2-440E-A590-F1AE2E04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9A5B-D2F9-49B6-B640-51E0D58F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254A-F7DB-4782-86D7-6A709B3E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6D1B-C0A4-467A-9C49-807B3CF6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BEB6-2D71-4F13-8A72-679461F9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7823-200D-4E3F-8D8F-38CE6B0B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80D-00A7-4BBC-BA0E-4C726539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B4FD-DB0D-4ADE-BDE1-599C1AD1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0A91-D230-4BC2-89AF-6F99728F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5ADD-E2CF-4058-85FB-652EF761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DCB0-F3BB-4791-A145-0A1C5A9E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9B2A-F72D-45AD-B288-C04BBF0B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C70-8899-4A50-806D-FC3E9CAB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1BC-A861-43DF-968B-AA8A6FD4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B217-16CD-43C5-98B8-5E84BCBB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6A3-57F0-4213-8D6C-F5608AEF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5ED-7D16-479F-808E-EA5664D0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DFB-EC20-486E-9C33-D3CCFA7B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1B8-696B-47F1-9EDF-7F3BA01D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7F88-84F6-4F34-A6DD-CA6B78C5A1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1784-C4CB-40BC-9B95-15378D76F7F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1981080"/>
            <a:ext cx="281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2: Principios del procedimi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nflictos que saldrán a colación durante estos procesos hacen aconsejables evitar la intromisión de terceros, por lo que el juez pued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hibir la difusión de datos o imágenes  referidos al proceso o a las par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er, por resolución fundada, que ciertas actuaciones se realicen reservad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terés superior del niño, niña y adolescente, y derecho a ser oído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39320" y="1988640"/>
            <a:ext cx="7543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objetivo de la ley es garantizar el pleno goce y el efectivo goce de los derechos y garantías de los niños, niñas y adolescentes. (Art. 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onsideración principal del juez de familia debe ser el interés superior del niño, niña o adolescente y el derecho de estos a ser oíd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terés superior del niños, niña y adolescente 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y derecho a ser oído 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ón de este principi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ción de juez de designar un curador ad litem al niño, niña o adolescente, cuando se estime que sus intereses son independientes o contradictorios  con los de su representante legal (Art. 1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ción de los encargados de atención de público de otorgarles preferencia. (Art. 2 N° 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ecesidad de considerar dicho interés como requisito para decretar medidas cautelares innovativas (Art. 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ecesidad de tener particularmente en vista los intereses de los niños, niñas y adolescentes  involucrados en un conflicto para aprobar las convenciones probatorias propuestas por las partes (Art. 3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incipio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ralidad. Art. 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sformalización. Art. 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ntración. Art. 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mediación. Art. 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uación de oficio. Art. 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laboración. Art. 1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Protección de la intimidad. Art. 1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és superior del niño, niña o adolescente. Art. 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Or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odas las actuaciones procesales serán orales, salvo las excepciones expresamente contenidas en l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Art. 1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cidentes promovidos fuera de la audiencia (Art. 2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urso de apelación (Art. 67 N°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urso de casación (Art. 67 N° 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orme pericial, y sin perjuicio de la obligación del perito de concurrir a declarar en forma oral (Art. 4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sformaliz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proceso debe evitar toda ritualidad innecesaria, para flexibilizar el procedimiento y acercar la justicia a las person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sformalización de la demanda. Arts. 56 y 5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ción del juez en la audiencia preparatoria de responder las dudas que surjan e informar a niños, niñas y adolescentes en lenguaje comprensible. Art. 7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18900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ncent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procedimiento se desarrollará en audiencias continuas y podrá prolongarse en sesiones sucesivas hasta su conclusió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Art. 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spensión de la audiencia hasta por dos veces en caso de absoluta necesidad (Art. 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acultad de las partes, de común acuerdo, de suspender la audiencia que se hubiere citado hasta por 60 días (Arts. 11 y 20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medi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Las audiencias y diligencias de prueba deben realizarse siempre con la presencia del juez, quedando prohibida, bajo sanción de nulidad, la delegación de funcion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(Art. 1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juez debe formar su convicción sobre la base de las alegaciones y pruebas que personalmente haya recibi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Actuación de of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juez debe adoptar, de oficio, y en cualquier estado del procedimiento, todas las medidas necesarias para llevar a término el proceso con la mayor celeridad. (Art. 1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testad cautelar (Art. 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rdenar pruebas no ofrecidos por las partes (Art. 2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clusión en el llamado a conciliación en juicio de separación, nulidad o divorcio, de otras materias relativas a relaciones de familia, aunque no se le hayan solicitado (Art. 90 L.M.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emás,  iniciar de oficio el procedimiento de protección de los derechos de niños, niñas y adolescentes y adoptar alguna de las medidas cautelares que contempla. (Arts. 70 y 7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labo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urante el procedimiento y en la resolución del conflicto, deben buscarse alternativas destinadas a mitigar la confrontación entre las partes, privilegiando las soluciones acordadas por ellas. (Art. 14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strucción al actor sobre la alternativa de mediación (Art. 10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moción de la mediación o conciliación en la audiencia preparatoria (Art. 61 Nos 4 y 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unción del Consejo Técnico de evaluar la pertinencia de derivar a mediación o  aconsejar conciliación entre las partes, y sugerir los términos en que esta última pudiere llevarse a cab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tección a la intim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obstante el carácter público del procedimiento,  consagrado en el artículo 9 del COT, el juez debe velar por el respeto a la intimidad de las partes, especialmente de los niños, niñas y adolesc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Art. 1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10T20:26:19Z</dcterms:modified>
  <cp:revision>71</cp:revision>
  <dc:subject/>
  <dc:title>Diapositiva 1</dc:title>
</cp:coreProperties>
</file>