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1F9-A3D0-4E90-A4DF-2B879618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657-5260-42E7-A6F5-6F93962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37C-ED09-4EDF-8554-23A1AEAE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391-2383-41B1-BDC2-5EBC4EF1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876C-30AA-420F-A84B-B3AE63E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6E3-D2E0-4DFE-9364-BBE9B82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E088-EFD5-4D82-9772-CF5B11F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A01B-386C-4337-9C1C-A64C84BD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6A9C-2E41-4CBC-B7E5-DE1101F6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4646-CF94-4C7D-8806-CB3F577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F0DE-AABB-4E3B-A986-E5A30A25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C5A-75DC-4599-B02F-799F9AA6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FAF7-D7BD-4786-A4DE-C928B59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D6AD-5CE3-4343-986D-64110C3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5FD-FF79-44A8-9C66-4D4BFE8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245-D427-4C31-BC26-7C740000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078B-4652-47C8-9C40-BEFFC47E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6A3-AA75-40F9-959B-B36B93D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B34-E66E-4B39-ADB8-3442C78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60F-D00E-4749-BD1D-A831410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2DE-B890-4276-B415-EB8E691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789-21A9-4E2E-8CF3-2777798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E9F-D83F-4A34-BB57-2A79B3A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688-7EFD-4954-BAC7-A8773CE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66E6-ADF8-4385-AA82-D7BA007318D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D7C-05E6-4F4E-AEBD-B5C5BB4FBD4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32:57Z</dcterms:modified>
  <cp:revision>69</cp:revision>
  <dc:subject/>
  <dc:title>Diapositiva 1</dc:title>
</cp:coreProperties>
</file>